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26.jpeg" ContentType="image/jpeg"/>
  <Override PartName="/ppt/media/image5.jpeg" ContentType="image/jpeg"/>
  <Override PartName="/ppt/media/image32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30.jpeg" ContentType="image/jpeg"/>
  <Override PartName="/ppt/media/image33.png" ContentType="image/png"/>
  <Override PartName="/ppt/media/image14.jpeg" ContentType="image/jpeg"/>
  <Override PartName="/ppt/media/image34.gif" ContentType="image/gif"/>
  <Override PartName="/ppt/media/image8.jpeg" ContentType="image/jpeg"/>
  <Override PartName="/ppt/media/James%20Last%20-%20Polka%20Party...Flieger-Marsch.wav" ContentType="audio/x-wav"/>
  <Override PartName="/ppt/media/image3.gif" ContentType="image/gif"/>
  <Override PartName="/ppt/media/image12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media/image11.jpeg" ContentType="image/jpeg"/>
  <Override PartName="/ppt/media/image1.gif" ContentType="image/gif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3218-DDCD-4D33-923B-0677700C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D1D-79BB-4A93-9D5D-DD763A20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094C-3B52-4E9C-B5CA-CF6FDD02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903-E1DD-4D82-807C-FB1349F2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F0E9-948E-42F7-9219-2A7C8E57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1246-8A3C-4275-9F06-4D9B158D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DDEC-C120-4123-8DFF-D564D063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8A33-D8B0-401B-AA2F-1B8BDF01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FC45-E3E9-4411-A782-ACEE1F14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EAED-EB98-414B-A6A3-EBBC4A3A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3C99-84C6-4D97-93B9-53B12F5D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E388-252B-47B9-A549-D3D99438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1170-1F9D-4B02-A5BA-AF218950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D892-CCB0-4684-B30E-EDD41005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CA90-DE52-411A-A2E9-92ECE62C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6120-7E32-4797-9D4F-8B627FDC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8170-43A3-4E11-8476-9A2DE817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8626-FD62-45A4-8ACC-D35E4B8A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916-DDE4-46A2-9F70-B00F577C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DD38-45FA-4E78-BDDF-3A78EC55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07A4-9C3C-428C-B4F9-58BCB32E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9F2-D9E4-430B-A957-DFE6D445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B3F0-7728-445F-B8EC-8435A4B2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5551-7475-4985-B57D-35A19FDC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489F-D0F3-4F70-AA9C-F78C8E975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9A0F-8167-4BBE-9D74-3A1DF8D9C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James%20Last%20-%20Polka%20Party...Flieger-Marsc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5.gif"/><Relationship Id="rId7" Type="http://schemas.openxmlformats.org/officeDocument/2006/relationships/image" Target="../media/image35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258920" y="3357720"/>
            <a:ext cx="3672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1212"/>
                </a:solidFill>
                <a:latin typeface="Arial Black"/>
              </a:rPr>
              <a:t>EFECT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21212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5229360"/>
            <a:ext cx="810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b21212"/>
                </a:solidFill>
                <a:latin typeface="Arial"/>
              </a:rPr>
              <a:t>FOTOGRAFIC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429680" y="494172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084720" y="549360"/>
            <a:ext cx="2667240" cy="24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mph" presetID="21" repeatCount="2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" dur="4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" dur="4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" dur="4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9" dur="4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9280" y="189000"/>
            <a:ext cx="3961080" cy="33462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3546360"/>
            <a:ext cx="3960720" cy="3311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260280"/>
            <a:ext cx="3529080" cy="2664000"/>
          </a:xfrm>
          <a:prstGeom prst="rect">
            <a:avLst/>
          </a:prstGeom>
          <a:blipFill rotWithShape="0">
            <a:blip r:embed="rId4"/>
            <a:srcRect/>
            <a:stretch/>
          </a:blipFill>
          <a:ln w="44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4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0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333360"/>
            <a:ext cx="8280360" cy="6191280"/>
          </a:xfrm>
          <a:custGeom>
            <a:avLst/>
            <a:gdLst>
              <a:gd name="textAreaLeft" fmla="*/ 729360 w 8280360"/>
              <a:gd name="textAreaRight" fmla="*/ 7551000 w 8280360"/>
              <a:gd name="textAreaTop" fmla="*/ 729360 h 6191280"/>
              <a:gd name="textAreaBottom" fmla="*/ 5461920 h 6191280"/>
            </a:gdLst>
            <a:ahLst/>
            <a:rect l="textAreaLeft" t="textAreaTop" r="textAreaRight" b="textAreaBottom"/>
            <a:pathLst>
              <a:path w="288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88" y="21600"/>
                </a:lnTo>
                <a:arcTo wR="3600" hR="3600" stAng="10800000" swAng="5400000"/>
                <a:lnTo>
                  <a:pt x="28888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333360"/>
            <a:ext cx="8280360" cy="6191280"/>
          </a:xfrm>
          <a:custGeom>
            <a:avLst/>
            <a:gdLst>
              <a:gd name="textAreaLeft" fmla="*/ 729360 w 8280360"/>
              <a:gd name="textAreaRight" fmla="*/ 7551000 w 8280360"/>
              <a:gd name="textAreaTop" fmla="*/ 729360 h 6191280"/>
              <a:gd name="textAreaBottom" fmla="*/ 5461920 h 6191280"/>
            </a:gdLst>
            <a:ahLst/>
            <a:rect l="textAreaLeft" t="textAreaTop" r="textAreaRight" b="textAreaBottom"/>
            <a:pathLst>
              <a:path w="288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88" y="21600"/>
                </a:lnTo>
                <a:arcTo wR="3600" hR="3600" stAng="10800000" swAng="5400000"/>
                <a:lnTo>
                  <a:pt x="28888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9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16" presetSubtype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7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0"/>
            <a:ext cx="7993080" cy="6858000"/>
          </a:xfrm>
          <a:prstGeom prst="irregularSeal1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0"/>
            <a:ext cx="7993080" cy="6858000"/>
          </a:xfrm>
          <a:prstGeom prst="irregularSeal1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354800" y="4941720"/>
            <a:ext cx="1789200" cy="979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9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5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69080" cy="5183280"/>
          </a:xfrm>
          <a:prstGeom prst="rect">
            <a:avLst/>
          </a:prstGeom>
          <a:blipFill rotWithShape="0">
            <a:blip r:embed="rId1"/>
            <a:srcRect/>
            <a:stretch/>
          </a:blip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74920" y="1674720"/>
            <a:ext cx="6769080" cy="5183280"/>
          </a:xfrm>
          <a:prstGeom prst="rect">
            <a:avLst/>
          </a:prstGeom>
          <a:blipFill rotWithShape="0">
            <a:blip r:embed="rId2"/>
            <a:srcRect/>
            <a:stretch/>
          </a:blip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049640"/>
            <a:ext cx="3527280" cy="2808360"/>
          </a:xfrm>
          <a:prstGeom prst="rect">
            <a:avLst/>
          </a:prstGeom>
          <a:blipFill rotWithShape="0">
            <a:blip r:embed="rId3"/>
            <a:srcRect/>
            <a:stretch/>
          </a:blip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16720" y="0"/>
            <a:ext cx="3527280" cy="2806560"/>
          </a:xfrm>
          <a:prstGeom prst="rect">
            <a:avLst/>
          </a:prstGeom>
          <a:blipFill rotWithShape="0">
            <a:blip r:embed="rId4"/>
            <a:srcRect/>
            <a:stretch/>
          </a:blip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6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6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404640"/>
            <a:ext cx="8497800" cy="6048720"/>
          </a:xfrm>
          <a:prstGeom prst="rect">
            <a:avLst/>
          </a:prstGeom>
          <a:blipFill rotWithShape="0">
            <a:blip r:embed="rId1"/>
            <a:srcRect/>
            <a:stretch/>
          </a:blipFill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404640"/>
            <a:ext cx="8497800" cy="604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6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6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260280"/>
            <a:ext cx="3672000" cy="23050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59280" y="260280"/>
            <a:ext cx="3672000" cy="23050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708280"/>
            <a:ext cx="8280360" cy="4149720"/>
          </a:xfrm>
          <a:prstGeom prst="irregularSeal2">
            <a:avLst/>
          </a:prstGeom>
          <a:blipFill rotWithShape="0">
            <a:blip r:embed="rId3"/>
            <a:srcRect/>
            <a:stretch/>
          </a:blip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189000"/>
            <a:ext cx="5689800" cy="43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72360" y="260280"/>
            <a:ext cx="2374920" cy="201636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2421000"/>
            <a:ext cx="2374920" cy="201600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6308640"/>
            <a:ext cx="5472000" cy="216000"/>
          </a:xfrm>
          <a:prstGeom prst="flowChartCollat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661000"/>
            <a:ext cx="5472000" cy="216000"/>
          </a:xfrm>
          <a:prstGeom prst="flowChartCollat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4941720"/>
            <a:ext cx="5472000" cy="216000"/>
          </a:xfrm>
          <a:prstGeom prst="flowChartCollat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4653000"/>
            <a:ext cx="2374920" cy="201600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3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9640" y="333360"/>
            <a:ext cx="8209080" cy="6264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333360"/>
            <a:ext cx="8209080" cy="6264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333360"/>
            <a:ext cx="8209080" cy="6264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333360"/>
            <a:ext cx="8785440" cy="619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333360"/>
            <a:ext cx="8785440" cy="6191280"/>
          </a:xfrm>
          <a:prstGeom prst="rect">
            <a:avLst/>
          </a:prstGeom>
          <a:blipFill rotWithShape="0">
            <a:blip r:embed="rId2"/>
            <a:srcRect/>
            <a:stretch/>
          </a:blipFill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3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260280"/>
            <a:ext cx="8424720" cy="640872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404640"/>
            <a:ext cx="3672000" cy="288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43280" y="3573360"/>
            <a:ext cx="3672000" cy="2880000"/>
          </a:xfrm>
          <a:prstGeom prst="rect">
            <a:avLst/>
          </a:prstGeom>
          <a:blipFill rotWithShape="0">
            <a:blip r:embed="rId3"/>
            <a:srcRect/>
            <a:stretch/>
          </a:blipFill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476280"/>
            <a:ext cx="3672000" cy="2879640"/>
          </a:xfrm>
          <a:prstGeom prst="rect">
            <a:avLst/>
          </a:prstGeom>
          <a:blipFill rotWithShape="0">
            <a:blip r:embed="rId4"/>
            <a:srcRect/>
            <a:stretch/>
          </a:blipFill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189000"/>
            <a:ext cx="8351640" cy="3382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3475080"/>
            <a:ext cx="8351640" cy="3382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-2557440" y="-2692440"/>
            <a:ext cx="15158880" cy="1066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7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7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7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13" dur="14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15:17:43Z</dcterms:created>
  <dc:creator>User</dc:creator>
  <dc:description/>
  <dc:language>en-US</dc:language>
  <cp:lastModifiedBy>Smets</cp:lastModifiedBy>
  <dcterms:modified xsi:type="dcterms:W3CDTF">2009-10-18T08:15:42Z</dcterms:modified>
  <cp:revision>22</cp:revision>
  <dc:subject/>
  <dc:title>Diapositiva 1</dc:title>
</cp:coreProperties>
</file>