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8.jpeg" ContentType="image/jpeg"/>
  <Override PartName="/ppt/media/James%20Last%20-%20Polka%20Party...Flieger-Marsch.wav" ContentType="audio/x-wav"/>
  <Override PartName="/ppt/media/image3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8E8-A265-4EE2-91C8-3CA255D0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78E-3464-4DD9-BEFE-83E2EA51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1DA-BA4D-483C-8B6F-A1DF4FB2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792-6966-4A0B-BCD2-42ABBE0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F55E-3303-4788-845F-DF476BED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43A9-BC36-4A0D-96B0-FAAC190D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9115-B3A8-4C4B-B4CF-78A6AA86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9EC-1B45-4E2D-B21F-93473ED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8680-1C20-40D4-9A2C-C789309B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8338-4122-47B2-99EB-F2DC6E6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96B-EEC1-4282-A6D3-09F2192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0CB-7963-4DB3-96D3-57500C9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4368-C1A3-4EF4-8C15-366300C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3204-3FCE-4CF9-88C6-F4EA31B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E40-796A-4756-A7E2-C9B99264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6B1B-558A-4E36-90FF-5E6205E0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2B46-C440-424E-93FE-D213110E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607-51EB-434C-BA9A-16CE692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C13-E532-4A98-A8A7-D9E2947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59B-AE90-422C-8E89-94171175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3E5-211D-487B-AD28-01C0F477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E0D-A242-4601-AC40-EE156BD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5BF-1EFC-487C-976A-9BD1E7F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561-6B34-4FCA-9FFD-90C43969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DFE8-0277-4BFD-B6EB-078DCDB5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25EA-BE6A-4669-B0D0-8776151B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James%20Last%20-%20Polka%20Party...Flieger-Marsc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58920" y="3357720"/>
            <a:ext cx="36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1212"/>
                </a:solidFill>
                <a:latin typeface="Arial Black"/>
              </a:rPr>
              <a:t>EFEC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1212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229360"/>
            <a:ext cx="81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b21212"/>
                </a:solidFill>
                <a:latin typeface="Arial"/>
              </a:rPr>
              <a:t>FOTOGRAFIC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29680" y="49417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66724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3961080" cy="3346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546360"/>
            <a:ext cx="3960720" cy="331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60280"/>
            <a:ext cx="3529080" cy="2664000"/>
          </a:xfrm>
          <a:prstGeom prst="rect">
            <a:avLst/>
          </a:prstGeom>
          <a:blipFill rotWithShape="0">
            <a:blip r:embed="rId4"/>
            <a:srcRect/>
            <a:stretch/>
          </a:blipFill>
          <a:ln w="44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6191280"/>
          </a:xfrm>
          <a:custGeom>
            <a:avLst/>
            <a:gdLst>
              <a:gd name="textAreaLeft" fmla="*/ 729360 w 8280360"/>
              <a:gd name="textAreaRight" fmla="*/ 7551000 w 8280360"/>
              <a:gd name="textAreaTop" fmla="*/ 729360 h 6191280"/>
              <a:gd name="textAreaBottom" fmla="*/ 5461920 h 6191280"/>
            </a:gdLst>
            <a:ahLst/>
            <a:rect l="textAreaLeft" t="textAreaTop" r="textAreaRight" b="textAreaBottom"/>
            <a:pathLst>
              <a:path w="288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88" y="21600"/>
                </a:lnTo>
                <a:arcTo wR="3600" hR="3600" stAng="10800000" swAng="5400000"/>
                <a:lnTo>
                  <a:pt x="2888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33360"/>
            <a:ext cx="8280360" cy="6191280"/>
          </a:xfrm>
          <a:custGeom>
            <a:avLst/>
            <a:gdLst>
              <a:gd name="textAreaLeft" fmla="*/ 729360 w 8280360"/>
              <a:gd name="textAreaRight" fmla="*/ 7551000 w 8280360"/>
              <a:gd name="textAreaTop" fmla="*/ 729360 h 6191280"/>
              <a:gd name="textAreaBottom" fmla="*/ 5461920 h 6191280"/>
            </a:gdLst>
            <a:ahLst/>
            <a:rect l="textAreaLeft" t="textAreaTop" r="textAreaRight" b="textAreaBottom"/>
            <a:pathLst>
              <a:path w="288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88" y="21600"/>
                </a:lnTo>
                <a:arcTo wR="3600" hR="3600" stAng="10800000" swAng="5400000"/>
                <a:lnTo>
                  <a:pt x="2888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7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7993080" cy="6858000"/>
          </a:xfrm>
          <a:prstGeom prst="irregularSeal1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993080" cy="6858000"/>
          </a:xfrm>
          <a:prstGeom prst="irregularSeal1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354800" y="4941720"/>
            <a:ext cx="1789200" cy="979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9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9080" cy="518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74920" y="1674720"/>
            <a:ext cx="6769080" cy="518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49640"/>
            <a:ext cx="3527280" cy="2808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16720" y="0"/>
            <a:ext cx="3527280" cy="2806560"/>
          </a:xfrm>
          <a:prstGeom prst="rect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404640"/>
            <a:ext cx="8497800" cy="604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04640"/>
            <a:ext cx="849780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260280"/>
            <a:ext cx="367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260280"/>
            <a:ext cx="3672000" cy="230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708280"/>
            <a:ext cx="8280360" cy="4149720"/>
          </a:xfrm>
          <a:prstGeom prst="irregularSeal2">
            <a:avLst/>
          </a:prstGeom>
          <a:blipFill rotWithShape="0">
            <a:blip r:embed="rId3"/>
            <a:srcRect/>
            <a:stretch/>
          </a:blip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89000"/>
            <a:ext cx="5689800" cy="43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260280"/>
            <a:ext cx="2374920" cy="20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2421000"/>
            <a:ext cx="2374920" cy="201600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6308640"/>
            <a:ext cx="5472000" cy="21600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1000"/>
            <a:ext cx="5472000" cy="21600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941720"/>
            <a:ext cx="5472000" cy="21600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653000"/>
            <a:ext cx="2374920" cy="201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333360"/>
            <a:ext cx="8209080" cy="626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3360"/>
            <a:ext cx="8209080" cy="626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33360"/>
            <a:ext cx="820908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404640"/>
            <a:ext cx="3672000" cy="288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3573360"/>
            <a:ext cx="3672000" cy="288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476280"/>
            <a:ext cx="3672000" cy="287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89000"/>
            <a:ext cx="8351640" cy="338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75080"/>
            <a:ext cx="8351640" cy="338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2557440" y="-2692440"/>
            <a:ext cx="15158880" cy="1066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13" dur="14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5:17:43Z</dcterms:created>
  <dc:creator>User</dc:creator>
  <dc:description/>
  <dc:language>en-US</dc:language>
  <cp:lastModifiedBy>Smets</cp:lastModifiedBy>
  <dcterms:modified xsi:type="dcterms:W3CDTF">2009-10-18T08:15:42Z</dcterms:modified>
  <cp:revision>22</cp:revision>
  <dc:subject/>
  <dc:title>Diapositiva 1</dc:title>
</cp:coreProperties>
</file>