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Track19.wav" ContentType="audio/x-wav"/>
  <Override PartName="/ppt/media/image17.jpeg" ContentType="image/jpeg"/>
  <Override PartName="/ppt/media/image23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B0F2-678C-41E5-B18C-E70666E9F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2B61-04E0-44AF-9C52-A7C77A5B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D4FA-2C5C-4D21-90A9-F6F1FAAE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0FAF-7C3F-4808-BFDC-AB2A1D3C6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50E0-32AE-44D2-8556-B645194C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1436-1AD3-4298-980A-BCC1D7C9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DBB0-BCE1-4489-9FC1-E16C863C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D7DC-AAC1-4794-A537-CD7F29ED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1F7D-B2FC-4770-BE5F-94DA35DE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1F1E-B9CA-40BF-9976-542EBBD0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F713-2EDB-49ED-8BFE-C2869D9F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848E-A90A-4964-A46B-83ECA800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3C16-93A5-4ECB-BB2A-867FA427036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Track19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25.gif"/><Relationship Id="rId6" Type="http://schemas.openxmlformats.org/officeDocument/2006/relationships/image" Target="../media/image25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140360" y="3429000"/>
            <a:ext cx="4608360" cy="3071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3924360" y="3213000"/>
            <a:ext cx="4968720" cy="3456000"/>
          </a:xfrm>
          <a:prstGeom prst="rect">
            <a:avLst/>
          </a:prstGeom>
          <a:noFill/>
          <a:ln cap="rnd" w="57240">
            <a:solidFill>
              <a:srgbClr val="9900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1700280"/>
            <a:ext cx="424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5400" spc="-1" strike="noStrike">
                <a:solidFill>
                  <a:srgbClr val="990033"/>
                </a:solidFill>
                <a:latin typeface="Book Antiqua"/>
              </a:rPr>
              <a:t>Beste vrie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308640"/>
            <a:ext cx="38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3300"/>
                </a:solidFill>
                <a:latin typeface="Book Antiqua"/>
              </a:rPr>
              <a:t>Muziek: The Flower Of Schot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19280" y="1630440"/>
            <a:ext cx="41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5400" spc="-1" strike="noStrike">
                <a:solidFill>
                  <a:srgbClr val="990033"/>
                </a:solidFill>
                <a:latin typeface="Book Antiqua"/>
              </a:rPr>
              <a:t>(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31320" y="1700280"/>
            <a:ext cx="84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5400" spc="-1" strike="noStrike">
                <a:solidFill>
                  <a:srgbClr val="8c002f"/>
                </a:solidFill>
                <a:latin typeface="Book Antiqua"/>
              </a:rPr>
              <a:t>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55640" y="1628640"/>
            <a:ext cx="41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5400" spc="-1" strike="noStrike">
                <a:solidFill>
                  <a:srgbClr val="8c002f"/>
                </a:solidFill>
                <a:latin typeface="Book Antiqua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4032360" cy="604836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250920" y="189000"/>
            <a:ext cx="8208720" cy="0"/>
          </a:xfrm>
          <a:prstGeom prst="line">
            <a:avLst/>
          </a:prstGeom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189000"/>
            <a:ext cx="0" cy="4895640"/>
          </a:xfrm>
          <a:prstGeom prst="line">
            <a:avLst/>
          </a:prstGeom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692280"/>
            <a:ext cx="3600360" cy="5616360"/>
          </a:xfrm>
          <a:prstGeom prst="rect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16360" y="3141720"/>
            <a:ext cx="40323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70"/>
                </a:solidFill>
                <a:latin typeface="Book Antiqua"/>
              </a:rPr>
              <a:t>Met vertrouwen en gelove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70"/>
                </a:solidFill>
                <a:latin typeface="Book Antiqua"/>
              </a:rPr>
              <a:t>kom je elke zorg bove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0920" y="26028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99"/>
                </a:solidFill>
                <a:latin typeface="Book Antiqua"/>
              </a:rPr>
              <a:t>Als je door verdriet wordt neergeslagen, het waarom….aan niemand kunt vrag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3960720" cy="3708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716360" y="2708280"/>
            <a:ext cx="3961080" cy="3708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79280" y="1341360"/>
            <a:ext cx="825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333399"/>
                </a:solidFill>
                <a:latin typeface="Book Antiqua"/>
              </a:rPr>
              <a:t>Dan is het goed dat je zoveel vrienden ziet, ook al vinden zij de juiste woorden ni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 rot="18963000">
            <a:off x="3203640" y="3068280"/>
            <a:ext cx="2860560" cy="2909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24000" y="404640"/>
            <a:ext cx="8496000" cy="6221520"/>
          </a:xfrm>
          <a:prstGeom prst="rect">
            <a:avLst/>
          </a:prstGeom>
          <a:ln w="76320">
            <a:solidFill>
              <a:srgbClr val="ffcfff"/>
            </a:solidFill>
            <a:miter/>
          </a:ln>
        </p:spPr>
      </p:pic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9600"/>
                            </p:stCondLst>
                            <p:childTnLst>
                              <p:par>
                                <p:cTn id="2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7500"/>
                            </p:stCondLst>
                            <p:childTnLst>
                              <p:par>
                                <p:cTn id="2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9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fff"/>
            </a:gs>
            <a:gs pos="100000">
              <a:srgbClr val="ffe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569080" cy="5713560"/>
          </a:xfrm>
          <a:prstGeom prst="rect">
            <a:avLst/>
          </a:prstGeom>
          <a:ln w="76320">
            <a:solidFill>
              <a:srgbClr val="990033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99000" y="138240"/>
            <a:ext cx="58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990033"/>
                </a:solidFill>
                <a:latin typeface="Book Antiqua"/>
              </a:rPr>
              <a:t>Een mens is nooit alle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907920"/>
            <a:ext cx="54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990033"/>
                </a:solidFill>
                <a:latin typeface="Book Antiqua"/>
              </a:rPr>
              <a:t>maar leeft altijd in h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39640" y="2924280"/>
            <a:ext cx="4680000" cy="3524040"/>
          </a:xfrm>
          <a:prstGeom prst="rect">
            <a:avLst/>
          </a:prstGeom>
          <a:ln w="76320">
            <a:solidFill>
              <a:srgbClr val="990033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5796000" y="3141720"/>
            <a:ext cx="280836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8c002f"/>
                </a:solidFill>
                <a:latin typeface="Book Antiqua"/>
              </a:rPr>
              <a:t>Zoals ji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8c002f"/>
                </a:solidFill>
                <a:latin typeface="Book Antiqua"/>
              </a:rPr>
              <a:t>in 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8c002f"/>
                </a:solidFill>
                <a:latin typeface="Book Antiqua"/>
              </a:rPr>
              <a:t>hart leef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63640" y="155736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990033"/>
                </a:solidFill>
                <a:latin typeface="Book Antiqua"/>
              </a:rPr>
              <a:t>hart van vrienden om zich he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4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427640" y="404640"/>
            <a:ext cx="4343400" cy="6046920"/>
          </a:xfrm>
          <a:prstGeom prst="rect">
            <a:avLst/>
          </a:prstGeom>
          <a:ln w="76320">
            <a:solidFill>
              <a:srgbClr val="990033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4211640" y="189000"/>
            <a:ext cx="4753080" cy="648000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76280"/>
            <a:ext cx="392436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3300"/>
                </a:solidFill>
                <a:latin typeface="Book Antiqua"/>
              </a:rPr>
              <a:t>Laat ons als vogels vliege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3300"/>
                </a:solidFill>
                <a:latin typeface="Book Antiqua"/>
              </a:rPr>
              <a:t>in de bries van de w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3300"/>
                </a:solidFill>
                <a:latin typeface="Book Antiqua"/>
              </a:rPr>
              <a:t>Laat ons elke keer genieten, als de nieuwe dag beg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73408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990033"/>
                </a:solidFill>
                <a:latin typeface="Book Antiqua"/>
              </a:rPr>
              <a:t>Groetjes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635280" y="4292640"/>
            <a:ext cx="2013120" cy="2160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556000" y="189000"/>
            <a:ext cx="1162080" cy="485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1979640" y="623736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3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225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2250"/>
                            </p:stCondLst>
                            <p:childTnLst>
                              <p:par>
                                <p:cTn id="3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3250"/>
                            </p:stCondLst>
                            <p:childTnLst>
                              <p:par>
                                <p:cTn id="329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0" dur="5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7d7"/>
            </a:gs>
            <a:gs pos="100000">
              <a:srgbClr val="99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5832360" cy="472284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179280" y="1700280"/>
            <a:ext cx="6121440" cy="4968720"/>
          </a:xfrm>
          <a:prstGeom prst="rect">
            <a:avLst/>
          </a:prstGeom>
          <a:noFill/>
          <a:ln cap="rnd" w="76320">
            <a:solidFill>
              <a:srgbClr val="66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260280"/>
            <a:ext cx="83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660066"/>
                </a:solidFill>
                <a:latin typeface="Book Antiqua"/>
              </a:rPr>
              <a:t>Wij wensen jou een wereld vol bloeme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148360" y="1052640"/>
            <a:ext cx="2303280" cy="2184120"/>
          </a:xfrm>
          <a:prstGeom prst="rect">
            <a:avLst/>
          </a:prstGeom>
          <a:ln w="38160">
            <a:solidFill>
              <a:srgbClr val="660066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588000" y="2349360"/>
            <a:ext cx="2303640" cy="2184480"/>
          </a:xfrm>
          <a:prstGeom prst="rect">
            <a:avLst/>
          </a:prstGeom>
          <a:ln w="38160">
            <a:solidFill>
              <a:srgbClr val="660066"/>
            </a:solidFill>
            <a:miter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100"/>
                            </p:stCondLst>
                            <p:childTnLst>
                              <p:par>
                                <p:cTn id="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100"/>
                            </p:stCondLst>
                            <p:childTnLst>
                              <p:par>
                                <p:cTn id="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8101080" cy="540072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611280" y="260280"/>
            <a:ext cx="75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800" spc="-1" strike="noStrike">
                <a:solidFill>
                  <a:srgbClr val="ff9933"/>
                </a:solidFill>
                <a:latin typeface="Book Antiqua"/>
              </a:rPr>
              <a:t>Wij wensen jou een wereld vol licht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cap="rnd" w="76320">
            <a:solidFill>
              <a:srgbClr val="ff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1547640" y="836640"/>
            <a:ext cx="691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c7e3ff"/>
                </a:solidFill>
                <a:latin typeface="Book Antiqua"/>
              </a:rPr>
              <a:t>Wij wensen jou van alles het best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47640" y="620640"/>
            <a:ext cx="80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ffdfff"/>
                </a:solidFill>
                <a:latin typeface="Arial"/>
              </a:rPr>
              <a:t>Een glimlach op je gezich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260280"/>
            <a:ext cx="8713800" cy="6337440"/>
          </a:xfrm>
          <a:prstGeom prst="rect">
            <a:avLst/>
          </a:prstGeom>
          <a:noFill/>
          <a:ln w="57240">
            <a:solidFill>
              <a:srgbClr val="ffd7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 rot="2677800">
            <a:off x="971640" y="2060640"/>
            <a:ext cx="3371760" cy="3457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 rot="2677800">
            <a:off x="4858920" y="1989000"/>
            <a:ext cx="3371760" cy="3457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 rot="2677800">
            <a:off x="2987640" y="2133720"/>
            <a:ext cx="3371760" cy="34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5257800" cy="350532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692360" y="1197000"/>
            <a:ext cx="6265800" cy="417672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1763640" y="1413000"/>
            <a:ext cx="61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8c002f"/>
                </a:solidFill>
                <a:latin typeface="Book Antiqua"/>
              </a:rPr>
              <a:t>Wij wensen jou een leven vol liefd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3635280" y="3141720"/>
            <a:ext cx="5257800" cy="350532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424720" cy="6319800"/>
          </a:xfrm>
          <a:prstGeom prst="rect">
            <a:avLst/>
          </a:prstGeom>
          <a:ln w="57240">
            <a:solidFill>
              <a:srgbClr val="3366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179280" y="189000"/>
            <a:ext cx="3745080" cy="0"/>
          </a:xfrm>
          <a:prstGeom prst="line">
            <a:avLst/>
          </a:prstGeom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189000"/>
            <a:ext cx="0" cy="4608360"/>
          </a:xfrm>
          <a:prstGeom prst="line">
            <a:avLst/>
          </a:prstGeom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16000" y="333360"/>
            <a:ext cx="70200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ffffff"/>
                </a:solidFill>
                <a:latin typeface="Book Antiqua"/>
              </a:rPr>
              <a:t>Geen tranen, geen zorgen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ffffff"/>
                </a:solidFill>
                <a:latin typeface="Book Antiqua"/>
              </a:rPr>
              <a:t>geen pij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50920" y="2421000"/>
            <a:ext cx="6408720" cy="4273560"/>
          </a:xfrm>
          <a:prstGeom prst="rect">
            <a:avLst/>
          </a:prstGeom>
          <a:ln w="57240">
            <a:solidFill>
              <a:srgbClr val="f491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395280" y="2565360"/>
            <a:ext cx="6121440" cy="3959280"/>
          </a:xfrm>
          <a:prstGeom prst="rect">
            <a:avLst/>
          </a:prstGeom>
          <a:noFill/>
          <a:ln w="28440">
            <a:solidFill>
              <a:srgbClr val="f4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333360"/>
            <a:ext cx="7416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Book Antiqua"/>
              </a:rPr>
              <a:t>Dat iedere dag hier op aard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Book Antiqua"/>
              </a:rPr>
              <a:t>voor jou een cadeautje mag zij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4000" y="189000"/>
            <a:ext cx="83167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Book Antiqua"/>
              </a:rPr>
              <a:t>Zoek niet buiten je zelf, de hemel zit van binn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50920" y="692280"/>
            <a:ext cx="8713800" cy="597672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68360" y="907920"/>
            <a:ext cx="4464000" cy="334188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5148360" y="1052640"/>
            <a:ext cx="3600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99"/>
                </a:solidFill>
                <a:latin typeface="Book Antiqua"/>
              </a:rPr>
              <a:t>angst en twijf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99"/>
                </a:solidFill>
                <a:latin typeface="Book Antiqua"/>
              </a:rPr>
              <a:t>zijn een la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643280" y="2581200"/>
            <a:ext cx="4140360" cy="393408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539640" y="4724280"/>
            <a:ext cx="3816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99"/>
                </a:solidFill>
                <a:latin typeface="Book Antiqua"/>
              </a:rPr>
              <a:t>hoop doet lev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99"/>
                </a:solidFill>
                <a:latin typeface="Book Antiqua"/>
              </a:rPr>
              <a:t>dat staat vas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9750"/>
                            </p:stCondLst>
                            <p:childTnLst>
                              <p:par>
                                <p:cTn id="20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6750"/>
                            </p:stCondLst>
                            <p:childTnLst>
                              <p:par>
                                <p:cTn id="21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11:48:56Z</dcterms:created>
  <dc:creator>Agnes Verheyden</dc:creator>
  <dc:description/>
  <dc:language>en-US</dc:language>
  <cp:lastModifiedBy>Smets</cp:lastModifiedBy>
  <dcterms:modified xsi:type="dcterms:W3CDTF">2008-09-27T06:18:08Z</dcterms:modified>
  <cp:revision>2</cp:revision>
  <dc:subject/>
  <dc:title>Dia 1</dc:title>
</cp:coreProperties>
</file>