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Track19.wav" ContentType="audio/x-wav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DD2-53E0-4FF0-ABB3-23A0596F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F6B-FB71-45A0-AE83-F1929B2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26F-7C28-4F76-8D41-479F7632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1FF-D564-4934-A36E-F8E7CE5C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57C-F01E-4B51-A554-EDD5935D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731-BF56-40A6-9750-67AD4F13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1F7-57E9-415B-B6D0-91430D4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02B-CD99-46B1-A083-F42954EA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8A8-CDC6-4BC8-8EEC-36F47397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9BF-2948-4A30-BCCD-8CEBF7D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E9B-24C3-4470-82AB-F5ED01AF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A3E-1B1D-4C73-AAF8-07079EF2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FEAB-5A8F-412A-8FD0-63476D0BCA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Track19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608360" cy="30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924360" y="3213000"/>
            <a:ext cx="4968720" cy="3456000"/>
          </a:xfrm>
          <a:prstGeom prst="rect">
            <a:avLst/>
          </a:prstGeom>
          <a:noFill/>
          <a:ln cap="rnd" w="57240">
            <a:solidFill>
              <a:srgbClr val="9900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700280"/>
            <a:ext cx="424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990033"/>
                </a:solidFill>
                <a:latin typeface="Book Antiqua"/>
              </a:rPr>
              <a:t>Beste vri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08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00"/>
                </a:solidFill>
                <a:latin typeface="Book Antiqua"/>
              </a:rPr>
              <a:t>Muziek: The Flower Of Scho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19280" y="1630440"/>
            <a:ext cx="41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990033"/>
                </a:solidFill>
                <a:latin typeface="Book Antiqua"/>
              </a:rPr>
              <a:t>(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31320" y="1700280"/>
            <a:ext cx="8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8c002f"/>
                </a:solidFill>
                <a:latin typeface="Book Antiqua"/>
              </a:rPr>
              <a:t>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5640" y="1628640"/>
            <a:ext cx="41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8c002f"/>
                </a:solidFill>
                <a:latin typeface="Book Antiqua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4032360" cy="6048360"/>
          </a:xfrm>
          <a:prstGeom prst="rect">
            <a:avLst/>
          </a:prstGeom>
          <a:ln w="76320">
            <a:solidFill>
              <a:srgbClr val="cccc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50920" y="189000"/>
            <a:ext cx="8208720" cy="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89000"/>
            <a:ext cx="0" cy="4895640"/>
          </a:xfrm>
          <a:prstGeom prst="line">
            <a:avLst/>
          </a:prstGeom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692280"/>
            <a:ext cx="3600360" cy="561636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3141720"/>
            <a:ext cx="403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70"/>
                </a:solidFill>
                <a:latin typeface="Book Antiqua"/>
              </a:rPr>
              <a:t>Met vertrouwen en gelo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70"/>
                </a:solidFill>
                <a:latin typeface="Book Antiqua"/>
              </a:rPr>
              <a:t>kom je elke zorg bov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99"/>
                </a:solidFill>
                <a:latin typeface="Book Antiqua"/>
              </a:rPr>
              <a:t>Als je door verdriet wordt neergeslagen, het waarom….aan niemand kunt vra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960720" cy="370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961080" cy="37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1341360"/>
            <a:ext cx="825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333399"/>
                </a:solidFill>
                <a:latin typeface="Book Antiqua"/>
              </a:rPr>
              <a:t>Dan is het goed dat je zoveel vrienden ziet, ook al vinden zij de juiste woorden n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8963000">
            <a:off x="3203640" y="3068280"/>
            <a:ext cx="2860560" cy="290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8496000" cy="6221520"/>
          </a:xfrm>
          <a:prstGeom prst="rect">
            <a:avLst/>
          </a:prstGeom>
          <a:ln w="76320">
            <a:solidFill>
              <a:srgbClr val="ffcfff"/>
            </a:solidFill>
            <a:miter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6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fff"/>
            </a:gs>
            <a:gs pos="100000">
              <a:srgbClr val="ffeb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135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99000" y="138240"/>
            <a:ext cx="58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Een mens is nooit alle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90792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maar leeft altijd in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4680000" cy="352404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796000" y="3141720"/>
            <a:ext cx="2808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Zoals j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in 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8c002f"/>
                </a:solidFill>
                <a:latin typeface="Book Antiqua"/>
              </a:rPr>
              <a:t>hart leef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557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0033"/>
                </a:solidFill>
                <a:latin typeface="Book Antiqua"/>
              </a:rPr>
              <a:t>hart van vrienden om zich h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4343400" cy="604692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211640" y="189000"/>
            <a:ext cx="4753080" cy="648000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76280"/>
            <a:ext cx="39243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Laat ons als vogels vlieg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in de bries van d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3300"/>
                </a:solidFill>
                <a:latin typeface="Book Antiqua"/>
              </a:rPr>
              <a:t>Laat ons elke keer genieten, als de nieuwe dag beg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7340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990033"/>
                </a:solidFill>
                <a:latin typeface="Book Antiqua"/>
              </a:rPr>
              <a:t>Groetjes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635280" y="4292640"/>
            <a:ext cx="201312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556000" y="189000"/>
            <a:ext cx="1162080" cy="485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225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225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3250"/>
                            </p:stCondLst>
                            <p:childTnLst>
                              <p:par>
                                <p:cTn id="32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d7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5832360" cy="47228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9280" y="1700280"/>
            <a:ext cx="6121440" cy="4968720"/>
          </a:xfrm>
          <a:prstGeom prst="rect">
            <a:avLst/>
          </a:prstGeom>
          <a:noFill/>
          <a:ln cap="rnd" w="76320">
            <a:solidFill>
              <a:srgbClr val="66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2602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660066"/>
                </a:solidFill>
                <a:latin typeface="Book Antiqua"/>
              </a:rPr>
              <a:t>Wij wensen jou een wereld vol bloeme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2303280" cy="218412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303640" cy="2184480"/>
          </a:xfrm>
          <a:prstGeom prst="rect">
            <a:avLst/>
          </a:prstGeom>
          <a:ln w="38160">
            <a:solidFill>
              <a:srgbClr val="660066"/>
            </a:solidFill>
            <a:miter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1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1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01080" cy="54007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611280" y="260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9933"/>
                </a:solidFill>
                <a:latin typeface="Book Antiqua"/>
              </a:rPr>
              <a:t>Wij wensen jou een wereld vol lich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547640" y="83664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c7e3ff"/>
                </a:solidFill>
                <a:latin typeface="Book Antiqua"/>
              </a:rPr>
              <a:t>Wij wensen jou van alles het bes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7640" y="6206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dfff"/>
                </a:solidFill>
                <a:latin typeface="Arial"/>
              </a:rPr>
              <a:t>Een glimlach op je gezic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8713800" cy="6337440"/>
          </a:xfrm>
          <a:prstGeom prst="rect">
            <a:avLst/>
          </a:prstGeom>
          <a:noFill/>
          <a:ln w="57240">
            <a:solidFill>
              <a:srgbClr val="ffd7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2677800">
            <a:off x="971640" y="2060640"/>
            <a:ext cx="3371760" cy="345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677800">
            <a:off x="4858920" y="1989000"/>
            <a:ext cx="3371760" cy="345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 rot="2677800">
            <a:off x="2987640" y="2133720"/>
            <a:ext cx="337176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57800" cy="350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6265800" cy="4176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763640" y="141300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8c002f"/>
                </a:solidFill>
                <a:latin typeface="Book Antiqua"/>
              </a:rPr>
              <a:t>Wij wensen jou een leven vol liefd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635280" y="3141720"/>
            <a:ext cx="5257800" cy="350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198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79280" y="189000"/>
            <a:ext cx="3745080" cy="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9000"/>
            <a:ext cx="0" cy="460836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333360"/>
            <a:ext cx="7020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Book Antiqua"/>
              </a:rPr>
              <a:t>Geen tranen, geen zorgen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Book Antiqua"/>
              </a:rPr>
              <a:t>geen pij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6408720" cy="4273560"/>
          </a:xfrm>
          <a:prstGeom prst="rect">
            <a:avLst/>
          </a:prstGeom>
          <a:ln w="57240">
            <a:solidFill>
              <a:srgbClr val="f491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395280" y="2565360"/>
            <a:ext cx="6121440" cy="3959280"/>
          </a:xfrm>
          <a:prstGeom prst="rect">
            <a:avLst/>
          </a:prstGeom>
          <a:noFill/>
          <a:ln w="28440">
            <a:solidFill>
              <a:srgbClr val="f4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Book Antiqua"/>
              </a:rPr>
              <a:t>Dat iedere dag hier op aar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Book Antiqua"/>
              </a:rPr>
              <a:t>voor jou een cadeautje mag zij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89000"/>
            <a:ext cx="8316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Book Antiqua"/>
              </a:rPr>
              <a:t>Zoek niet buiten je zelf, de hemel zit van binn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8713800" cy="597672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4464000" cy="33418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148360" y="1052640"/>
            <a:ext cx="360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angst en twij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zijn een la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3280" y="2581200"/>
            <a:ext cx="4140360" cy="3934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539640" y="4724280"/>
            <a:ext cx="381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hoop doet l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99"/>
                </a:solidFill>
                <a:latin typeface="Book Antiqua"/>
              </a:rPr>
              <a:t>dat staat va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750"/>
                            </p:stCondLst>
                            <p:childTnLst>
                              <p:par>
                                <p:cTn id="20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750"/>
                            </p:stCondLst>
                            <p:childTnLst>
                              <p:par>
                                <p:cTn id="2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1:48:56Z</dcterms:created>
  <dc:creator>Agnes Verheyden</dc:creator>
  <dc:description/>
  <dc:language>en-US</dc:language>
  <cp:lastModifiedBy>Smets</cp:lastModifiedBy>
  <dcterms:modified xsi:type="dcterms:W3CDTF">2008-09-27T06:18:08Z</dcterms:modified>
  <cp:revision>2</cp:revision>
  <dc:subject/>
  <dc:title>Dia 1</dc:title>
</cp:coreProperties>
</file>