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eers%20102%20%20%201.00'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BC1-F735-47DF-B1CD-81C1D08F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264-3D61-4E1C-985E-1E91EF71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4D5-57F3-49B1-8A84-8120CCAD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020-3639-4F23-B2A7-3CD9C36A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716-FBCA-484F-A3A1-088E385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44D-C7FA-43AE-9C2D-59A9100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110-AA07-47FA-A823-D30AF5DE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414-55C6-4479-A781-45628180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C4B-6C9D-4DD9-B518-F9629CC9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E45-ED9C-4DA6-A116-2E4C65E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541-0446-4159-9A8E-4A18E58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7F7-D93D-465A-A21D-96648F6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5C7-9DAB-4D9C-B81F-EB024ED8F732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rs%20102%20%20%201.00&apos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20640"/>
            <a:ext cx="9144000" cy="53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Vraag en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1 minuutj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van je tijd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Met muzi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6080" y="3009960"/>
            <a:ext cx="9236160" cy="838080"/>
            <a:chOff x="-46080" y="3009960"/>
            <a:chExt cx="9236160" cy="838080"/>
          </a:xfrm>
        </p:grpSpPr>
        <p:sp>
          <p:nvSpPr>
            <p:cNvPr id="43" name=""/>
            <p:cNvSpPr/>
            <p:nvPr/>
          </p:nvSpPr>
          <p:spPr>
            <a:xfrm>
              <a:off x="-46080" y="3009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080" y="3238560"/>
              <a:ext cx="9144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  </a:t>
              </a:r>
              <a:r>
                <a:rPr b="0" lang="en-US" sz="34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</a:t>
              </a: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  <p:sndAc>
      <p:stSnd>
        <p:snd r:embed="rId2" name="Cheers%20102%20%20%201.00'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3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Men zegt het duurt niet langer dan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1 Minu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om een heel belangrijk perso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aan te duiden 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46080" y="2857680"/>
            <a:ext cx="9236160" cy="1143000"/>
            <a:chOff x="-46080" y="2857680"/>
            <a:chExt cx="9236160" cy="1143000"/>
          </a:xfrm>
        </p:grpSpPr>
        <p:sp>
          <p:nvSpPr>
            <p:cNvPr id="47" name=""/>
            <p:cNvSpPr/>
            <p:nvPr/>
          </p:nvSpPr>
          <p:spPr>
            <a:xfrm>
              <a:off x="-46080" y="2857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080" y="3086280"/>
              <a:ext cx="9144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  </a:t>
              </a:r>
              <a:r>
                <a:rPr b="0" lang="en-US" sz="54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</a:t>
              </a: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0"/>
            <a:ext cx="5715000" cy="748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1 u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om haar / 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te beoordel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8915400" cy="71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          </a:t>
            </a: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1 da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Om haar / hem te appreciëren en te aanvaarden, zoals zij / hij is.</a:t>
            </a:r>
            <a:r>
              <a:rPr b="1" lang="de-DE" sz="4000" spc="-1" strike="noStrike">
                <a:solidFill>
                  <a:srgbClr val="ffff66"/>
                </a:solidFill>
                <a:latin typeface="Arial Rounded MT Bold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296280" cy="502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Maar!!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Een leven om </a:t>
            </a:r>
            <a:br>
              <a:rPr sz="4000"/>
            </a:b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haar / 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TE VERGET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084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6084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47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Stuur dit naar de pers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die voor jou heel belangrijk zij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en die je nooit of te nooit wilt vergeten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Vergeet ook niet de persoon die jou dit heeft verstuurd…</a:t>
            </a:r>
            <a:r>
              <a:rPr b="1" i="1" lang="de-DE" sz="4000" spc="-1" strike="noStrike">
                <a:solidFill>
                  <a:srgbClr val="006699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676520"/>
            <a:ext cx="8153280" cy="34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Een kleine bood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om te laten zi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dat deze iemand je n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vergeten is.</a:t>
            </a:r>
            <a:r>
              <a:rPr b="1" i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1600200"/>
            <a:ext cx="868680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ff"/>
                </a:solidFill>
                <a:latin typeface="Comic Sans MS"/>
                <a:ea typeface="Arial"/>
              </a:rPr>
              <a:t>Als je dit naar niemand verstu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ff"/>
                </a:solidFill>
                <a:latin typeface="Comic Sans MS"/>
                <a:ea typeface="Arial"/>
              </a:rPr>
              <a:t>wil het zeggen dat je geen tijd hebt voor je vriend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99ccff"/>
                </a:solidFill>
                <a:uFillTx/>
                <a:latin typeface="Comic Sans MS"/>
                <a:ea typeface="Arial"/>
              </a:rPr>
              <a:t>Zelfs niet voor één klein mo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99ccff"/>
                </a:solidFill>
                <a:uFillTx/>
                <a:latin typeface="Comic Sans MS"/>
                <a:ea typeface="Arial"/>
              </a:rPr>
              <a:t>Groetj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248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248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99ff"/>
                </a:solidFill>
                <a:latin typeface="Comic Sans MS"/>
                <a:ea typeface="Arial"/>
              </a:rPr>
              <a:t>Geef jez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99ff"/>
                </a:solidFill>
                <a:latin typeface="Comic Sans MS"/>
                <a:ea typeface="Arial"/>
              </a:rPr>
              <a:t>1 minuu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99ff"/>
                </a:solidFill>
                <a:latin typeface="Comic Sans MS"/>
                <a:ea typeface="Arial"/>
              </a:rPr>
              <a:t>of heb je belangrijkere dingen te doen dan je vrienden.......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46080" y="2994120"/>
            <a:ext cx="9236160" cy="869400"/>
            <a:chOff x="-46080" y="2994120"/>
            <a:chExt cx="9236160" cy="869400"/>
          </a:xfrm>
        </p:grpSpPr>
        <p:sp>
          <p:nvSpPr>
            <p:cNvPr id="67" name=""/>
            <p:cNvSpPr/>
            <p:nvPr/>
          </p:nvSpPr>
          <p:spPr>
            <a:xfrm>
              <a:off x="-46080" y="29941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080" y="3222360"/>
              <a:ext cx="914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  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327672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 advTm="5000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14:31Z</dcterms:created>
  <dc:creator/>
  <dc:description/>
  <dc:language>en-US</dc:language>
  <cp:lastModifiedBy>Smets</cp:lastModifiedBy>
  <dcterms:modified xsi:type="dcterms:W3CDTF">2008-10-02T04:12:53Z</dcterms:modified>
  <cp:revision>16</cp:revision>
  <dc:subject/>
  <dc:title>Soulmaatje</dc:title>
</cp:coreProperties>
</file>