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4CF05-7A6F-46B9-B3B1-EE5214104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AA5E-4E41-4CAD-B170-286AAB539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7B71D-94B5-4762-8881-A336AC64E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016F-7488-47D1-BF4F-E7344050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BF047-5EF1-49CF-8352-C659234A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84B19-7ED4-480A-B5AC-5401C7F6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C8C1-3B3B-413F-8E3C-C50F32DF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3B9F7-8D3E-462D-BB1B-91F02733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D798B-C975-47DB-9CA0-7B93915F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3D26-8456-4EC5-B3D4-338A5499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6591-428A-4ADF-9262-893ECAFC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C2D4-F713-412B-B7D2-E67A1D8E7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0F84-7E5F-46D2-B69E-511EB483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838080" y="2438280"/>
            <a:ext cx="769644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Dengan Menyebut Nama Allah yang Maha Pemurah, yang Maha Pengasih dan Maha Pengampu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etapa mudahnya orang mengabaikan Allah... Dan mereka terheran – heran mengapa dunia menjadi hancur</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Kita percaya apa yang tertulis di koran.. tapi mempertanyakan yang tertulis di dalam alqur’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2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setiap orang ingin masuk syurga yang disediakan, mereka tidak mempercayai, berfikir, berkata, atau melakukan apapun yang tercantum di qur’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666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orang bisa berkata ‘Aku percaya Kepada Allah’..tapi masih mengikuti syaitan (Siapa,yang juga ‘mempercayai’ Alla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7428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Kita bisa mengirim ribuan ‘lelucon’ melalui e-mail dan mereka menyebar seperti api.. Tapi ketika kamu mulai mengirim pesan tentang Allah, orang – orang berfikir 2 kali untuk berbagi</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Lucu kan</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2742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orang begitu berbondong – bondong setiap hari jum’at mengingat Allah...tapi jadi muslim yang tak terlihat di sisa minggu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237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id-ID" sz="4000" spc="-1" strike="noStrike">
                <a:solidFill>
                  <a:srgbClr val="ffffff"/>
                </a:solidFill>
                <a:latin typeface="Times New Roman"/>
              </a:rPr>
              <a:t>Lucu ya..bagaimana ketika anda meneruskan pesan ini, anda tidak akan mengirim kepada beberapa orang yang ada di dalam daftar alamatmu karena kau tidak begitu yakin apa agama mereka, atau apa yang mereka akan fikirkan tentang anda atas kiriman kamu kepada merek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Times New Roman"/>
              </a:rPr>
              <a:t>“</a:t>
            </a:r>
            <a:r>
              <a:rPr b="1" lang="id-ID" sz="5200" spc="-1" strike="noStrike">
                <a:solidFill>
                  <a:srgbClr val="ffffff"/>
                </a:solidFill>
                <a:latin typeface="Times New Roman"/>
              </a:rPr>
              <a:t>Lucu ya bagaimana kita bisa lebih khawatir apa yang orang pikirkan tentang kita...daripada apa yang Allah fikirkan tentang kita”</a:t>
            </a:r>
            <a:endParaRPr b="0" lang="en-US" sz="5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200" spc="-1" strike="noStrike">
                <a:solidFill>
                  <a:srgbClr val="ffffff"/>
                </a:solidFill>
                <a:latin typeface="Times New Roman"/>
              </a:rPr>
              <a:t>“</a:t>
            </a:r>
            <a:r>
              <a:rPr b="1" lang="id-ID" sz="5200" spc="-1" strike="noStrike">
                <a:solidFill>
                  <a:srgbClr val="ffffff"/>
                </a:solidFill>
                <a:latin typeface="Times New Roman"/>
              </a:rPr>
              <a:t>Akankan anda membagi pesan ini dengan orang yang anda sayangi atau tidak ?</a:t>
            </a:r>
            <a:endParaRPr b="0" lang="en-US" sz="5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685800" y="2133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Rasulullah S.A.W Bersabda, “Jika kamu membaca 2 kalimat syahadat dengan keyakinan sekali saja, Syurga akan menanti kamu.”</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Dengan Menyebut Nama Allah yang Maha Pemurah, yang Maha Pengasih dan Maha Pengampu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86280" y="1846440"/>
            <a:ext cx="2971800" cy="316512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1295280"/>
            <a:ext cx="7611840" cy="4365720"/>
          </a:xfrm>
          <a:prstGeom prst="rect">
            <a:avLst/>
          </a:prstGeom>
          <a:ln w="0">
            <a:noFill/>
          </a:ln>
        </p:spPr>
      </p:pic>
      <p:sp>
        <p:nvSpPr>
          <p:cNvPr id="64" name="PlaceHolder 1"/>
          <p:cNvSpPr>
            <a:spLocks noGrp="1"/>
          </p:cNvSpPr>
          <p:nvPr>
            <p:ph type="title"/>
          </p:nvPr>
        </p:nvSpPr>
        <p:spPr>
          <a:xfrm>
            <a:off x="685800" y="525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Kunci Ka’ba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71800" y="457200"/>
            <a:ext cx="3589200" cy="4732200"/>
          </a:xfrm>
          <a:prstGeom prst="rect">
            <a:avLst/>
          </a:prstGeom>
          <a:ln w="0">
            <a:noFill/>
          </a:ln>
        </p:spPr>
      </p:pic>
      <p:sp>
        <p:nvSpPr>
          <p:cNvPr id="66"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Jejak Kaki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5800" y="228600"/>
            <a:ext cx="7829640" cy="4732200"/>
          </a:xfrm>
          <a:prstGeom prst="rect">
            <a:avLst/>
          </a:prstGeom>
          <a:ln w="0">
            <a:noFill/>
          </a:ln>
        </p:spPr>
      </p:pic>
      <p:sp>
        <p:nvSpPr>
          <p:cNvPr id="68" name="PlaceHolder 1"/>
          <p:cNvSpPr>
            <a:spLocks noGrp="1"/>
          </p:cNvSpPr>
          <p:nvPr>
            <p:ph type="title"/>
          </p:nvPr>
        </p:nvSpPr>
        <p:spPr>
          <a:xfrm>
            <a:off x="762120" y="5181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Beberapa rambut dari janggut Nabi</a:t>
            </a:r>
            <a:r>
              <a:rPr b="0" lang="en-US" sz="4400" spc="-1" strike="noStrike">
                <a:solidFill>
                  <a:srgbClr val="ffffff"/>
                </a:solidFill>
                <a:latin typeface="Times New Roman"/>
              </a:rPr>
              <a:t> 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609480"/>
            <a:ext cx="7611840" cy="4664160"/>
          </a:xfrm>
          <a:prstGeom prst="rect">
            <a:avLst/>
          </a:prstGeom>
          <a:ln w="0">
            <a:noFill/>
          </a:ln>
        </p:spPr>
      </p:pic>
      <p:sp>
        <p:nvSpPr>
          <p:cNvPr id="70" name="PlaceHolder 1"/>
          <p:cNvSpPr>
            <a:spLocks noGrp="1"/>
          </p:cNvSpPr>
          <p:nvPr>
            <p:ph type="title"/>
          </p:nvPr>
        </p:nvSpPr>
        <p:spPr>
          <a:xfrm>
            <a:off x="76212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Pedang Milik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5800" y="457200"/>
            <a:ext cx="7829640" cy="4732200"/>
          </a:xfrm>
          <a:prstGeom prst="rect">
            <a:avLst/>
          </a:prstGeom>
          <a:ln w="0">
            <a:noFill/>
          </a:ln>
        </p:spPr>
      </p:pic>
      <p:sp>
        <p:nvSpPr>
          <p:cNvPr id="72" name="PlaceHolder 1"/>
          <p:cNvSpPr>
            <a:spLocks noGrp="1"/>
          </p:cNvSpPr>
          <p:nvPr>
            <p:ph type="title"/>
          </p:nvPr>
        </p:nvSpPr>
        <p:spPr>
          <a:xfrm>
            <a:off x="68580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Surat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43000" y="304920"/>
            <a:ext cx="6926400" cy="4914720"/>
          </a:xfrm>
          <a:prstGeom prst="rect">
            <a:avLst/>
          </a:prstGeom>
          <a:ln w="0">
            <a:noFill/>
          </a:ln>
        </p:spPr>
      </p:pic>
      <p:sp>
        <p:nvSpPr>
          <p:cNvPr id="74"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Pintu Emas Nabi</a:t>
            </a:r>
            <a:r>
              <a:rPr b="0" lang="en-US" sz="4400" spc="-1" strike="noStrike">
                <a:solidFill>
                  <a:srgbClr val="ffffff"/>
                </a:solidFill>
                <a:latin typeface="Times New Roman"/>
              </a:rPr>
              <a:t> Muhammad's S.A.W. tom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828800" y="1371600"/>
            <a:ext cx="5532480" cy="3657600"/>
          </a:xfrm>
          <a:prstGeom prst="rect">
            <a:avLst/>
          </a:prstGeom>
          <a:ln w="0">
            <a:noFill/>
          </a:ln>
        </p:spPr>
      </p:pic>
      <p:sp>
        <p:nvSpPr>
          <p:cNvPr id="76" name="PlaceHolder 1"/>
          <p:cNvSpPr>
            <a:spLocks noGrp="1"/>
          </p:cNvSpPr>
          <p:nvPr>
            <p:ph type="title"/>
          </p:nvPr>
        </p:nvSpPr>
        <p:spPr>
          <a:xfrm>
            <a:off x="7621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phet Muhammad's tomb from insi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514600" y="609480"/>
            <a:ext cx="4073400" cy="4172040"/>
          </a:xfrm>
          <a:prstGeom prst="rect">
            <a:avLst/>
          </a:prstGeom>
          <a:ln w="0">
            <a:noFill/>
          </a:ln>
        </p:spPr>
      </p:pic>
      <p:sp>
        <p:nvSpPr>
          <p:cNvPr id="78" name="PlaceHolder 1"/>
          <p:cNvSpPr>
            <a:spLocks noGrp="1"/>
          </p:cNvSpPr>
          <p:nvPr>
            <p:ph type="title"/>
          </p:nvPr>
        </p:nvSpPr>
        <p:spPr>
          <a:xfrm>
            <a:off x="762120" y="5181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LLAHU AKBAR</a:t>
            </a:r>
            <a:br>
              <a:rPr sz="4400"/>
            </a:br>
            <a:r>
              <a:rPr b="0" lang="en-US" sz="4400" spc="-1" strike="noStrike">
                <a:solidFill>
                  <a:srgbClr val="ffffff"/>
                </a:solidFill>
                <a:latin typeface="Times New Roman"/>
              </a:rPr>
              <a:t>Allah </a:t>
            </a:r>
            <a:r>
              <a:rPr b="0" lang="id-ID" sz="4400" spc="-1" strike="noStrike">
                <a:solidFill>
                  <a:srgbClr val="ffffff"/>
                </a:solidFill>
                <a:latin typeface="Times New Roman"/>
              </a:rPr>
              <a:t>Maha Bes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sulullah S.A.W. </a:t>
            </a:r>
            <a:r>
              <a:rPr b="1" lang="id-ID" sz="4400" spc="-1" strike="noStrike">
                <a:solidFill>
                  <a:srgbClr val="ffffff"/>
                </a:solidFill>
                <a:latin typeface="Times New Roman"/>
              </a:rPr>
              <a:t>Bersabda, “Seorang wanita yang membuka auratnya atau bahkan mengenakan pakaian yang ketat, tidak akan mencium wanginya surga selama lebih dari 500 tahu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895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Selama 60 detik kedepan, hentikan apapun yang kamu kerjakan, dan ambil kesempatan ini</a:t>
            </a:r>
            <a:r>
              <a:rPr b="1" lang="en-US" sz="4400" spc="-1" strike="noStrike">
                <a:solidFill>
                  <a:srgbClr val="ffffff"/>
                </a:solidFill>
                <a:latin typeface="Times New Roman"/>
              </a:rPr>
              <a:t>.</a:t>
            </a:r>
            <a:r>
              <a:rPr b="1" lang="id-ID" sz="4400" spc="-1" strike="noStrike">
                <a:solidFill>
                  <a:srgbClr val="ffffff"/>
                </a:solidFill>
                <a:latin typeface="Times New Roman"/>
              </a:rPr>
              <a:t>(hanya membutuhkan 1 menit) yang harus anda lakukan adalah sebagai beriku: panjatkan doa untuk seluruh kaum muslim yang mengirimkan anda pesan ini. Lalu, kirim pesan ini kepada teman2 muslim yang kamu ketahu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Dalam sekejap, banyak orang muslim yang akan berdoa untuk anda dan anda akan menambah banyak muslim yang akan bardoa untuk sesama muslim. Lalu, berhenti dan fikirkan dan mulyakan kekuatan Allah pada hidupmu, untuk melakukan apa yang dikehendaki oleh-Nya</a:t>
            </a:r>
            <a:r>
              <a:rPr b="1" lang="en-US" sz="4400" spc="-1" strike="noStrike">
                <a:solidFill>
                  <a:srgbClr val="ffffff"/>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Allah berfirman, “jika kamu malu terhadapku, aku akan malu terhadapm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Jika anda tidak malu, kirim pesan ini kepada muslim2 yang lain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2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 “Debu yang menempel pada diri seorang pria ketika keluar di jalan Allah, tidak hanya api, tapi asap neraka diharamkan untuk seluruh bagian tubuh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 “Aku hanya mengutuk 3 jenis ora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marL="838080" indent="-83808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Orang yang tidak menjaga orang tua mereka ketika tu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2. </a:t>
            </a:r>
            <a:r>
              <a:rPr b="1" lang="id-ID" sz="5400" spc="-1" strike="noStrike">
                <a:solidFill>
                  <a:srgbClr val="ffffff"/>
                </a:solidFill>
                <a:latin typeface="Times New Roman"/>
              </a:rPr>
              <a:t>Orang yang tidak mengambil hikmah dari bulan ramadhan yang diberkahi</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3. </a:t>
            </a:r>
            <a:r>
              <a:rPr b="1" lang="id-ID" sz="5400" spc="-1" strike="noStrike">
                <a:solidFill>
                  <a:srgbClr val="ffffff"/>
                </a:solidFill>
                <a:latin typeface="Times New Roman"/>
              </a:rPr>
              <a:t>Orang yang tidak mengucapkan</a:t>
            </a:r>
            <a:r>
              <a:rPr b="1" lang="en-US" sz="5400" spc="-1" strike="noStrike">
                <a:solidFill>
                  <a:srgbClr val="ffffff"/>
                </a:solidFill>
                <a:latin typeface="Times New Roman"/>
              </a:rPr>
              <a:t>,               'Salallahu -Alayhay- Wa-Aalahay Wasallam' </a:t>
            </a:r>
            <a:br>
              <a:rPr sz="5400"/>
            </a:br>
            <a:r>
              <a:rPr b="1" lang="id-ID" sz="5400" spc="-1" strike="noStrike">
                <a:solidFill>
                  <a:srgbClr val="ffffff"/>
                </a:solidFill>
                <a:latin typeface="Times New Roman"/>
              </a:rPr>
              <a:t>ketika namaku disebutkan</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a:t>
            </a:r>
            <a:r>
              <a:rPr b="1" lang="en-US" sz="5400" spc="-1" strike="noStrike">
                <a:solidFill>
                  <a:srgbClr val="ffffff"/>
                </a:solidFill>
                <a:latin typeface="Times New Roman"/>
              </a:rPr>
              <a:t>, “</a:t>
            </a:r>
            <a:r>
              <a:rPr b="1" lang="id-ID" sz="5400" spc="-1" strike="noStrike">
                <a:solidFill>
                  <a:srgbClr val="ffffff"/>
                </a:solidFill>
                <a:latin typeface="Times New Roman"/>
              </a:rPr>
              <a:t>Orang yang cerdas adalah orang yang selalu memikirkan dan mempersiapkan kemati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02:24:43Z</dcterms:created>
  <dc:creator>TENGKU MOHD FAREES</dc:creator>
  <dc:description/>
  <dc:language>en-US</dc:language>
  <cp:lastModifiedBy>Newmont</cp:lastModifiedBy>
  <dcterms:modified xsi:type="dcterms:W3CDTF">2005-03-02T08:35:26Z</dcterms:modified>
  <cp:revision>8</cp:revision>
  <dc:subject/>
  <dc:title>In The Name Of Allah, the most Beneficent, the most Gracious, the most Merciful!</dc:title>
</cp:coreProperties>
</file>