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B3A-95EE-4103-889A-257E9828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7CD-56CE-4FDA-BC47-8ECD1919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FC5-C973-480F-B703-C9849C45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3D7-73A9-4CE1-B094-606178A7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856-92DF-42F1-96A0-615A5522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6C9-BF4E-4CA2-9438-E84865E2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71C-7EAE-4ACD-A1B5-458BE3EB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02E-D364-4C52-81F8-3007F06C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04C-2B34-46F1-AD63-E8DD57E4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A72-F2CD-4E85-9EE5-F0C276BB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581-C1B4-4E76-9AF4-471D12E0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7DE-DA93-4264-AF8C-6D5C9680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21AF-A9A0-492F-A0D0-B6C695B0FB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hyperlink" Target="file:///../&#1601;&#1607;&#1585;&#1587;%20&#1575;&#1604;&#1578;&#1585;&#1575;&#1606;&#1610;&#1605;.pps" TargetMode="External"/><Relationship Id="rId7" Type="http://schemas.openxmlformats.org/officeDocument/2006/relationships/image" Target="../media/image6.jpeg"/><Relationship Id="rId8" Type="http://schemas.openxmlformats.org/officeDocument/2006/relationships/slide" Target="slide1.xm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320040" y="1224000"/>
            <a:ext cx="102254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بحبك ربي يعـزف قلب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9200" y="2379600"/>
            <a:ext cx="88448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ألحان فـرح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سـلام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345960" y="3514680"/>
            <a:ext cx="101707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تهتف نفسي كلي لرب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7360" y="4621320"/>
            <a:ext cx="8610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قلبي وحبي والأيام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6480" y="1108080"/>
            <a:ext cx="80902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محبتي إليـك ربـ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862560" y="2239920"/>
            <a:ext cx="105865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أيا رفيقي في كل درب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272600" y="3392640"/>
            <a:ext cx="115466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ثبِّت قلبي بك وزد حبي لـ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451880" y="4390920"/>
            <a:ext cx="11964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أنت أيا حبيـب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ليس غيـرَ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3273" t="4423" r="2912" b="56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1011600" y="3392640"/>
            <a:ext cx="112467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تشفي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عظامي تحيا بفر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989280" y="4429080"/>
            <a:ext cx="110437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يـفـيـض قــلـبي بالـسلا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53360" y="1087560"/>
            <a:ext cx="90442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حبك ربي لذ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َّ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حديث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893880" y="2360520"/>
            <a:ext cx="10797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يا عـزاء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َ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نفسي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في الآلا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6480" y="1108080"/>
            <a:ext cx="80902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محبتي إليـك ربـ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862560" y="2239920"/>
            <a:ext cx="105865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أيا رفيقي في كل درب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1272600" y="3392640"/>
            <a:ext cx="115466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ثبِّت قلبي بك وزد حبي لـ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451880" y="4390920"/>
            <a:ext cx="11964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أنت أيا حبيـب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ليس غيـرَ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بحبك ربي ل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محبتي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92">
            <a:hlinkClick r:id="rId6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8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بحبك ربي يعز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09-10T15:57:19Z</dcterms:modified>
  <cp:revision>38</cp:revision>
  <dc:subject/>
  <dc:title>PowerPoint Presentation</dc:title>
</cp:coreProperties>
</file>