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BD4-0164-48C4-80BF-7591AD9CE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08AB-47DB-4BC1-88AC-E33C0832B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EA16-BB2F-4880-AE99-CF897CE5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5909-2C79-4854-AB70-5BD0696E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E161-C551-41F9-8935-FBD8C25E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DFC0-1219-48E9-8304-A3435C3E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50E-EEC3-4EBA-81A6-224EEEF3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92BD-77C7-4059-920E-4EC155AF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282E-4B54-4BDA-86B6-11860266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8F0-1F54-414B-AB42-831E5198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82F1-5B28-4E91-9397-C38A979C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804A-CAE5-4CFD-BEF4-C57EDDD21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B9DB-DC07-49A5-97C2-1F24B4AFB90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637080" y="1523880"/>
            <a:ext cx="401400" cy="650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85800" y="762120"/>
            <a:ext cx="7086600" cy="4572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76320" y="2133720"/>
            <a:ext cx="6553080" cy="60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6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391520" y="4876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0" y="1447920"/>
          <a:ext cx="360036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47920"/>
                    <a:ext cx="360036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828800" y="3352680"/>
            <a:ext cx="129528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76320" y="1295280"/>
          <a:ext cx="7027920" cy="406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320" y="1295280"/>
                    <a:ext cx="702792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209680" y="4343400"/>
            <a:ext cx="2210040" cy="380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76320" y="1295280"/>
          <a:ext cx="7010280" cy="411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320" y="1295280"/>
                    <a:ext cx="7010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809880" y="4724280"/>
            <a:ext cx="990720" cy="45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133720" y="762120"/>
          <a:ext cx="3962160" cy="4581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762120"/>
                    <a:ext cx="3962160" cy="45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 flipV="1">
            <a:off x="4780080" y="4038120"/>
            <a:ext cx="75960" cy="381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91520" y="475920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92160"/>
          <a:ext cx="9144000" cy="667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2160"/>
                    <a:ext cx="9144000" cy="66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962520" y="2057400"/>
            <a:ext cx="9144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09480" y="609480"/>
          <a:ext cx="1590840" cy="174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609480"/>
                    <a:ext cx="159084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609480" y="4308480"/>
            <a:ext cx="1371600" cy="187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09480" y="609480"/>
          <a:ext cx="1609920" cy="1781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9480" y="609480"/>
                    <a:ext cx="16099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0" y="1523880"/>
          <a:ext cx="3571920" cy="420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23880"/>
                    <a:ext cx="3571920" cy="42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0" y="0"/>
          <a:ext cx="9144000" cy="579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0"/>
                    <a:ext cx="914400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457200" y="3429000"/>
            <a:ext cx="144792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9144000" cy="5715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0"/>
                    <a:ext cx="9144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981080" y="3429000"/>
            <a:ext cx="22860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49120" y="3429000"/>
          <a:ext cx="1731960" cy="196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9120" y="3429000"/>
                    <a:ext cx="1731960" cy="1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0" y="3733920"/>
            <a:ext cx="1905120" cy="228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-131760"/>
          <a:ext cx="9144000" cy="6075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0" y="-131760"/>
                    <a:ext cx="91440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208080" y="352584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5181480"/>
            <a:ext cx="914400" cy="228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0" y="0"/>
          <a:ext cx="9144000" cy="647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267080" y="1905120"/>
          <a:ext cx="1828800" cy="195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05120"/>
                    <a:ext cx="182880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6086520" y="3352680"/>
          <a:ext cx="2143080" cy="2028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6520" y="3352680"/>
                    <a:ext cx="2143080" cy="20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3560760" y="2209680"/>
          <a:ext cx="237960" cy="190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0760" y="2209680"/>
                    <a:ext cx="237960" cy="1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3429000" y="2438280"/>
          <a:ext cx="619200" cy="15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429000" y="2438280"/>
                    <a:ext cx="619200" cy="1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463920" y="2417760"/>
            <a:ext cx="6094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1520" y="23274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1905120"/>
            <a:ext cx="4419360" cy="35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-14400"/>
          <a:ext cx="9144000" cy="688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4400"/>
                    <a:ext cx="9144000" cy="688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0" y="1066680"/>
            <a:ext cx="4267080" cy="38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 flipV="1">
            <a:off x="3124080" y="3809520"/>
            <a:ext cx="533520" cy="6858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412040" y="504972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0120" y="56386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B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0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0" y="1066680"/>
          <a:ext cx="3600360" cy="451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066680"/>
                    <a:ext cx="3600360" cy="451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0" y="-380880"/>
            <a:ext cx="9144000" cy="59436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0" y="-380880"/>
            <a:ext cx="9144000" cy="601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249120" y="2122560"/>
            <a:ext cx="419040" cy="1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11:21:47Z</dcterms:created>
  <dc:creator>master gamal</dc:creator>
  <dc:description/>
  <dc:language>en-US</dc:language>
  <cp:lastModifiedBy>محمد سعد</cp:lastModifiedBy>
  <dcterms:modified xsi:type="dcterms:W3CDTF">2010-07-30T07:54:15Z</dcterms:modified>
  <cp:revision>16</cp:revision>
  <dc:subject/>
  <dc:title>Slide 1</dc:title>
</cp:coreProperties>
</file>