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FF3-0C25-446E-AE6E-EC3A7C87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5F8-26D5-476F-AB5B-3B44A73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3F0-0E11-4B68-87C6-B330BE9F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3EF-C809-46FE-8713-A3EEEB72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213-843C-44FC-80F5-8D91811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9BD-B665-4D4B-AA67-5F38300E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B30-85AC-42BB-9BB1-667090D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32C-DA4F-40AF-B01B-4589BC6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08C-1915-4D0D-AA09-535BB55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961-1AD3-4A72-89D2-16E2CD4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D9A-75F8-4176-BF27-96CFF13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D5C-9CCC-44F5-A347-D8B1104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265-26E0-479E-8A4C-F9C35166CE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37080" y="1523880"/>
            <a:ext cx="401400" cy="65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5800" y="762120"/>
            <a:ext cx="70866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6320" y="2133720"/>
            <a:ext cx="6553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3915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0" y="1447920"/>
          <a:ext cx="360036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360036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828800" y="3352680"/>
            <a:ext cx="129528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320" y="1295280"/>
          <a:ext cx="7027920" cy="40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1295280"/>
                    <a:ext cx="70279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209680" y="4343400"/>
            <a:ext cx="22100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320" y="1295280"/>
          <a:ext cx="7010280" cy="41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12952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9880" y="4724280"/>
            <a:ext cx="9907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762120"/>
          <a:ext cx="3962160" cy="45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762120"/>
                    <a:ext cx="39621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V="1">
            <a:off x="4780080" y="4038120"/>
            <a:ext cx="7596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759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2160"/>
          <a:ext cx="9144000" cy="66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160"/>
                    <a:ext cx="914400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962520" y="2057400"/>
            <a:ext cx="9144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609480"/>
          <a:ext cx="159084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480"/>
                    <a:ext cx="15908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09480" y="4308480"/>
            <a:ext cx="1371600" cy="18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609480"/>
          <a:ext cx="160992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609480"/>
                    <a:ext cx="16099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1523880"/>
          <a:ext cx="3571920" cy="42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357192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0"/>
          <a:ext cx="9144000" cy="579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3429000"/>
            <a:ext cx="14479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981080" y="3429000"/>
            <a:ext cx="228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9120" y="3429000"/>
          <a:ext cx="1731960" cy="19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120" y="3429000"/>
                    <a:ext cx="173196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3733920"/>
            <a:ext cx="19051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-131760"/>
          <a:ext cx="9144000" cy="607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-131760"/>
                    <a:ext cx="91440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08080" y="3525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181480"/>
            <a:ext cx="914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267080" y="1905120"/>
          <a:ext cx="1828800" cy="19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05120"/>
                    <a:ext cx="1828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86520" y="3352680"/>
          <a:ext cx="214308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6520" y="3352680"/>
                    <a:ext cx="214308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60760" y="2209680"/>
          <a:ext cx="237960" cy="19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0760" y="2209680"/>
                    <a:ext cx="23796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429000" y="2438280"/>
          <a:ext cx="619200" cy="1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438280"/>
                    <a:ext cx="61920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63920" y="241776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1520" y="2327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905120"/>
            <a:ext cx="441936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-14400"/>
          <a:ext cx="9144000" cy="68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0"/>
                    <a:ext cx="9144000" cy="68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066680"/>
            <a:ext cx="426708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V="1">
            <a:off x="3124080" y="380952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12040" y="50497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638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1066680"/>
          <a:ext cx="3600360" cy="451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36003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-38088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-380880"/>
            <a:ext cx="9144000" cy="601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49120" y="2122560"/>
            <a:ext cx="4190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1:21:47Z</dcterms:created>
  <dc:creator>master gamal</dc:creator>
  <dc:description/>
  <dc:language>en-US</dc:language>
  <cp:lastModifiedBy>محمد سعد</cp:lastModifiedBy>
  <dcterms:modified xsi:type="dcterms:W3CDTF">2010-07-30T07:54:15Z</dcterms:modified>
  <cp:revision>16</cp:revision>
  <dc:subject/>
  <dc:title>Slide 1</dc:title>
</cp:coreProperties>
</file>