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021C9-3AF6-41B3-8318-6FF01C62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C2975-7CB5-4378-B65A-D7F18664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7FF553-DA6F-4F08-ABAE-E19E1550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A4E599-3BA1-40E5-8BE5-7B7EB244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9D352A-3B30-420F-9547-38A22144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5ADE33-2AC0-4F9F-B326-6CE75F8A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A1FE81-4A9D-4A3C-A7EA-05D74AF0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242988-5592-4268-A4A3-A78085E4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C21C5D-61B4-4847-B41B-11DB81F2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83F72E-383A-4E6D-937C-8E71DE0C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D1444D-E2EE-40C1-B5EE-F94D3D95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2593B5-5CE8-4628-B9B0-7BABE599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3CFBC-56F9-4C24-A169-2AC5B0BB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EF2FA2-6FB8-4D2E-B3B9-DADE536C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F02691-D5DD-45DE-95C6-B6587877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E18584B-0CF5-48DB-A696-C912C223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E48C38-372E-44F0-9C76-BBAA8C51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F5B2BE-9689-4696-8E07-DDBE6374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1481D3-BE94-4D85-876B-7E07C7FB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5A471B1-8C50-48C1-80A7-B4CDB77D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EFCCA0-5B5D-4515-A31B-F4AFAB95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20E178-88B0-4AA5-BB31-B0C0AEAA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57F375-ED81-479A-8789-1113E22C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45D7A-2579-42DC-A56B-E07CE086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FDC9DD-0463-4FFF-BC59-E319E2D5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FF6126-2504-4905-86EC-A7A7B035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103427-5825-490D-B4FA-8E6EDD6F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64B6EE-7AC8-4EF9-9108-A32BA5A3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DFE2CF-DC4F-49E6-AAF4-2202686A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A387B9-31B2-45E9-9D75-8AE060E6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F2EE7D-BA2C-4627-A37B-7776235C2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DD70A1-365D-4D8A-9E8D-D9D1FC30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6BD6DE-8DAE-4F7A-872A-36007DD7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1BC208-7F67-417C-972B-6EA8626D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A581-AFF2-4C82-B3BC-353D8AF18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5031E3-F5E8-44EB-9621-D9E8D18F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96E3FC-7EF4-4755-93D9-6B49A53C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C43240-AB74-41F3-BBB7-206505D9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2C3135-C945-484F-A429-EFD6C08E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FBDE4ED-DCE0-418B-A156-391B26AD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2B1999-8A3A-4C10-AD2B-5E46A802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EF17B7-3423-4B6F-8D3E-EB91D3FC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A7ABF5E-B675-45C7-823B-D9AB7A97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A1A686-72B9-47ED-A601-8B0D467C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B65B0E-4601-4EE3-A7CC-CF55A6F5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8B3F7-7142-40F5-ABD8-3435FBC5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4ADD26-6423-4AB0-8CE1-2A09D2E9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9E2B44-AB4D-4BF0-9913-241F88BA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C654AB-8B8D-4855-921F-35AFB85F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6B3DE2-CC14-4551-BA85-ACAD8415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BE745C-885E-4F26-B925-2EF3BAF30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EE86-6D1D-40CB-A2BD-A3AA824D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0397-4B17-449E-BD28-5CDD2855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323A-FBBA-4BA3-927F-4A7A91DD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EF92-9F2A-4FC0-A6A8-FFE1F6DB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F050-76B5-4589-BA19-6C3BCFEB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C6266-2756-4AD8-8F61-89A5D072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6707-D694-4A2E-9F65-4EE23F99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D2B2-E976-46EE-BF77-42969139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944BB-F060-4D45-8945-652AE112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5F15-B44C-4DA7-AA16-605D8000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F36B7-F5BD-4F1E-87F3-3B830B659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105883-198D-483F-A9FB-97D5D6C5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59F8DC-B8B5-4434-8865-B1399C96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EC4B0-FE3A-49C1-81DD-41477451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8F230-0E3C-4052-9BD2-69C2C73B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DF0914-D2AA-4C12-94E4-C5AE2BC4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71DE4-4B9D-4A21-B31D-A161DD86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2241D9-D2FE-4EE8-AF89-2E9F9FDF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8A71D-6BAD-406F-9BF7-00742E6C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02178-28B4-4E7D-A1EA-B3597BD7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0CC33-EE4B-42AA-919F-FAEEFEDF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63C25-6FDE-4140-942D-1C9EFC2A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F22BD3-2A67-4D85-AF12-CFCB8216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F3B9B-E8F8-4806-908E-4F124F39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5F0D2E-07B2-42A7-8167-60397777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F81B04-BA1F-4974-90AC-2C289E605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37A3AF-5078-47ED-AA32-3478DC380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2C750-5C13-4CE3-9922-606E1EE6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E0F3F1-B041-4310-8DDA-8BD30776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92CCDF-567E-4FA0-9EE2-8216330F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635EE0-04FE-4C6B-B079-F2480582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B8A577-3572-4223-9906-A88A91AD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AD987A-C24B-48D6-9F5F-6EFF07C4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3935C9-E4D3-479E-9E80-7405EBC6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8F61C0-0E85-444A-8E5A-A7C344DE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FC7536-139A-416C-B995-31E7D32B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6C79D2-5A3B-48F2-B2FA-9B8EDD760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8E583C-9F63-45C5-8443-AD34646A8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6A6FF-5D33-49F2-AD40-E5EFD9F1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4D4E3-EA40-4217-AD6C-257A3185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BD45A-D1ED-4406-AC69-8AB8F8FE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076A93-D268-4FAF-A982-7DC6EAD4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14458B-69C0-4ACA-A3A9-51FBF610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4C1C90-68E0-455F-B6E4-5E0D93CC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73B87F-E332-4543-9097-3A3362FB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3E902-F0D7-437B-A3C2-73F6A435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767FEF-E5F0-43DF-AAA3-33EB1C27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EE51BB-1903-4F2A-A1FE-0F1CFE13E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5E5CAC-811D-42BE-9A74-45A40F51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4C4B7-F74D-4CAF-AB08-759A5BA9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43245-23E5-4090-B9C3-59D58E4C8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BCFE9E-B17E-4CF8-95CB-8301682D2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4E5AFF-CA89-4A68-B893-507CBA0D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8ABBA9-C935-42D8-BF09-0FB010B2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941CC6-CC1B-41A3-A1F3-9CF34951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68D556-E3F1-4B41-AB45-0B4067C7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9198C1-30C1-44F3-9B18-D10D72FB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19722F-11B5-40C3-9330-6A052011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4A2B82-A9E1-473C-97CE-7106013B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5B660C-B525-47C1-AAFF-AB2744C5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F8AA1-00D6-4718-97B4-9C3840A3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3368A0-83E7-4213-88D2-BA52A974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5D7AC8-0782-4FB9-B56D-E708A45B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106BDA-C898-40A2-9FAC-082CDDE6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A94B37-8E1C-46A5-8C93-8CE08092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C35562-3FCD-491E-9EB9-1265F137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4D7A3F-1885-4228-9D88-76AE87E9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8EAFC4-602C-41BB-90E8-26031CF9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6CF613-FE27-4DDE-B554-AB7BBEC1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A7D125-C4E1-4214-B13C-C2794A87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2DC433-3993-49C8-A6A5-27115DF2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E56DF-246A-4C3B-BE21-CDEB5478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CAF482-A067-45A0-82CE-59A967E0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EA83C3-CD6A-4874-B3FB-5EFA8FA4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86572-0F27-41EC-B41F-516F4D8D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CD9B83-EEC1-499E-8E2B-9F6EC6C01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7C1631-0788-48C0-851B-27F43359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528629-8887-4872-B8F1-99329338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58CA4D-9AA1-490D-94A1-0D0B7C71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1E9FC6-786E-4665-99B5-F1765354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5DC09C-BD44-4909-BA8A-6225E9C4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5D6771-4F9C-4DF7-BFF8-C1BCB19A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2C2D2-62D1-41E5-B72F-E99B35B9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3610A2-0A96-4F22-AFD4-5F926737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33EBF8-CC38-4834-B824-F7211A5A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9C8A0C-B83C-4367-8FBE-D17883B4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B0BDFD-E8CC-4C7B-9788-D10CC22D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24A1BB-BB81-4226-B58E-B39539C3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A624EC-F45B-45EF-A151-A2F60954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E0B453-2DE6-4CBB-ADBC-2D5ACB88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DAB63A-621F-44CD-8411-5AF5E8E5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411B64-38D5-4B66-BA53-2E3AD2D9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11EAEC-E9E7-4DBA-B9C5-05B0D1FF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2CD4-82F0-49C7-B524-30343F5D8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9DCC3-0E44-48AB-A32F-B056F095E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ftr" idx="30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15EA-95C2-451D-B65D-F558BF182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1C03-6E04-4BFF-9EE0-0492FD21E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8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d1d1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e0e0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8856-2ADE-4CC2-A887-E99079F7F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626A-B4B2-4BA5-9725-24F389DDF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4CB7-9EF4-431E-AA5B-DB28BCE44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A7BB-5E6E-4E99-8B69-F3F00FCF4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FE4D-59EE-4DC4-8D4A-9AEAD269E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73F2-B4D5-4F23-AFAF-978300F0F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0219-079C-4892-A713-A2765DA24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4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5180-1FAF-4FC5-A6CE-8C20CB354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ftr" idx="2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../Local%20Settings/Temp/Hinh%20chon/PP%20Hyperlink/Co%20che%20phu.ppt" TargetMode="External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hyperlink" Target="../Local%20Settings/Than/Powerpoint%20hyperlink/ANP.ppt" TargetMode="External"/><Relationship Id="rId5" Type="http://schemas.openxmlformats.org/officeDocument/2006/relationships/hyperlink" Target="../Local%20Settings/Than/Powerpoint%20hyperlink/Renin-Angi.ppt" TargetMode="External"/><Relationship Id="rId6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221436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ÁC KHOANG DỊCH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Text Box 4" descr=""/>
          <p:cNvPicPr/>
          <p:nvPr/>
        </p:nvPicPr>
        <p:blipFill>
          <a:blip r:embed="rId1"/>
          <a:stretch/>
        </p:blipFill>
        <p:spPr>
          <a:xfrm>
            <a:off x="-244440" y="171360"/>
            <a:ext cx="4084560" cy="682560"/>
          </a:xfrm>
          <a:prstGeom prst="rect">
            <a:avLst/>
          </a:prstGeom>
          <a:ln w="0">
            <a:noFill/>
          </a:ln>
        </p:spPr>
      </p:pic>
      <p:pic>
        <p:nvPicPr>
          <p:cNvPr id="592" name="Text Box 5" descr=""/>
          <p:cNvPicPr/>
          <p:nvPr/>
        </p:nvPicPr>
        <p:blipFill>
          <a:blip r:embed="rId2"/>
          <a:stretch/>
        </p:blipFill>
        <p:spPr>
          <a:xfrm>
            <a:off x="-171360" y="2170080"/>
            <a:ext cx="8602560" cy="689040"/>
          </a:xfrm>
          <a:prstGeom prst="rect">
            <a:avLst/>
          </a:prstGeom>
          <a:ln w="0">
            <a:noFill/>
          </a:ln>
        </p:spPr>
      </p:pic>
      <p:pic>
        <p:nvPicPr>
          <p:cNvPr id="593" name="Text Box 6" descr=""/>
          <p:cNvPicPr/>
          <p:nvPr/>
        </p:nvPicPr>
        <p:blipFill>
          <a:blip r:embed="rId3"/>
          <a:stretch/>
        </p:blipFill>
        <p:spPr>
          <a:xfrm>
            <a:off x="-208080" y="4121280"/>
            <a:ext cx="5797800" cy="68868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7"/>
          <p:cNvSpPr/>
          <p:nvPr/>
        </p:nvSpPr>
        <p:spPr>
          <a:xfrm>
            <a:off x="-36720" y="3254400"/>
            <a:ext cx="9292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00ff"/>
                </a:solidFill>
                <a:uFillTx/>
                <a:latin typeface="Tahoma"/>
                <a:hlinkClick r:id="rId4"/>
              </a:rPr>
              <a:t>(Pa + S) – (Pb + U)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ác động lên thành mao mạ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Text Box 8"/>
          <p:cNvSpPr/>
          <p:nvPr/>
        </p:nvSpPr>
        <p:spPr>
          <a:xfrm>
            <a:off x="-196920" y="5199120"/>
            <a:ext cx="946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rung gian ccấp oxy và chất ddưỡng cho tế bà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-117000" y="6149880"/>
            <a:ext cx="9261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Nhận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à những sản phẩm ch. hóa/ tế bà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97" name="Text Box 10" descr=""/>
          <p:cNvPicPr/>
          <p:nvPr/>
        </p:nvPicPr>
        <p:blipFill>
          <a:blip r:embed="rId5"/>
          <a:stretch/>
        </p:blipFill>
        <p:spPr>
          <a:xfrm>
            <a:off x="115920" y="1023840"/>
            <a:ext cx="3187800" cy="682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Text Box 4" descr=""/>
          <p:cNvPicPr/>
          <p:nvPr/>
        </p:nvPicPr>
        <p:blipFill>
          <a:blip r:embed="rId1"/>
          <a:stretch/>
        </p:blipFill>
        <p:spPr>
          <a:xfrm>
            <a:off x="-171360" y="244440"/>
            <a:ext cx="6883200" cy="68256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72000" y="1197000"/>
            <a:ext cx="697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C ddưỡng (Chylomicron) từ ÔT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Text Box 6"/>
          <p:cNvSpPr/>
          <p:nvPr/>
        </p:nvSpPr>
        <p:spPr>
          <a:xfrm>
            <a:off x="22680" y="3197160"/>
            <a:ext cx="9230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Đưa trở lại sys t.hoàn 1 lượng protein và dị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ừ khoang k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-55800" y="2189160"/>
            <a:ext cx="809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à con đường BC lympho tái tuần hoà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Text Box 9"/>
          <p:cNvSpPr/>
          <p:nvPr/>
        </p:nvSpPr>
        <p:spPr>
          <a:xfrm>
            <a:off x="800640" y="5084640"/>
            <a:ext cx="755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iểm soát [protein], V và P / khoang k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10"/>
          <p:cNvSpPr/>
          <p:nvPr/>
        </p:nvSpPr>
        <p:spPr>
          <a:xfrm>
            <a:off x="371520" y="5373720"/>
            <a:ext cx="53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Text Box 4" descr=""/>
          <p:cNvPicPr/>
          <p:nvPr/>
        </p:nvPicPr>
        <p:blipFill>
          <a:blip r:embed="rId1"/>
          <a:stretch/>
        </p:blipFill>
        <p:spPr>
          <a:xfrm>
            <a:off x="304920" y="244440"/>
            <a:ext cx="4505040" cy="682560"/>
          </a:xfrm>
          <a:prstGeom prst="rect">
            <a:avLst/>
          </a:prstGeom>
          <a:ln w="0">
            <a:noFill/>
          </a:ln>
        </p:spPr>
      </p:pic>
      <p:pic>
        <p:nvPicPr>
          <p:cNvPr id="605" name="Text Box 5" descr=""/>
          <p:cNvPicPr/>
          <p:nvPr/>
        </p:nvPicPr>
        <p:blipFill>
          <a:blip r:embed="rId2"/>
          <a:stretch/>
        </p:blipFill>
        <p:spPr>
          <a:xfrm>
            <a:off x="401760" y="890640"/>
            <a:ext cx="6091200" cy="68904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8"/>
          <p:cNvSpPr/>
          <p:nvPr/>
        </p:nvSpPr>
        <p:spPr>
          <a:xfrm>
            <a:off x="1455480" y="1412640"/>
            <a:ext cx="6933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không màu, tỉ trọng khoảng 1.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không protein  ( 20- 30 mg/dl 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hông tế bào (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5 BC  L/ m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# huyết tươ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cao hơn 15%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thấp hơn 4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ucose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ấp hơn 3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4"/>
          <p:cNvSpPr/>
          <p:nvPr/>
        </p:nvSpPr>
        <p:spPr>
          <a:xfrm>
            <a:off x="246600" y="1651320"/>
            <a:ext cx="655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đệm cho não trong hộp sọ cứ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8" name="Text Box 5" descr=""/>
          <p:cNvPicPr/>
          <p:nvPr/>
        </p:nvPicPr>
        <p:blipFill>
          <a:blip r:embed="rId1"/>
          <a:stretch/>
        </p:blipFill>
        <p:spPr>
          <a:xfrm>
            <a:off x="122400" y="268200"/>
            <a:ext cx="5321160" cy="682560"/>
          </a:xfrm>
          <a:prstGeom prst="rect">
            <a:avLst/>
          </a:prstGeom>
          <a:ln w="0">
            <a:noFill/>
          </a:ln>
        </p:spPr>
      </p:pic>
      <p:pic>
        <p:nvPicPr>
          <p:cNvPr id="609" name="Text Box 6" descr=""/>
          <p:cNvPicPr/>
          <p:nvPr/>
        </p:nvPicPr>
        <p:blipFill>
          <a:blip r:embed="rId2"/>
          <a:stretch/>
        </p:blipFill>
        <p:spPr>
          <a:xfrm>
            <a:off x="219240" y="963720"/>
            <a:ext cx="3322440" cy="689040"/>
          </a:xfrm>
          <a:prstGeom prst="rect">
            <a:avLst/>
          </a:prstGeom>
          <a:ln w="0">
            <a:noFill/>
          </a:ln>
        </p:spPr>
      </p:pic>
      <p:pic>
        <p:nvPicPr>
          <p:cNvPr id="610" name="Text Box 8" descr=""/>
          <p:cNvPicPr/>
          <p:nvPr/>
        </p:nvPicPr>
        <p:blipFill>
          <a:blip r:embed="rId3"/>
          <a:stretch/>
        </p:blipFill>
        <p:spPr>
          <a:xfrm>
            <a:off x="79200" y="3255840"/>
            <a:ext cx="4846680" cy="68292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9"/>
          <p:cNvSpPr/>
          <p:nvPr/>
        </p:nvSpPr>
        <p:spPr>
          <a:xfrm>
            <a:off x="214200" y="498780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ân bằng 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ài tiết &amp; hấp thu / thủy tinh dịch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45360" y="5921280"/>
            <a:ext cx="93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 và P/ dịch nhãn cầu luôn ổn định (15 mmHg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265320" y="2309040"/>
            <a:ext cx="81864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D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ích nghi với những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↕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V của hộp s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Text Box 10"/>
          <p:cNvSpPr/>
          <p:nvPr/>
        </p:nvSpPr>
        <p:spPr>
          <a:xfrm>
            <a:off x="32760" y="4130640"/>
            <a:ext cx="962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ằm trong ổ mắt và giữ cho ổ mắt luôn căng 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4" descr=""/>
          <p:cNvPicPr/>
          <p:nvPr/>
        </p:nvPicPr>
        <p:blipFill>
          <a:blip r:embed="rId1"/>
          <a:srcRect l="0" t="0" r="0" b="14554"/>
          <a:stretch/>
        </p:blipFill>
        <p:spPr>
          <a:xfrm>
            <a:off x="3000240" y="1714680"/>
            <a:ext cx="3000600" cy="5143320"/>
          </a:xfrm>
          <a:prstGeom prst="rect">
            <a:avLst/>
          </a:prstGeom>
          <a:ln w="0">
            <a:noFill/>
          </a:ln>
        </p:spPr>
      </p:pic>
      <p:pic>
        <p:nvPicPr>
          <p:cNvPr id="616" name="Text Box 5" descr=""/>
          <p:cNvPicPr/>
          <p:nvPr/>
        </p:nvPicPr>
        <p:blipFill>
          <a:blip r:embed="rId2"/>
          <a:stretch/>
        </p:blipFill>
        <p:spPr>
          <a:xfrm>
            <a:off x="-171360" y="171360"/>
            <a:ext cx="6791400" cy="682560"/>
          </a:xfrm>
          <a:prstGeom prst="rect">
            <a:avLst/>
          </a:prstGeom>
          <a:ln w="0">
            <a:noFill/>
          </a:ln>
        </p:spPr>
      </p:pic>
      <p:pic>
        <p:nvPicPr>
          <p:cNvPr id="617" name="Text Box 6" descr=""/>
          <p:cNvPicPr/>
          <p:nvPr/>
        </p:nvPicPr>
        <p:blipFill>
          <a:blip r:embed="rId3"/>
          <a:stretch/>
        </p:blipFill>
        <p:spPr>
          <a:xfrm>
            <a:off x="-128520" y="1103400"/>
            <a:ext cx="2944800" cy="689040"/>
          </a:xfrm>
          <a:prstGeom prst="rect">
            <a:avLst/>
          </a:prstGeom>
          <a:ln w="0">
            <a:noFill/>
          </a:ln>
        </p:spPr>
      </p:pic>
      <p:pic>
        <p:nvPicPr>
          <p:cNvPr id="618" name="Text Box 7" descr=""/>
          <p:cNvPicPr/>
          <p:nvPr/>
        </p:nvPicPr>
        <p:blipFill>
          <a:blip r:embed="rId4"/>
          <a:stretch/>
        </p:blipFill>
        <p:spPr>
          <a:xfrm>
            <a:off x="712800" y="2041560"/>
            <a:ext cx="1944720" cy="689040"/>
          </a:xfrm>
          <a:prstGeom prst="rect">
            <a:avLst/>
          </a:prstGeom>
          <a:ln w="0">
            <a:noFill/>
          </a:ln>
        </p:spPr>
      </p:pic>
      <p:pic>
        <p:nvPicPr>
          <p:cNvPr id="619" name="Text Box 28" descr=""/>
          <p:cNvPicPr/>
          <p:nvPr/>
        </p:nvPicPr>
        <p:blipFill>
          <a:blip r:embed="rId5"/>
          <a:stretch/>
        </p:blipFill>
        <p:spPr>
          <a:xfrm>
            <a:off x="-23760" y="4340160"/>
            <a:ext cx="2395440" cy="689040"/>
          </a:xfrm>
          <a:prstGeom prst="rect">
            <a:avLst/>
          </a:prstGeom>
          <a:ln w="0">
            <a:noFill/>
          </a:ln>
        </p:spPr>
      </p:pic>
      <p:pic>
        <p:nvPicPr>
          <p:cNvPr id="620" name="Text Box 6" descr=""/>
          <p:cNvPicPr/>
          <p:nvPr/>
        </p:nvPicPr>
        <p:blipFill>
          <a:blip r:embed="rId6"/>
          <a:stretch/>
        </p:blipFill>
        <p:spPr>
          <a:xfrm>
            <a:off x="2346480" y="1116000"/>
            <a:ext cx="7304040" cy="682560"/>
          </a:xfrm>
          <a:prstGeom prst="rect">
            <a:avLst/>
          </a:prstGeom>
          <a:ln w="0">
            <a:noFill/>
          </a:ln>
        </p:spPr>
      </p:pic>
      <p:pic>
        <p:nvPicPr>
          <p:cNvPr id="621" name="Text Box 7" descr=""/>
          <p:cNvPicPr/>
          <p:nvPr/>
        </p:nvPicPr>
        <p:blipFill>
          <a:blip r:embed="rId7"/>
          <a:stretch/>
        </p:blipFill>
        <p:spPr>
          <a:xfrm>
            <a:off x="719280" y="3127320"/>
            <a:ext cx="1725480" cy="682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Text Box 23" descr=""/>
          <p:cNvPicPr/>
          <p:nvPr/>
        </p:nvPicPr>
        <p:blipFill>
          <a:blip r:embed="rId1"/>
          <a:stretch/>
        </p:blipFill>
        <p:spPr>
          <a:xfrm>
            <a:off x="3382920" y="817560"/>
            <a:ext cx="2816280" cy="68724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24"/>
          <p:cNvSpPr/>
          <p:nvPr/>
        </p:nvSpPr>
        <p:spPr>
          <a:xfrm>
            <a:off x="1302840" y="191772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Đ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4" name="Text Box 25" descr=""/>
          <p:cNvPicPr/>
          <p:nvPr/>
        </p:nvPicPr>
        <p:blipFill>
          <a:blip r:embed="rId2"/>
          <a:stretch/>
        </p:blipFill>
        <p:spPr>
          <a:xfrm>
            <a:off x="3395520" y="5334120"/>
            <a:ext cx="2724120" cy="68868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26"/>
          <p:cNvSpPr/>
          <p:nvPr/>
        </p:nvSpPr>
        <p:spPr>
          <a:xfrm>
            <a:off x="6382800" y="4365720"/>
            <a:ext cx="166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↓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Đ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Text Box 27"/>
          <p:cNvSpPr/>
          <p:nvPr/>
        </p:nvSpPr>
        <p:spPr>
          <a:xfrm>
            <a:off x="385920" y="30542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K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á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Text Box 28"/>
          <p:cNvSpPr/>
          <p:nvPr/>
        </p:nvSpPr>
        <p:spPr>
          <a:xfrm>
            <a:off x="2470680" y="3068640"/>
            <a:ext cx="14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Text Box 29"/>
          <p:cNvSpPr/>
          <p:nvPr/>
        </p:nvSpPr>
        <p:spPr>
          <a:xfrm>
            <a:off x="362520" y="4365720"/>
            <a:ext cx="12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ố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Text Box 30"/>
          <p:cNvSpPr/>
          <p:nvPr/>
        </p:nvSpPr>
        <p:spPr>
          <a:xfrm>
            <a:off x="2122560" y="4379760"/>
            <a:ext cx="23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g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ữ nướ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Text Box 31"/>
          <p:cNvSpPr/>
          <p:nvPr/>
        </p:nvSpPr>
        <p:spPr>
          <a:xfrm>
            <a:off x="7356240" y="3139920"/>
            <a:ext cx="14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Text Box 32"/>
          <p:cNvSpPr/>
          <p:nvPr/>
        </p:nvSpPr>
        <p:spPr>
          <a:xfrm>
            <a:off x="5190480" y="1859040"/>
            <a:ext cx="16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uố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Text Box 33"/>
          <p:cNvSpPr/>
          <p:nvPr/>
        </p:nvSpPr>
        <p:spPr>
          <a:xfrm>
            <a:off x="5303880" y="3139920"/>
            <a:ext cx="18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ết khá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Text Box 34"/>
          <p:cNvSpPr/>
          <p:nvPr/>
        </p:nvSpPr>
        <p:spPr>
          <a:xfrm>
            <a:off x="6936840" y="1844640"/>
            <a:ext cx="24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ải nướ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Line 35"/>
          <p:cNvSpPr/>
          <p:nvPr/>
        </p:nvSpPr>
        <p:spPr>
          <a:xfrm flipH="1">
            <a:off x="1979280" y="1197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Line 36"/>
          <p:cNvSpPr/>
          <p:nvPr/>
        </p:nvSpPr>
        <p:spPr>
          <a:xfrm>
            <a:off x="1979640" y="119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Line 37"/>
          <p:cNvSpPr/>
          <p:nvPr/>
        </p:nvSpPr>
        <p:spPr>
          <a:xfrm flipH="1">
            <a:off x="1186920" y="242100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Line 38"/>
          <p:cNvSpPr/>
          <p:nvPr/>
        </p:nvSpPr>
        <p:spPr>
          <a:xfrm>
            <a:off x="1979640" y="2421000"/>
            <a:ext cx="792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Line 39"/>
          <p:cNvSpPr/>
          <p:nvPr/>
        </p:nvSpPr>
        <p:spPr>
          <a:xfrm>
            <a:off x="826920" y="3573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Line 40"/>
          <p:cNvSpPr/>
          <p:nvPr/>
        </p:nvSpPr>
        <p:spPr>
          <a:xfrm>
            <a:off x="3203640" y="3573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Line 41"/>
          <p:cNvSpPr/>
          <p:nvPr/>
        </p:nvSpPr>
        <p:spPr>
          <a:xfrm>
            <a:off x="900000" y="486900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Line 42"/>
          <p:cNvSpPr/>
          <p:nvPr/>
        </p:nvSpPr>
        <p:spPr>
          <a:xfrm>
            <a:off x="900000" y="5734080"/>
            <a:ext cx="266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Line 43"/>
          <p:cNvSpPr/>
          <p:nvPr/>
        </p:nvSpPr>
        <p:spPr>
          <a:xfrm>
            <a:off x="2771640" y="486900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Line 44"/>
          <p:cNvSpPr/>
          <p:nvPr/>
        </p:nvSpPr>
        <p:spPr>
          <a:xfrm>
            <a:off x="5508720" y="573408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Line 45"/>
          <p:cNvSpPr/>
          <p:nvPr/>
        </p:nvSpPr>
        <p:spPr>
          <a:xfrm flipV="1">
            <a:off x="7164360" y="4941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Line 46"/>
          <p:cNvSpPr/>
          <p:nvPr/>
        </p:nvSpPr>
        <p:spPr>
          <a:xfrm flipH="1" flipV="1">
            <a:off x="6227640" y="3717720"/>
            <a:ext cx="8654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Line 47"/>
          <p:cNvSpPr/>
          <p:nvPr/>
        </p:nvSpPr>
        <p:spPr>
          <a:xfrm flipV="1">
            <a:off x="7093080" y="364500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Line 48"/>
          <p:cNvSpPr/>
          <p:nvPr/>
        </p:nvSpPr>
        <p:spPr>
          <a:xfrm flipV="1">
            <a:off x="6084720" y="2421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Line 49"/>
          <p:cNvSpPr/>
          <p:nvPr/>
        </p:nvSpPr>
        <p:spPr>
          <a:xfrm flipV="1">
            <a:off x="7956720" y="2421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Line 50"/>
          <p:cNvSpPr/>
          <p:nvPr/>
        </p:nvSpPr>
        <p:spPr>
          <a:xfrm flipV="1">
            <a:off x="7956720" y="1198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51"/>
          <p:cNvSpPr/>
          <p:nvPr/>
        </p:nvSpPr>
        <p:spPr>
          <a:xfrm flipH="1">
            <a:off x="5724000" y="119844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52"/>
          <p:cNvSpPr/>
          <p:nvPr/>
        </p:nvSpPr>
        <p:spPr>
          <a:xfrm flipV="1">
            <a:off x="6156360" y="1197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2" name="Text Box 53" descr=""/>
          <p:cNvPicPr/>
          <p:nvPr/>
        </p:nvPicPr>
        <p:blipFill>
          <a:blip r:embed="rId3"/>
          <a:stretch/>
        </p:blipFill>
        <p:spPr>
          <a:xfrm>
            <a:off x="-171360" y="171360"/>
            <a:ext cx="7615080" cy="682560"/>
          </a:xfrm>
          <a:prstGeom prst="rect">
            <a:avLst/>
          </a:prstGeom>
          <a:ln w="0">
            <a:noFill/>
          </a:ln>
        </p:spPr>
      </p:pic>
      <p:pic>
        <p:nvPicPr>
          <p:cNvPr id="653" name="Text Box 54" descr=""/>
          <p:cNvPicPr/>
          <p:nvPr/>
        </p:nvPicPr>
        <p:blipFill>
          <a:blip r:embed="rId4"/>
          <a:stretch/>
        </p:blipFill>
        <p:spPr>
          <a:xfrm>
            <a:off x="1444680" y="6076800"/>
            <a:ext cx="7504200" cy="684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Text Box 4" descr=""/>
          <p:cNvPicPr/>
          <p:nvPr/>
        </p:nvPicPr>
        <p:blipFill>
          <a:blip r:embed="rId1"/>
          <a:stretch/>
        </p:blipFill>
        <p:spPr>
          <a:xfrm>
            <a:off x="-171360" y="171360"/>
            <a:ext cx="3957480" cy="682560"/>
          </a:xfrm>
          <a:prstGeom prst="rect">
            <a:avLst/>
          </a:prstGeom>
          <a:ln w="0">
            <a:noFill/>
          </a:ln>
        </p:spPr>
      </p:pic>
      <p:pic>
        <p:nvPicPr>
          <p:cNvPr id="655" name="Text Box 5" descr=""/>
          <p:cNvPicPr/>
          <p:nvPr/>
        </p:nvPicPr>
        <p:blipFill>
          <a:blip r:embed="rId2"/>
          <a:stretch/>
        </p:blipFill>
        <p:spPr>
          <a:xfrm>
            <a:off x="401760" y="1103400"/>
            <a:ext cx="5700600" cy="689040"/>
          </a:xfrm>
          <a:prstGeom prst="rect">
            <a:avLst/>
          </a:prstGeom>
          <a:ln w="0">
            <a:noFill/>
          </a:ln>
        </p:spPr>
      </p:pic>
      <p:pic>
        <p:nvPicPr>
          <p:cNvPr id="656" name="Text Box 6" descr=""/>
          <p:cNvPicPr/>
          <p:nvPr/>
        </p:nvPicPr>
        <p:blipFill>
          <a:blip r:embed="rId3"/>
          <a:stretch/>
        </p:blipFill>
        <p:spPr>
          <a:xfrm>
            <a:off x="401760" y="1878120"/>
            <a:ext cx="6522840" cy="68904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7"/>
          <p:cNvSpPr/>
          <p:nvPr/>
        </p:nvSpPr>
        <p:spPr>
          <a:xfrm>
            <a:off x="874440" y="2765520"/>
            <a:ext cx="60908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3200" spc="-1" strike="noStrike" u="sng">
                <a:solidFill>
                  <a:srgbClr val="6600ff"/>
                </a:solidFill>
                <a:uFillTx/>
                <a:latin typeface="Tahoma"/>
                <a:hlinkClick r:id="rId4"/>
              </a:rPr>
              <a:t>AN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Atrial Natriuretic pepti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8"/>
          <p:cNvSpPr/>
          <p:nvPr/>
        </p:nvSpPr>
        <p:spPr>
          <a:xfrm>
            <a:off x="927000" y="3701880"/>
            <a:ext cx="67521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Renin –Angiotensin system = </a:t>
            </a:r>
            <a:r>
              <a:rPr b="0" lang="en-US" sz="3200" spc="-1" strike="noStrike" u="sng">
                <a:solidFill>
                  <a:srgbClr val="6600ff"/>
                </a:solidFill>
                <a:uFillTx/>
                <a:latin typeface="Tahoma"/>
                <a:hlinkClick r:id="rId5"/>
              </a:rPr>
              <a:t>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Text Box 4" descr=""/>
          <p:cNvPicPr/>
          <p:nvPr/>
        </p:nvPicPr>
        <p:blipFill>
          <a:blip r:embed="rId1"/>
          <a:stretch/>
        </p:blipFill>
        <p:spPr>
          <a:xfrm>
            <a:off x="3067200" y="5510160"/>
            <a:ext cx="3236760" cy="9270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4" descr=""/>
          <p:cNvPicPr/>
          <p:nvPr/>
        </p:nvPicPr>
        <p:blipFill>
          <a:blip r:embed="rId2"/>
          <a:stretch/>
        </p:blipFill>
        <p:spPr>
          <a:xfrm>
            <a:off x="0" y="-71280"/>
            <a:ext cx="9144000" cy="55242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ext Box 4" descr=""/>
          <p:cNvPicPr/>
          <p:nvPr/>
        </p:nvPicPr>
        <p:blipFill>
          <a:blip r:embed="rId1"/>
          <a:stretch/>
        </p:blipFill>
        <p:spPr>
          <a:xfrm>
            <a:off x="-201600" y="298440"/>
            <a:ext cx="3078000" cy="75564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5"/>
          <p:cNvSpPr/>
          <p:nvPr/>
        </p:nvSpPr>
        <p:spPr>
          <a:xfrm>
            <a:off x="-109080" y="1477800"/>
            <a:ext cx="85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X</a:t>
            </a:r>
            <a:r>
              <a:rPr b="0" lang="vi-VN" sz="3200" spc="-1" strike="noStrike">
                <a:solidFill>
                  <a:srgbClr val="000000"/>
                </a:solidFill>
                <a:latin typeface="Tahoma"/>
              </a:rPr>
              <a:t>đị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h % dịch phân bố ở từng ng</a:t>
            </a:r>
            <a:r>
              <a:rPr b="0" lang="vi-VN" sz="3200" spc="-1" strike="noStrike">
                <a:solidFill>
                  <a:srgbClr val="000000"/>
                </a:solidFill>
                <a:latin typeface="Tahoma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/c</a:t>
            </a:r>
            <a:r>
              <a:rPr b="0" lang="vi-VN" sz="3200" spc="-1" strike="noStrike">
                <a:solidFill>
                  <a:srgbClr val="000000"/>
                </a:solidFill>
                <a:latin typeface="Tahoma"/>
              </a:rPr>
              <a:t>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-121320" y="2476440"/>
            <a:ext cx="66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Chức ng</a:t>
            </a:r>
            <a:r>
              <a:rPr b="0" lang="vi-VN" sz="3200" spc="-1" strike="noStrike">
                <a:solidFill>
                  <a:srgbClr val="000000"/>
                </a:solidFill>
                <a:latin typeface="Tahoma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của từng ng</a:t>
            </a:r>
            <a:r>
              <a:rPr b="0" lang="vi-VN" sz="3200" spc="-1" strike="noStrike">
                <a:solidFill>
                  <a:srgbClr val="000000"/>
                </a:solidFill>
                <a:latin typeface="Tahoma"/>
              </a:rPr>
              <a:t>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 dị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-100440" y="3548160"/>
            <a:ext cx="92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Fs tham gia </a:t>
            </a:r>
            <a:r>
              <a:rPr b="0" lang="vi-VN" sz="3200" spc="-1" strike="noStrike">
                <a:solidFill>
                  <a:srgbClr val="000000"/>
                </a:solidFill>
                <a:latin typeface="Tahoma"/>
              </a:rPr>
              <a:t>đ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ều hòa thể tích và NĐTT/ c</a:t>
            </a:r>
            <a:r>
              <a:rPr b="0" lang="vi-VN" sz="3200" spc="-1" strike="noStrike">
                <a:solidFill>
                  <a:srgbClr val="000000"/>
                </a:solidFill>
                <a:latin typeface="Tahoma"/>
              </a:rPr>
              <a:t>ơ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Text Box 4" descr=""/>
          <p:cNvPicPr/>
          <p:nvPr/>
        </p:nvPicPr>
        <p:blipFill>
          <a:blip r:embed="rId1"/>
          <a:stretch/>
        </p:blipFill>
        <p:spPr>
          <a:xfrm>
            <a:off x="-171360" y="152280"/>
            <a:ext cx="9212040" cy="68292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5"/>
          <p:cNvSpPr/>
          <p:nvPr/>
        </p:nvSpPr>
        <p:spPr>
          <a:xfrm>
            <a:off x="548280" y="1103400"/>
            <a:ext cx="839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1.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Hai nguồn nhập nước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chính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 2300ml/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358560" y="3103560"/>
            <a:ext cx="744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.2. Bốn đường mất nước: 2300ml/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881280" y="1808280"/>
            <a:ext cx="44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iêu hóa:    2100ml/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Text Box 8"/>
          <p:cNvSpPr/>
          <p:nvPr/>
        </p:nvSpPr>
        <p:spPr>
          <a:xfrm>
            <a:off x="806400" y="2455920"/>
            <a:ext cx="449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huyển hóa: 200ml/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Text Box 9"/>
          <p:cNvSpPr/>
          <p:nvPr/>
        </p:nvSpPr>
        <p:spPr>
          <a:xfrm>
            <a:off x="848520" y="3753000"/>
            <a:ext cx="47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Urine: 1200- 1500 ml/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Text Box 10"/>
          <p:cNvSpPr/>
          <p:nvPr/>
        </p:nvSpPr>
        <p:spPr>
          <a:xfrm>
            <a:off x="831240" y="4400640"/>
            <a:ext cx="31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Phân: 200ml/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 Box 11"/>
          <p:cNvSpPr/>
          <p:nvPr/>
        </p:nvSpPr>
        <p:spPr>
          <a:xfrm>
            <a:off x="848160" y="5062680"/>
            <a:ext cx="46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Hô hấp: 300- 400 ml/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Text Box 12"/>
          <p:cNvSpPr/>
          <p:nvPr/>
        </p:nvSpPr>
        <p:spPr>
          <a:xfrm>
            <a:off x="834840" y="576756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Mồ hôi: 300- 400 ml/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ext Box 4" descr=""/>
          <p:cNvPicPr/>
          <p:nvPr/>
        </p:nvPicPr>
        <p:blipFill>
          <a:blip r:embed="rId1"/>
          <a:stretch/>
        </p:blipFill>
        <p:spPr>
          <a:xfrm>
            <a:off x="-208080" y="128520"/>
            <a:ext cx="5121360" cy="68256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5"/>
          <p:cNvSpPr/>
          <p:nvPr/>
        </p:nvSpPr>
        <p:spPr>
          <a:xfrm>
            <a:off x="1955880" y="1397160"/>
            <a:ext cx="519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gười trưởng thành: 50k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2210760" y="211788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ịch cơ thể (30lít # 60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Text Box 8"/>
          <p:cNvSpPr/>
          <p:nvPr/>
        </p:nvSpPr>
        <p:spPr>
          <a:xfrm>
            <a:off x="749880" y="3054240"/>
            <a:ext cx="29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CF(20 l # 40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Text Box 9"/>
          <p:cNvSpPr/>
          <p:nvPr/>
        </p:nvSpPr>
        <p:spPr>
          <a:xfrm>
            <a:off x="3418200" y="3909960"/>
            <a:ext cx="2597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sm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3,3 l # 6,6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Text Box 10"/>
          <p:cNvSpPr/>
          <p:nvPr/>
        </p:nvSpPr>
        <p:spPr>
          <a:xfrm>
            <a:off x="166320" y="893880"/>
            <a:ext cx="21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♦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ân bố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Text Box 11"/>
          <p:cNvSpPr/>
          <p:nvPr/>
        </p:nvSpPr>
        <p:spPr>
          <a:xfrm>
            <a:off x="200520" y="5373720"/>
            <a:ext cx="583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Chất không điện giải: ưu thế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Text Box 12"/>
          <p:cNvSpPr/>
          <p:nvPr/>
        </p:nvSpPr>
        <p:spPr>
          <a:xfrm>
            <a:off x="519120" y="6078600"/>
            <a:ext cx="863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- Chất đgiải:qđịnh tính thẩm thấu/dịch bod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4848120" y="3035160"/>
            <a:ext cx="30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F(10 l # 20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Text Box 14"/>
          <p:cNvSpPr/>
          <p:nvPr/>
        </p:nvSpPr>
        <p:spPr>
          <a:xfrm>
            <a:off x="6008400" y="3924360"/>
            <a:ext cx="2831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ịch kẽ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6,7 l # 13,3%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72080" y="4710240"/>
            <a:ext cx="25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♦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i nhó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Line 16"/>
          <p:cNvSpPr/>
          <p:nvPr/>
        </p:nvSpPr>
        <p:spPr>
          <a:xfrm flipH="1">
            <a:off x="2734920" y="2637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Line 17"/>
          <p:cNvSpPr/>
          <p:nvPr/>
        </p:nvSpPr>
        <p:spPr>
          <a:xfrm>
            <a:off x="3816360" y="2637000"/>
            <a:ext cx="934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Line 18"/>
          <p:cNvSpPr/>
          <p:nvPr/>
        </p:nvSpPr>
        <p:spPr>
          <a:xfrm flipH="1">
            <a:off x="4463640" y="357336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Line 19"/>
          <p:cNvSpPr/>
          <p:nvPr/>
        </p:nvSpPr>
        <p:spPr>
          <a:xfrm>
            <a:off x="5545080" y="3573360"/>
            <a:ext cx="934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Text Box 4" descr=""/>
          <p:cNvPicPr/>
          <p:nvPr/>
        </p:nvPicPr>
        <p:blipFill>
          <a:blip r:embed="rId1"/>
          <a:stretch/>
        </p:blipFill>
        <p:spPr>
          <a:xfrm>
            <a:off x="-219240" y="317520"/>
            <a:ext cx="9114120" cy="68256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5"/>
          <p:cNvSpPr/>
          <p:nvPr/>
        </p:nvSpPr>
        <p:spPr>
          <a:xfrm>
            <a:off x="43920" y="3908520"/>
            <a:ext cx="76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ó sự cân bằng về NĐTT / ICF và EC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Text Box 6"/>
          <p:cNvSpPr/>
          <p:nvPr/>
        </p:nvSpPr>
        <p:spPr>
          <a:xfrm>
            <a:off x="-720" y="4778280"/>
            <a:ext cx="494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hi có sự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ĐTT/ EC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-61560" y="5707080"/>
            <a:ext cx="606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♦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ân bằng mới được thiết lậ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5927400" y="4778280"/>
            <a:ext cx="25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↨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ĐTT/ IC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Line 9"/>
          <p:cNvSpPr/>
          <p:nvPr/>
        </p:nvSpPr>
        <p:spPr>
          <a:xfrm>
            <a:off x="4995720" y="50817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5" name="Text Box 10" descr=""/>
          <p:cNvPicPr/>
          <p:nvPr/>
        </p:nvPicPr>
        <p:blipFill>
          <a:blip r:embed="rId2"/>
          <a:stretch/>
        </p:blipFill>
        <p:spPr>
          <a:xfrm>
            <a:off x="-36360" y="1103400"/>
            <a:ext cx="7351560" cy="68904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11"/>
          <p:cNvSpPr/>
          <p:nvPr/>
        </p:nvSpPr>
        <p:spPr>
          <a:xfrm>
            <a:off x="195480" y="2044800"/>
            <a:ext cx="92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ĐT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ECF là: 285 mosmol.10L= 2850 mosm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200880" y="2908440"/>
            <a:ext cx="91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ĐT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/ICF là: 285 mosmol.20L= 5700 mosm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13"/>
          <p:cNvSpPr/>
          <p:nvPr/>
        </p:nvSpPr>
        <p:spPr>
          <a:xfrm>
            <a:off x="-142920" y="2276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14"/>
          <p:cNvSpPr/>
          <p:nvPr/>
        </p:nvSpPr>
        <p:spPr>
          <a:xfrm>
            <a:off x="-142920" y="3139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4"/>
          <p:cNvSpPr/>
          <p:nvPr/>
        </p:nvSpPr>
        <p:spPr>
          <a:xfrm>
            <a:off x="1734120" y="3241800"/>
            <a:ext cx="59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ĐTT ở 2 ngăn đạt giá trị mớ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762840" y="1081080"/>
            <a:ext cx="261288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CF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ấ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l - (2/3 x 6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16 lí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4644000" y="1062000"/>
            <a:ext cx="2913120" cy="21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ECF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ấ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10 l – (1/3 x 6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= 8 lí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Line 9"/>
          <p:cNvSpPr/>
          <p:nvPr/>
        </p:nvSpPr>
        <p:spPr>
          <a:xfrm flipH="1">
            <a:off x="2787120" y="66348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10"/>
          <p:cNvSpPr/>
          <p:nvPr/>
        </p:nvSpPr>
        <p:spPr>
          <a:xfrm>
            <a:off x="3868560" y="663480"/>
            <a:ext cx="935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2206800" y="71280"/>
            <a:ext cx="402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: BN mất 6 L nướ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Line 15"/>
          <p:cNvSpPr/>
          <p:nvPr/>
        </p:nvSpPr>
        <p:spPr>
          <a:xfrm>
            <a:off x="539640" y="35449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17"/>
              <p:cNvSpPr txBox="1"/>
              <p:nvPr/>
            </p:nvSpPr>
            <p:spPr>
              <a:xfrm>
                <a:off x="106200" y="4091040"/>
                <a:ext cx="892980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C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C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7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50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mosmol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8" name="Rectangle 13"/>
          <p:cNvSpPr/>
          <p:nvPr/>
        </p:nvSpPr>
        <p:spPr>
          <a:xfrm>
            <a:off x="0" y="5784480"/>
            <a:ext cx="90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  <a:ea typeface="Times New Roman"/>
              </a:rPr>
              <a:t>Tóm lại: Để duy trì tính hằng định/ NĐTT ICF, phải có cơ chế đ.hòa V, NĐTT/ EC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Text Box 4" descr=""/>
          <p:cNvPicPr/>
          <p:nvPr/>
        </p:nvPicPr>
        <p:blipFill>
          <a:blip r:embed="rId1"/>
          <a:stretch/>
        </p:blipFill>
        <p:spPr>
          <a:xfrm>
            <a:off x="-139680" y="49320"/>
            <a:ext cx="7765920" cy="60300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5"/>
          <p:cNvSpPr/>
          <p:nvPr/>
        </p:nvSpPr>
        <p:spPr>
          <a:xfrm>
            <a:off x="276840" y="549360"/>
            <a:ext cx="86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điện tích anions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điện tích cations ở từng ngă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826920" y="1087560"/>
          <a:ext cx="7129800" cy="5898960"/>
        </p:xfrm>
        <a:graphic>
          <a:graphicData uri="http://schemas.openxmlformats.org/drawingml/2006/table">
            <a:tbl>
              <a:tblPr/>
              <a:tblGrid>
                <a:gridCol w="2802240"/>
                <a:gridCol w="2163600"/>
                <a:gridCol w="2163960"/>
              </a:tblGrid>
              <a:tr h="77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ành phầ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sma    (mOsmol/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ịch kẽ    (mOsmol/l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TỔNG CỘ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r>
                        <a:rPr b="0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CO</a:t>
                      </a:r>
                      <a:r>
                        <a:rPr b="0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0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3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ei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id hữu c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Text Box 4" descr=""/>
          <p:cNvPicPr/>
          <p:nvPr/>
        </p:nvPicPr>
        <p:blipFill>
          <a:blip r:embed="rId1"/>
          <a:stretch/>
        </p:blipFill>
        <p:spPr>
          <a:xfrm>
            <a:off x="-171360" y="171360"/>
            <a:ext cx="4011480" cy="68256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5"/>
          <p:cNvSpPr/>
          <p:nvPr/>
        </p:nvSpPr>
        <p:spPr>
          <a:xfrm>
            <a:off x="1689480" y="2852640"/>
            <a:ext cx="7016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HCl + 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 Na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4" name="Text Box 6" descr=""/>
          <p:cNvPicPr/>
          <p:nvPr/>
        </p:nvPicPr>
        <p:blipFill>
          <a:blip r:embed="rId2"/>
          <a:stretch/>
        </p:blipFill>
        <p:spPr>
          <a:xfrm>
            <a:off x="401760" y="957240"/>
            <a:ext cx="8534160" cy="14256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7"/>
          <p:cNvSpPr/>
          <p:nvPr/>
        </p:nvSpPr>
        <p:spPr>
          <a:xfrm>
            <a:off x="5052600" y="4278240"/>
            <a:ext cx="139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↑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Line 8"/>
          <p:cNvSpPr/>
          <p:nvPr/>
        </p:nvSpPr>
        <p:spPr>
          <a:xfrm>
            <a:off x="5365800" y="314172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6426720" y="4278240"/>
            <a:ext cx="1040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7026480" y="3414600"/>
            <a:ext cx="214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 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11"/>
          <p:cNvSpPr/>
          <p:nvPr/>
        </p:nvSpPr>
        <p:spPr>
          <a:xfrm>
            <a:off x="608472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Freeform 12"/>
          <p:cNvSpPr/>
          <p:nvPr/>
        </p:nvSpPr>
        <p:spPr>
          <a:xfrm>
            <a:off x="5578560" y="3930480"/>
            <a:ext cx="1079280" cy="433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Freeform 15"/>
          <p:cNvSpPr/>
          <p:nvPr/>
        </p:nvSpPr>
        <p:spPr>
          <a:xfrm>
            <a:off x="6084720" y="3463920"/>
            <a:ext cx="863640" cy="252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 Box 16"/>
          <p:cNvSpPr/>
          <p:nvPr/>
        </p:nvSpPr>
        <p:spPr>
          <a:xfrm>
            <a:off x="2208240" y="3917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ext Box 17"/>
          <p:cNvSpPr/>
          <p:nvPr/>
        </p:nvSpPr>
        <p:spPr>
          <a:xfrm>
            <a:off x="2423880" y="4133880"/>
            <a:ext cx="2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Text Box 18"/>
          <p:cNvSpPr/>
          <p:nvPr/>
        </p:nvSpPr>
        <p:spPr>
          <a:xfrm>
            <a:off x="1885680" y="4005360"/>
            <a:ext cx="24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hịp thở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↑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Text Box 19"/>
          <p:cNvSpPr/>
          <p:nvPr/>
        </p:nvSpPr>
        <p:spPr>
          <a:xfrm>
            <a:off x="1917360" y="4710240"/>
            <a:ext cx="24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ài tiết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Freeform 20"/>
          <p:cNvSpPr/>
          <p:nvPr/>
        </p:nvSpPr>
        <p:spPr>
          <a:xfrm>
            <a:off x="4211640" y="4365720"/>
            <a:ext cx="936720" cy="431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Text Box 22"/>
          <p:cNvSpPr/>
          <p:nvPr/>
        </p:nvSpPr>
        <p:spPr>
          <a:xfrm>
            <a:off x="1613880" y="5646600"/>
            <a:ext cx="7368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NaOH 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Na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Line 23"/>
          <p:cNvSpPr/>
          <p:nvPr/>
        </p:nvSpPr>
        <p:spPr>
          <a:xfrm>
            <a:off x="5364000" y="59500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Text Box 24"/>
          <p:cNvSpPr/>
          <p:nvPr/>
        </p:nvSpPr>
        <p:spPr>
          <a:xfrm>
            <a:off x="7484400" y="6305400"/>
            <a:ext cx="11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ậ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Freeform 26"/>
          <p:cNvSpPr/>
          <p:nvPr/>
        </p:nvSpPr>
        <p:spPr>
          <a:xfrm>
            <a:off x="6541920" y="6235560"/>
            <a:ext cx="949320" cy="371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0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Text Box 4" descr=""/>
          <p:cNvPicPr/>
          <p:nvPr/>
        </p:nvPicPr>
        <p:blipFill>
          <a:blip r:embed="rId1"/>
          <a:stretch/>
        </p:blipFill>
        <p:spPr>
          <a:xfrm>
            <a:off x="-171360" y="171360"/>
            <a:ext cx="4835520" cy="68256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5"/>
          <p:cNvSpPr/>
          <p:nvPr/>
        </p:nvSpPr>
        <p:spPr>
          <a:xfrm>
            <a:off x="576360" y="2852640"/>
            <a:ext cx="7567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HCl +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 Na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3" name="Text Box 6" descr=""/>
          <p:cNvPicPr/>
          <p:nvPr/>
        </p:nvPicPr>
        <p:blipFill>
          <a:blip r:embed="rId2"/>
          <a:stretch/>
        </p:blipFill>
        <p:spPr>
          <a:xfrm>
            <a:off x="401760" y="957240"/>
            <a:ext cx="8754840" cy="1425600"/>
          </a:xfrm>
          <a:prstGeom prst="rect">
            <a:avLst/>
          </a:prstGeom>
          <a:ln w="0">
            <a:noFill/>
          </a:ln>
        </p:spPr>
      </p:pic>
      <p:sp>
        <p:nvSpPr>
          <p:cNvPr id="584" name="Text Box 8"/>
          <p:cNvSpPr/>
          <p:nvPr/>
        </p:nvSpPr>
        <p:spPr>
          <a:xfrm>
            <a:off x="534240" y="4724280"/>
            <a:ext cx="8124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NaOH 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N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P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Text Box 9"/>
          <p:cNvSpPr/>
          <p:nvPr/>
        </p:nvSpPr>
        <p:spPr>
          <a:xfrm>
            <a:off x="7052760" y="5502240"/>
            <a:ext cx="11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ậ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Freeform 10"/>
          <p:cNvSpPr/>
          <p:nvPr/>
        </p:nvSpPr>
        <p:spPr>
          <a:xfrm>
            <a:off x="6110280" y="5432400"/>
            <a:ext cx="949320" cy="371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6624000" y="3498840"/>
            <a:ext cx="113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ậ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Freeform 12"/>
          <p:cNvSpPr/>
          <p:nvPr/>
        </p:nvSpPr>
        <p:spPr>
          <a:xfrm>
            <a:off x="5681520" y="3429000"/>
            <a:ext cx="949320" cy="371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Line 13"/>
          <p:cNvSpPr/>
          <p:nvPr/>
        </p:nvSpPr>
        <p:spPr>
          <a:xfrm>
            <a:off x="442764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Line 14"/>
          <p:cNvSpPr/>
          <p:nvPr/>
        </p:nvSpPr>
        <p:spPr>
          <a:xfrm>
            <a:off x="4572000" y="501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zoom dir="ou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7T16:38:08Z</dcterms:created>
  <dc:creator>Anseta</dc:creator>
  <dc:description/>
  <dc:language>en-US</dc:language>
  <cp:lastModifiedBy>Phong ( A Chau)</cp:lastModifiedBy>
  <dcterms:modified xsi:type="dcterms:W3CDTF">2010-05-27T05:40:19Z</dcterms:modified>
  <cp:revision>74</cp:revision>
  <dc:subject/>
  <dc:title>CÁC KHOANG DỊCH</dc:title>
</cp:coreProperties>
</file>