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056FE-4ECF-4AC1-B93D-8205819DF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B4D19-D89D-4319-83A6-7D081D94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567084-45DB-41FE-AF4F-E97E4163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41C575-B2E6-4CAE-8620-7E26B879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960986-D266-4F05-9D21-62A474C7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8478D7-21DC-4C94-9ACB-12F5D8A3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E420D1-83E0-443A-A150-EB273F0E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FF5240-D21B-479E-8D42-F5973542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AC43AD-9570-4DFA-835F-E7A8DD7B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97B6D7-6F20-42E1-B922-E3AE25983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B66FA4-9273-4581-9496-6D1E51579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FD8AAC-324A-462F-8A89-013872D51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D0D8F-5259-4508-A10A-4E4959937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6EE0CC2-BB91-41F9-9091-30F183AD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ADF0AF-E1A4-4E18-B92D-766BBCC3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A86CD1-187E-4A74-AF5C-7E3445E5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B7CEC2-A201-49B9-931A-3AEEC590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ACB2CE-3460-4539-90D1-82F704B1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420D91-2F50-4FB1-8E98-95E9A1F9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27D3F9-53F9-4E07-9894-986D4DBF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645CDD-E321-4F34-875D-4067A891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1BAC3B-68EE-427C-B5F6-492EAA7F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6F8048-DB4F-40CB-85B4-AAB4A0DE9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A1F7B-5141-4138-A94B-6CA2C426D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8501F4-825F-4E7A-A75E-61DB0CE57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CD44AE-E083-4B88-9F51-E98384D46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79982C-2DBD-47F1-B1CD-B3E1EE01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1723FEC-E7A3-4CBC-8771-8E62E57B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CCCAD0A-92CA-4C84-8B38-0238BB8B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F2A03BB-C688-4341-9EAA-7231CC6F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EB0D7C-8477-44E1-BE6C-17FC80DE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E6EF2F5-0B4C-4F70-BD23-4E8204B3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FB3247-0856-4BB6-8741-C5DCC811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3CE3D80-8F53-412F-ABC1-B284AFCC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08F0-1664-4B19-9617-B4868528B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E14223-EAFB-4694-B851-B6792F24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72E4B90-18CE-48E9-BA8A-D77E89B19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019CB37-69EB-4A0B-AFC4-220D60B91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998C6B9-6754-43E2-9DD5-3DF583A43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F0FA5F8-C8C0-4502-BF49-117412A9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E97DE2B-BC4E-4B14-8639-A8E49DE5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54D0DEF-2363-43AA-9F0E-F9B60F5A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CC547BC-66BB-456C-8B2E-9443CA02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87B7722-AB65-47AF-A596-0FF00BFB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82318A8-EF44-4ED8-8115-9EF695CF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8F0F-EFE7-4704-A11A-4F5D1780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1324DEB-3914-42C4-A808-65EE3051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9824D63-996E-49A1-AD22-3B3DFF57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E3005A6-5738-426E-96E0-BA3E11EB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CDCED77-AACB-446C-B949-1FA6BD5C4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4DAA917-B352-48C1-BDD3-FBECB7539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606D-2039-4868-978F-31B83C6B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7232-6FCE-4EA2-BA28-86F95771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9661-9766-48E6-832D-2E906401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41F1-978B-4D9A-88B9-BE79B951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FDC4-DD48-492E-9E95-E10A22EA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C0F07-7E25-439C-A859-EE6546B6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179A-985A-4E6B-8853-BDD830C7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7A85-BD93-4F3E-B15C-9EEFAEE5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168F-1411-44ED-A47A-0FEED092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D0E5-8BB7-406A-9F94-A4C7D936D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DDAF-9321-4EC7-A41E-BABDE6ADD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609E2C-3474-44A8-BF3A-3EB382F71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F27E21-F825-4C83-89F9-82D3F7BB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FCB58B-26DB-4CAA-87C3-C416C333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A50EEE-9441-4F98-A65B-03B2232E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5C22AB-6819-4F4D-8DD6-B7EB9D0A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D9F9C-4975-41FD-8DFB-6923F12A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DD2972-6730-4661-822F-615D582C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2A984A-A2DD-46EC-84C1-AA165BBB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B3A5CA-B431-429F-A8B3-DF1F41E3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94BBEE-8C50-466E-A0CC-16BF08BC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F6D228-7F2D-45A6-909F-AE4CA3C8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89994B-F533-4852-BA70-95B386112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89F5F7-09A2-4D74-86C4-6457A626B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00489E-A01D-4BAE-96EE-E2773F885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B36AB4-AD9A-4C34-B76E-A192D8C4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CE4D4E-8F3C-4EEA-B768-68F4A47C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80FFB-DB2D-4DAB-9B57-34626FD2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733487-95C7-4272-BABE-7FEC81E0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53DBCB-B053-4E8D-BE01-DC12779E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939360-2E5D-4CD3-8146-E2828373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89C96B-5A1D-4070-A79F-FCA67018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C709C0-50E5-4385-AE8E-7075568A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789415-B4C9-42D0-9BEE-6BEC46CB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83A6B1-85F9-4762-AEF0-3A09D718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B0F74C-275D-4C8D-87DB-F08BC2BF9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C72D40-06AF-4C60-975E-8E1311E56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FAC504-1C61-4D86-B216-B4E35838C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D0BDA-C470-4D19-BA6F-67F92DED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D6F3CB-FA7F-4A77-B2B4-F5C4424D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0841B7-2000-4431-923E-2F804861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802333-20D6-41E2-AA0C-51A3296F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05557B-34B1-493C-8438-8E4267F6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2DEBD6-4443-4C1A-8045-EC0124DD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89870C-B9E7-46DB-8D6A-9759AC2B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ED7D01-3934-4C47-863B-C8803C83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3B3FC4-354D-45F5-ADD0-D3526676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89D92D-4067-47F6-8EC0-575A8B60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6C3E4A-2689-48F3-8E9B-0F376A357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2A38D-A67A-43E5-A76D-FA011323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6F6C72-AC35-4635-AFF5-7308D039E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BC625A-A176-438C-BE58-D643BA175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EC1AB1-BC13-47B1-9D54-8157C360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EAF6C2-BE83-425F-B937-7956F360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0A642C-5FD9-496F-A92A-98A316BD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2B40FE-04C3-4F80-A13A-1BA25B39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3927E6-8D6C-4C09-8750-1EC55651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DB63D8-FD5B-4130-8519-8E96426B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28D717-66FD-4D80-AFBD-E2D55A1D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08977C-21B8-4DAC-A0C9-458923B0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8E37A-D307-4612-B2FB-3E7D1186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5028DE-33D3-4351-B257-3C371380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3955D5-8D68-4854-BDC7-C46B8818F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A5B748-E077-42E5-AF23-B353768E0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7B850A-B365-4192-A03E-9980A3FE4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166136-6AFA-4C4A-8603-728513E7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CF35B6-3E76-4E34-B3F3-4CB2E563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E4C39C-114F-4FBC-B77F-7C322EBF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4D3EB6-AFEE-43B7-9D4F-944D1175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1ED042-1982-4A3A-8D8E-F3854B81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70D913-8A1C-403E-8D56-A383A157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A7CC1-704D-4EEA-9E22-3D0F9DB2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B50E60-AE7E-4186-98F0-81D480BB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747865-63ED-497A-8B39-56C52267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FCA511-C440-4817-9FE3-E4EB94BE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4BAE16-1F34-448B-A344-6C5066B0A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207100-1ECE-49FF-99F8-27222E61B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09D5E4-771D-42AD-BD74-4522E71F1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B2E185-F10E-4EAD-8584-8CC1DFA8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354A88-F530-42FE-932F-9265D172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7E8518-D8E3-4E7F-9CAF-C56E4FA9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BB7702-A7EC-4013-9B63-C098DFAA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DA0B1-C425-4FE2-A169-6C0AF773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B5431A-267C-4292-8553-CF5DDCEE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511AB5-40A9-4DDE-88C1-ABF3BC09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0D6A32-564C-4623-A80C-EB10F795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C67E47-793C-4E94-93F1-F2FF5D4C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77A224-9F53-4B88-AF7C-92B4EE6E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54DEF5-D023-471E-B4E9-FAD8FC454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A6ECC6-F58B-4CCF-BEE4-975F736EA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A3D238-9D7D-49A7-AA19-30E95BCC4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1ADB57-D137-45E4-BDA3-B4B7002E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3DF345-0581-479F-9DFF-67B8ABD6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3D9E-1383-41BF-AB5B-7D1F83D3E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321E-4F05-4C1A-91C0-DBF8509D0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ftr" idx="30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FF27-A355-4A67-AF38-BD47A642E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DF02-367C-42D7-83BA-71A270EEC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ftr" idx="3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7E65-BE5B-4EA5-9196-BD20415CB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6FA1-D4DF-4FB6-86DF-E0FFE027B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DC5D-9638-447F-BA2A-4DE2F52BF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AD27-F2E7-490D-AE1C-24AB164BC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B6D8-67CB-4A34-9122-AD02E6D9B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3A7A-5C72-41B2-8860-9783E44D0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DA31-24F9-4DD3-A824-818B3F162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33EE-4C12-42F1-BA44-2F14F2529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hyperlink" Target="../Local%20Settings/Temp/Hinh%20chon/PP%20Hyperlink/Co%20che%20phu.ppt" TargetMode="External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hyperlink" Target="../Local%20Settings/Than/Powerpoint%20hyperlink/ANP.ppt" TargetMode="External"/><Relationship Id="rId5" Type="http://schemas.openxmlformats.org/officeDocument/2006/relationships/hyperlink" Target="../Local%20Settings/Than/Powerpoint%20hyperlink/Renin-Angi.ppt" TargetMode="External"/><Relationship Id="rId6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5f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22143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ÁC KHOANG DỊCH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5f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Text Box 4" descr=""/>
          <p:cNvPicPr/>
          <p:nvPr/>
        </p:nvPicPr>
        <p:blipFill>
          <a:blip r:embed="rId1"/>
          <a:stretch/>
        </p:blipFill>
        <p:spPr>
          <a:xfrm>
            <a:off x="-244440" y="171360"/>
            <a:ext cx="4084560" cy="682560"/>
          </a:xfrm>
          <a:prstGeom prst="rect">
            <a:avLst/>
          </a:prstGeom>
          <a:ln w="0">
            <a:noFill/>
          </a:ln>
        </p:spPr>
      </p:pic>
      <p:pic>
        <p:nvPicPr>
          <p:cNvPr id="592" name="Text Box 5" descr=""/>
          <p:cNvPicPr/>
          <p:nvPr/>
        </p:nvPicPr>
        <p:blipFill>
          <a:blip r:embed="rId2"/>
          <a:stretch/>
        </p:blipFill>
        <p:spPr>
          <a:xfrm>
            <a:off x="-171360" y="2170080"/>
            <a:ext cx="8602560" cy="689040"/>
          </a:xfrm>
          <a:prstGeom prst="rect">
            <a:avLst/>
          </a:prstGeom>
          <a:ln w="0">
            <a:noFill/>
          </a:ln>
        </p:spPr>
      </p:pic>
      <p:pic>
        <p:nvPicPr>
          <p:cNvPr id="593" name="Text Box 6" descr=""/>
          <p:cNvPicPr/>
          <p:nvPr/>
        </p:nvPicPr>
        <p:blipFill>
          <a:blip r:embed="rId3"/>
          <a:stretch/>
        </p:blipFill>
        <p:spPr>
          <a:xfrm>
            <a:off x="-208080" y="4121280"/>
            <a:ext cx="5797800" cy="68868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7"/>
          <p:cNvSpPr/>
          <p:nvPr/>
        </p:nvSpPr>
        <p:spPr>
          <a:xfrm>
            <a:off x="-36720" y="3254400"/>
            <a:ext cx="9292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ff"/>
                </a:solidFill>
                <a:uFillTx/>
                <a:latin typeface="Tahoma"/>
                <a:hlinkClick r:id="rId4"/>
              </a:rPr>
              <a:t>(Pa + S) – (Pb + U)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ác động lên thành mao mạ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Text Box 8"/>
          <p:cNvSpPr/>
          <p:nvPr/>
        </p:nvSpPr>
        <p:spPr>
          <a:xfrm>
            <a:off x="-196920" y="5199120"/>
            <a:ext cx="946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rung gian ccấp oxy và chất ddưỡng cho tế bà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Text Box 9"/>
          <p:cNvSpPr/>
          <p:nvPr/>
        </p:nvSpPr>
        <p:spPr>
          <a:xfrm>
            <a:off x="-117000" y="6149880"/>
            <a:ext cx="9261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Nhận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và những sản phẩm ch. hóa/ tế bà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7" name="Text Box 10" descr=""/>
          <p:cNvPicPr/>
          <p:nvPr/>
        </p:nvPicPr>
        <p:blipFill>
          <a:blip r:embed="rId5"/>
          <a:stretch/>
        </p:blipFill>
        <p:spPr>
          <a:xfrm>
            <a:off x="115920" y="1023840"/>
            <a:ext cx="3187800" cy="682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5f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Text Box 4" descr=""/>
          <p:cNvPicPr/>
          <p:nvPr/>
        </p:nvPicPr>
        <p:blipFill>
          <a:blip r:embed="rId1"/>
          <a:stretch/>
        </p:blipFill>
        <p:spPr>
          <a:xfrm>
            <a:off x="-171360" y="244440"/>
            <a:ext cx="6883200" cy="68256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5"/>
          <p:cNvSpPr/>
          <p:nvPr/>
        </p:nvSpPr>
        <p:spPr>
          <a:xfrm>
            <a:off x="72000" y="1197000"/>
            <a:ext cx="697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♦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C ddưỡng (Chylomicron) từ ÔTH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Text Box 6"/>
          <p:cNvSpPr/>
          <p:nvPr/>
        </p:nvSpPr>
        <p:spPr>
          <a:xfrm>
            <a:off x="22680" y="3197160"/>
            <a:ext cx="9230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♦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Đưa trở lại sys t.hoàn 1 lượng protein và dị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ừ khoang k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Text Box 7"/>
          <p:cNvSpPr/>
          <p:nvPr/>
        </p:nvSpPr>
        <p:spPr>
          <a:xfrm>
            <a:off x="-55800" y="2189160"/>
            <a:ext cx="809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♦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à con đường BC lympho tái tuần hoà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Text Box 9"/>
          <p:cNvSpPr/>
          <p:nvPr/>
        </p:nvSpPr>
        <p:spPr>
          <a:xfrm>
            <a:off x="800640" y="5084640"/>
            <a:ext cx="755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iểm soát [protein], V và P / khoang k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10"/>
          <p:cNvSpPr/>
          <p:nvPr/>
        </p:nvSpPr>
        <p:spPr>
          <a:xfrm>
            <a:off x="371520" y="5373720"/>
            <a:ext cx="539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zoom dir="out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5f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Text Box 4" descr=""/>
          <p:cNvPicPr/>
          <p:nvPr/>
        </p:nvPicPr>
        <p:blipFill>
          <a:blip r:embed="rId1"/>
          <a:stretch/>
        </p:blipFill>
        <p:spPr>
          <a:xfrm>
            <a:off x="304920" y="244440"/>
            <a:ext cx="4505040" cy="682560"/>
          </a:xfrm>
          <a:prstGeom prst="rect">
            <a:avLst/>
          </a:prstGeom>
          <a:ln w="0">
            <a:noFill/>
          </a:ln>
        </p:spPr>
      </p:pic>
      <p:pic>
        <p:nvPicPr>
          <p:cNvPr id="605" name="Text Box 5" descr=""/>
          <p:cNvPicPr/>
          <p:nvPr/>
        </p:nvPicPr>
        <p:blipFill>
          <a:blip r:embed="rId2"/>
          <a:stretch/>
        </p:blipFill>
        <p:spPr>
          <a:xfrm>
            <a:off x="401760" y="890640"/>
            <a:ext cx="6091200" cy="68904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8"/>
          <p:cNvSpPr/>
          <p:nvPr/>
        </p:nvSpPr>
        <p:spPr>
          <a:xfrm>
            <a:off x="1455480" y="1412640"/>
            <a:ext cx="69336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không màu, tỉ trọng khoảng 1.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không protein  ( 20- 30 mg/dl 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-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hông tế bào (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5 BC  L/ m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-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# huyết tươ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cao hơn 15%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thấp hơn 40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ucose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ấp hơn 30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5f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4"/>
          <p:cNvSpPr/>
          <p:nvPr/>
        </p:nvSpPr>
        <p:spPr>
          <a:xfrm>
            <a:off x="246600" y="1651320"/>
            <a:ext cx="655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đệm cho não trong hộp sọ cứ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8" name="Text Box 5" descr=""/>
          <p:cNvPicPr/>
          <p:nvPr/>
        </p:nvPicPr>
        <p:blipFill>
          <a:blip r:embed="rId1"/>
          <a:stretch/>
        </p:blipFill>
        <p:spPr>
          <a:xfrm>
            <a:off x="122400" y="268200"/>
            <a:ext cx="5321160" cy="682560"/>
          </a:xfrm>
          <a:prstGeom prst="rect">
            <a:avLst/>
          </a:prstGeom>
          <a:ln w="0">
            <a:noFill/>
          </a:ln>
        </p:spPr>
      </p:pic>
      <p:pic>
        <p:nvPicPr>
          <p:cNvPr id="609" name="Text Box 6" descr=""/>
          <p:cNvPicPr/>
          <p:nvPr/>
        </p:nvPicPr>
        <p:blipFill>
          <a:blip r:embed="rId2"/>
          <a:stretch/>
        </p:blipFill>
        <p:spPr>
          <a:xfrm>
            <a:off x="219240" y="963720"/>
            <a:ext cx="3322440" cy="689040"/>
          </a:xfrm>
          <a:prstGeom prst="rect">
            <a:avLst/>
          </a:prstGeom>
          <a:ln w="0">
            <a:noFill/>
          </a:ln>
        </p:spPr>
      </p:pic>
      <p:pic>
        <p:nvPicPr>
          <p:cNvPr id="610" name="Text Box 8" descr=""/>
          <p:cNvPicPr/>
          <p:nvPr/>
        </p:nvPicPr>
        <p:blipFill>
          <a:blip r:embed="rId3"/>
          <a:stretch/>
        </p:blipFill>
        <p:spPr>
          <a:xfrm>
            <a:off x="79200" y="3255840"/>
            <a:ext cx="4846680" cy="68292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9"/>
          <p:cNvSpPr/>
          <p:nvPr/>
        </p:nvSpPr>
        <p:spPr>
          <a:xfrm>
            <a:off x="214200" y="4987800"/>
            <a:ext cx="850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ân bằng 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ài tiết &amp; hấp thu / thủy tinh dịch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Text Box 10"/>
          <p:cNvSpPr/>
          <p:nvPr/>
        </p:nvSpPr>
        <p:spPr>
          <a:xfrm>
            <a:off x="45360" y="5921280"/>
            <a:ext cx="93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♦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 và P/ dịch nhãn cầu luôn ổn định (15 mmH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4"/>
          <p:cNvSpPr/>
          <p:nvPr/>
        </p:nvSpPr>
        <p:spPr>
          <a:xfrm>
            <a:off x="265320" y="2309040"/>
            <a:ext cx="818640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D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ích nghi với những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↕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V của hộp s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Text Box 10"/>
          <p:cNvSpPr/>
          <p:nvPr/>
        </p:nvSpPr>
        <p:spPr>
          <a:xfrm>
            <a:off x="32760" y="4130640"/>
            <a:ext cx="962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♦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ằm trong ổ mắt và giữ cho ổ mắt luôn căng 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zoom dir="out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5f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4" descr=""/>
          <p:cNvPicPr/>
          <p:nvPr/>
        </p:nvPicPr>
        <p:blipFill>
          <a:blip r:embed="rId1"/>
          <a:srcRect l="0" t="0" r="0" b="14554"/>
          <a:stretch/>
        </p:blipFill>
        <p:spPr>
          <a:xfrm>
            <a:off x="3000240" y="1714680"/>
            <a:ext cx="3000600" cy="5143320"/>
          </a:xfrm>
          <a:prstGeom prst="rect">
            <a:avLst/>
          </a:prstGeom>
          <a:ln w="0">
            <a:noFill/>
          </a:ln>
        </p:spPr>
      </p:pic>
      <p:pic>
        <p:nvPicPr>
          <p:cNvPr id="616" name="Text Box 5" descr=""/>
          <p:cNvPicPr/>
          <p:nvPr/>
        </p:nvPicPr>
        <p:blipFill>
          <a:blip r:embed="rId2"/>
          <a:stretch/>
        </p:blipFill>
        <p:spPr>
          <a:xfrm>
            <a:off x="-171360" y="171360"/>
            <a:ext cx="6791400" cy="682560"/>
          </a:xfrm>
          <a:prstGeom prst="rect">
            <a:avLst/>
          </a:prstGeom>
          <a:ln w="0">
            <a:noFill/>
          </a:ln>
        </p:spPr>
      </p:pic>
      <p:pic>
        <p:nvPicPr>
          <p:cNvPr id="617" name="Text Box 6" descr=""/>
          <p:cNvPicPr/>
          <p:nvPr/>
        </p:nvPicPr>
        <p:blipFill>
          <a:blip r:embed="rId3"/>
          <a:stretch/>
        </p:blipFill>
        <p:spPr>
          <a:xfrm>
            <a:off x="-128520" y="1103400"/>
            <a:ext cx="2944800" cy="689040"/>
          </a:xfrm>
          <a:prstGeom prst="rect">
            <a:avLst/>
          </a:prstGeom>
          <a:ln w="0">
            <a:noFill/>
          </a:ln>
        </p:spPr>
      </p:pic>
      <p:pic>
        <p:nvPicPr>
          <p:cNvPr id="618" name="Text Box 7" descr=""/>
          <p:cNvPicPr/>
          <p:nvPr/>
        </p:nvPicPr>
        <p:blipFill>
          <a:blip r:embed="rId4"/>
          <a:stretch/>
        </p:blipFill>
        <p:spPr>
          <a:xfrm>
            <a:off x="712800" y="2041560"/>
            <a:ext cx="1944720" cy="689040"/>
          </a:xfrm>
          <a:prstGeom prst="rect">
            <a:avLst/>
          </a:prstGeom>
          <a:ln w="0">
            <a:noFill/>
          </a:ln>
        </p:spPr>
      </p:pic>
      <p:pic>
        <p:nvPicPr>
          <p:cNvPr id="619" name="Text Box 28" descr=""/>
          <p:cNvPicPr/>
          <p:nvPr/>
        </p:nvPicPr>
        <p:blipFill>
          <a:blip r:embed="rId5"/>
          <a:stretch/>
        </p:blipFill>
        <p:spPr>
          <a:xfrm>
            <a:off x="-23760" y="4340160"/>
            <a:ext cx="2395440" cy="689040"/>
          </a:xfrm>
          <a:prstGeom prst="rect">
            <a:avLst/>
          </a:prstGeom>
          <a:ln w="0">
            <a:noFill/>
          </a:ln>
        </p:spPr>
      </p:pic>
      <p:pic>
        <p:nvPicPr>
          <p:cNvPr id="620" name="Text Box 6" descr=""/>
          <p:cNvPicPr/>
          <p:nvPr/>
        </p:nvPicPr>
        <p:blipFill>
          <a:blip r:embed="rId6"/>
          <a:stretch/>
        </p:blipFill>
        <p:spPr>
          <a:xfrm>
            <a:off x="2346480" y="1116000"/>
            <a:ext cx="7304040" cy="682560"/>
          </a:xfrm>
          <a:prstGeom prst="rect">
            <a:avLst/>
          </a:prstGeom>
          <a:ln w="0">
            <a:noFill/>
          </a:ln>
        </p:spPr>
      </p:pic>
      <p:pic>
        <p:nvPicPr>
          <p:cNvPr id="621" name="Text Box 7" descr=""/>
          <p:cNvPicPr/>
          <p:nvPr/>
        </p:nvPicPr>
        <p:blipFill>
          <a:blip r:embed="rId7"/>
          <a:stretch/>
        </p:blipFill>
        <p:spPr>
          <a:xfrm>
            <a:off x="719280" y="3127320"/>
            <a:ext cx="1725480" cy="682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5f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Text Box 23" descr=""/>
          <p:cNvPicPr/>
          <p:nvPr/>
        </p:nvPicPr>
        <p:blipFill>
          <a:blip r:embed="rId1"/>
          <a:stretch/>
        </p:blipFill>
        <p:spPr>
          <a:xfrm>
            <a:off x="3382920" y="817560"/>
            <a:ext cx="2816280" cy="68724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24"/>
          <p:cNvSpPr/>
          <p:nvPr/>
        </p:nvSpPr>
        <p:spPr>
          <a:xfrm>
            <a:off x="1302840" y="1917720"/>
            <a:ext cx="166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↑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Đ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4" name="Text Box 25" descr=""/>
          <p:cNvPicPr/>
          <p:nvPr/>
        </p:nvPicPr>
        <p:blipFill>
          <a:blip r:embed="rId2"/>
          <a:stretch/>
        </p:blipFill>
        <p:spPr>
          <a:xfrm>
            <a:off x="3395520" y="5334120"/>
            <a:ext cx="2724120" cy="68868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26"/>
          <p:cNvSpPr/>
          <p:nvPr/>
        </p:nvSpPr>
        <p:spPr>
          <a:xfrm>
            <a:off x="6382800" y="4365720"/>
            <a:ext cx="166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↓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Đ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Text Box 27"/>
          <p:cNvSpPr/>
          <p:nvPr/>
        </p:nvSpPr>
        <p:spPr>
          <a:xfrm>
            <a:off x="385920" y="3054240"/>
            <a:ext cx="10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K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á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Text Box 28"/>
          <p:cNvSpPr/>
          <p:nvPr/>
        </p:nvSpPr>
        <p:spPr>
          <a:xfrm>
            <a:off x="2470680" y="3068640"/>
            <a:ext cx="14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↑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Text Box 29"/>
          <p:cNvSpPr/>
          <p:nvPr/>
        </p:nvSpPr>
        <p:spPr>
          <a:xfrm>
            <a:off x="362520" y="4365720"/>
            <a:ext cx="122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ố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Text Box 30"/>
          <p:cNvSpPr/>
          <p:nvPr/>
        </p:nvSpPr>
        <p:spPr>
          <a:xfrm>
            <a:off x="2122560" y="4379760"/>
            <a:ext cx="233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↑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g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ữ nướ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Text Box 31"/>
          <p:cNvSpPr/>
          <p:nvPr/>
        </p:nvSpPr>
        <p:spPr>
          <a:xfrm>
            <a:off x="7356240" y="3139920"/>
            <a:ext cx="14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↓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Text Box 32"/>
          <p:cNvSpPr/>
          <p:nvPr/>
        </p:nvSpPr>
        <p:spPr>
          <a:xfrm>
            <a:off x="5190480" y="1859040"/>
            <a:ext cx="167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uố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Text Box 33"/>
          <p:cNvSpPr/>
          <p:nvPr/>
        </p:nvSpPr>
        <p:spPr>
          <a:xfrm>
            <a:off x="5303880" y="3139920"/>
            <a:ext cx="18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ết khá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Text Box 34"/>
          <p:cNvSpPr/>
          <p:nvPr/>
        </p:nvSpPr>
        <p:spPr>
          <a:xfrm>
            <a:off x="6936840" y="1844640"/>
            <a:ext cx="243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↑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ải nướ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Line 35"/>
          <p:cNvSpPr/>
          <p:nvPr/>
        </p:nvSpPr>
        <p:spPr>
          <a:xfrm flipH="1">
            <a:off x="1979280" y="1197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Line 36"/>
          <p:cNvSpPr/>
          <p:nvPr/>
        </p:nvSpPr>
        <p:spPr>
          <a:xfrm>
            <a:off x="1979640" y="1197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Line 37"/>
          <p:cNvSpPr/>
          <p:nvPr/>
        </p:nvSpPr>
        <p:spPr>
          <a:xfrm flipH="1">
            <a:off x="1186920" y="242100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Line 38"/>
          <p:cNvSpPr/>
          <p:nvPr/>
        </p:nvSpPr>
        <p:spPr>
          <a:xfrm>
            <a:off x="1979640" y="2421000"/>
            <a:ext cx="792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Line 39"/>
          <p:cNvSpPr/>
          <p:nvPr/>
        </p:nvSpPr>
        <p:spPr>
          <a:xfrm>
            <a:off x="826920" y="357336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Line 40"/>
          <p:cNvSpPr/>
          <p:nvPr/>
        </p:nvSpPr>
        <p:spPr>
          <a:xfrm>
            <a:off x="3203640" y="357336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Line 41"/>
          <p:cNvSpPr/>
          <p:nvPr/>
        </p:nvSpPr>
        <p:spPr>
          <a:xfrm>
            <a:off x="900000" y="486900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Line 42"/>
          <p:cNvSpPr/>
          <p:nvPr/>
        </p:nvSpPr>
        <p:spPr>
          <a:xfrm>
            <a:off x="900000" y="573408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Line 43"/>
          <p:cNvSpPr/>
          <p:nvPr/>
        </p:nvSpPr>
        <p:spPr>
          <a:xfrm>
            <a:off x="2771640" y="486900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Line 44"/>
          <p:cNvSpPr/>
          <p:nvPr/>
        </p:nvSpPr>
        <p:spPr>
          <a:xfrm>
            <a:off x="5508720" y="573408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Line 45"/>
          <p:cNvSpPr/>
          <p:nvPr/>
        </p:nvSpPr>
        <p:spPr>
          <a:xfrm flipV="1">
            <a:off x="7164360" y="494136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Line 46"/>
          <p:cNvSpPr/>
          <p:nvPr/>
        </p:nvSpPr>
        <p:spPr>
          <a:xfrm flipH="1" flipV="1">
            <a:off x="6227640" y="3717720"/>
            <a:ext cx="8654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Line 47"/>
          <p:cNvSpPr/>
          <p:nvPr/>
        </p:nvSpPr>
        <p:spPr>
          <a:xfrm flipV="1">
            <a:off x="7093080" y="364500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Line 48"/>
          <p:cNvSpPr/>
          <p:nvPr/>
        </p:nvSpPr>
        <p:spPr>
          <a:xfrm flipV="1">
            <a:off x="6084720" y="2421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Line 49"/>
          <p:cNvSpPr/>
          <p:nvPr/>
        </p:nvSpPr>
        <p:spPr>
          <a:xfrm flipV="1">
            <a:off x="7956720" y="2421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Line 50"/>
          <p:cNvSpPr/>
          <p:nvPr/>
        </p:nvSpPr>
        <p:spPr>
          <a:xfrm flipV="1">
            <a:off x="7956720" y="1198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Line 51"/>
          <p:cNvSpPr/>
          <p:nvPr/>
        </p:nvSpPr>
        <p:spPr>
          <a:xfrm flipH="1">
            <a:off x="5724000" y="119844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Line 52"/>
          <p:cNvSpPr/>
          <p:nvPr/>
        </p:nvSpPr>
        <p:spPr>
          <a:xfrm flipV="1">
            <a:off x="6156360" y="1197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2" name="Text Box 53" descr=""/>
          <p:cNvPicPr/>
          <p:nvPr/>
        </p:nvPicPr>
        <p:blipFill>
          <a:blip r:embed="rId3"/>
          <a:stretch/>
        </p:blipFill>
        <p:spPr>
          <a:xfrm>
            <a:off x="-171360" y="171360"/>
            <a:ext cx="7615080" cy="682560"/>
          </a:xfrm>
          <a:prstGeom prst="rect">
            <a:avLst/>
          </a:prstGeom>
          <a:ln w="0">
            <a:noFill/>
          </a:ln>
        </p:spPr>
      </p:pic>
      <p:pic>
        <p:nvPicPr>
          <p:cNvPr id="653" name="Text Box 54" descr=""/>
          <p:cNvPicPr/>
          <p:nvPr/>
        </p:nvPicPr>
        <p:blipFill>
          <a:blip r:embed="rId4"/>
          <a:stretch/>
        </p:blipFill>
        <p:spPr>
          <a:xfrm>
            <a:off x="1444680" y="6076800"/>
            <a:ext cx="7504200" cy="684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5f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Text Box 4" descr=""/>
          <p:cNvPicPr/>
          <p:nvPr/>
        </p:nvPicPr>
        <p:blipFill>
          <a:blip r:embed="rId1"/>
          <a:stretch/>
        </p:blipFill>
        <p:spPr>
          <a:xfrm>
            <a:off x="-171360" y="171360"/>
            <a:ext cx="3957480" cy="682560"/>
          </a:xfrm>
          <a:prstGeom prst="rect">
            <a:avLst/>
          </a:prstGeom>
          <a:ln w="0">
            <a:noFill/>
          </a:ln>
        </p:spPr>
      </p:pic>
      <p:pic>
        <p:nvPicPr>
          <p:cNvPr id="655" name="Text Box 5" descr=""/>
          <p:cNvPicPr/>
          <p:nvPr/>
        </p:nvPicPr>
        <p:blipFill>
          <a:blip r:embed="rId2"/>
          <a:stretch/>
        </p:blipFill>
        <p:spPr>
          <a:xfrm>
            <a:off x="401760" y="1103400"/>
            <a:ext cx="5700600" cy="689040"/>
          </a:xfrm>
          <a:prstGeom prst="rect">
            <a:avLst/>
          </a:prstGeom>
          <a:ln w="0">
            <a:noFill/>
          </a:ln>
        </p:spPr>
      </p:pic>
      <p:pic>
        <p:nvPicPr>
          <p:cNvPr id="656" name="Text Box 6" descr=""/>
          <p:cNvPicPr/>
          <p:nvPr/>
        </p:nvPicPr>
        <p:blipFill>
          <a:blip r:embed="rId3"/>
          <a:stretch/>
        </p:blipFill>
        <p:spPr>
          <a:xfrm>
            <a:off x="401760" y="1878120"/>
            <a:ext cx="6522840" cy="689040"/>
          </a:xfrm>
          <a:prstGeom prst="rect">
            <a:avLst/>
          </a:prstGeom>
          <a:ln w="0">
            <a:noFill/>
          </a:ln>
        </p:spPr>
      </p:pic>
      <p:sp>
        <p:nvSpPr>
          <p:cNvPr id="657" name="Text Box 7"/>
          <p:cNvSpPr/>
          <p:nvPr/>
        </p:nvSpPr>
        <p:spPr>
          <a:xfrm>
            <a:off x="874440" y="2765520"/>
            <a:ext cx="6090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3200" spc="-1" strike="noStrike" u="sng">
                <a:solidFill>
                  <a:srgbClr val="6600ff"/>
                </a:solidFill>
                <a:uFillTx/>
                <a:latin typeface="Tahoma"/>
                <a:hlinkClick r:id="rId4"/>
              </a:rPr>
              <a:t>AN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Atrial Natriuretic pepti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Text Box 8"/>
          <p:cNvSpPr/>
          <p:nvPr/>
        </p:nvSpPr>
        <p:spPr>
          <a:xfrm>
            <a:off x="927000" y="3701880"/>
            <a:ext cx="67521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Renin –Angiotensin system = </a:t>
            </a:r>
            <a:r>
              <a:rPr b="0" lang="en-US" sz="3200" spc="-1" strike="noStrike" u="sng">
                <a:solidFill>
                  <a:srgbClr val="6600ff"/>
                </a:solidFill>
                <a:uFillTx/>
                <a:latin typeface="Tahoma"/>
                <a:hlinkClick r:id="rId5"/>
              </a:rPr>
              <a:t>R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zoom dir="out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5f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Text Box 4" descr=""/>
          <p:cNvPicPr/>
          <p:nvPr/>
        </p:nvPicPr>
        <p:blipFill>
          <a:blip r:embed="rId1"/>
          <a:stretch/>
        </p:blipFill>
        <p:spPr>
          <a:xfrm>
            <a:off x="3067200" y="5510160"/>
            <a:ext cx="3236760" cy="9270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4" descr=""/>
          <p:cNvPicPr/>
          <p:nvPr/>
        </p:nvPicPr>
        <p:blipFill>
          <a:blip r:embed="rId2"/>
          <a:stretch/>
        </p:blipFill>
        <p:spPr>
          <a:xfrm>
            <a:off x="0" y="-71280"/>
            <a:ext cx="9144000" cy="5524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Text Box 4" descr=""/>
          <p:cNvPicPr/>
          <p:nvPr/>
        </p:nvPicPr>
        <p:blipFill>
          <a:blip r:embed="rId1"/>
          <a:stretch/>
        </p:blipFill>
        <p:spPr>
          <a:xfrm>
            <a:off x="-201600" y="298440"/>
            <a:ext cx="3078000" cy="75564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5"/>
          <p:cNvSpPr/>
          <p:nvPr/>
        </p:nvSpPr>
        <p:spPr>
          <a:xfrm>
            <a:off x="-109080" y="1477800"/>
            <a:ext cx="85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X</a:t>
            </a:r>
            <a:r>
              <a:rPr b="0" lang="vi-VN" sz="3200" spc="-1" strike="noStrike">
                <a:solidFill>
                  <a:srgbClr val="000000"/>
                </a:solidFill>
                <a:latin typeface="Tahoma"/>
              </a:rPr>
              <a:t>đị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h % dịch phân bố ở từng ng</a:t>
            </a:r>
            <a:r>
              <a:rPr b="0" lang="vi-VN" sz="3200" spc="-1" strike="noStrike">
                <a:solidFill>
                  <a:srgbClr val="000000"/>
                </a:solidFill>
                <a:latin typeface="Tahoma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/c</a:t>
            </a:r>
            <a:r>
              <a:rPr b="0" lang="vi-VN" sz="3200" spc="-1" strike="noStrike">
                <a:solidFill>
                  <a:srgbClr val="000000"/>
                </a:solidFill>
                <a:latin typeface="Tahoma"/>
              </a:rPr>
              <a:t>ơ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Text Box 7"/>
          <p:cNvSpPr/>
          <p:nvPr/>
        </p:nvSpPr>
        <p:spPr>
          <a:xfrm>
            <a:off x="-121320" y="2476440"/>
            <a:ext cx="660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Chức ng</a:t>
            </a:r>
            <a:r>
              <a:rPr b="0" lang="vi-VN" sz="3200" spc="-1" strike="noStrike">
                <a:solidFill>
                  <a:srgbClr val="000000"/>
                </a:solidFill>
                <a:latin typeface="Tahoma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 của từng ng</a:t>
            </a:r>
            <a:r>
              <a:rPr b="0" lang="vi-VN" sz="3200" spc="-1" strike="noStrike">
                <a:solidFill>
                  <a:srgbClr val="000000"/>
                </a:solidFill>
                <a:latin typeface="Tahoma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 dị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Text Box 8"/>
          <p:cNvSpPr/>
          <p:nvPr/>
        </p:nvSpPr>
        <p:spPr>
          <a:xfrm>
            <a:off x="-100440" y="3548160"/>
            <a:ext cx="928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Fs tham gia </a:t>
            </a:r>
            <a:r>
              <a:rPr b="0" lang="vi-VN" sz="3200" spc="-1" strike="noStrike">
                <a:solidFill>
                  <a:srgbClr val="000000"/>
                </a:solidFill>
                <a:latin typeface="Tahoma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ều hòa thể tích và NĐTT/ c</a:t>
            </a:r>
            <a:r>
              <a:rPr b="0" lang="vi-VN" sz="3200" spc="-1" strike="noStrike">
                <a:solidFill>
                  <a:srgbClr val="000000"/>
                </a:solidFill>
                <a:latin typeface="Tahoma"/>
              </a:rPr>
              <a:t>ơ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5f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Text Box 4" descr=""/>
          <p:cNvPicPr/>
          <p:nvPr/>
        </p:nvPicPr>
        <p:blipFill>
          <a:blip r:embed="rId1"/>
          <a:stretch/>
        </p:blipFill>
        <p:spPr>
          <a:xfrm>
            <a:off x="-171360" y="152280"/>
            <a:ext cx="9212040" cy="68292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5"/>
          <p:cNvSpPr/>
          <p:nvPr/>
        </p:nvSpPr>
        <p:spPr>
          <a:xfrm>
            <a:off x="548280" y="1103400"/>
            <a:ext cx="839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.1.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Hai nguồn nhập nước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chính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: 2300ml/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Text Box 6"/>
          <p:cNvSpPr/>
          <p:nvPr/>
        </p:nvSpPr>
        <p:spPr>
          <a:xfrm>
            <a:off x="358560" y="3103560"/>
            <a:ext cx="744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.2. Bốn đường mất nước: 2300ml/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Text Box 7"/>
          <p:cNvSpPr/>
          <p:nvPr/>
        </p:nvSpPr>
        <p:spPr>
          <a:xfrm>
            <a:off x="881280" y="1808280"/>
            <a:ext cx="441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iêu hóa:    2100ml/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Text Box 8"/>
          <p:cNvSpPr/>
          <p:nvPr/>
        </p:nvSpPr>
        <p:spPr>
          <a:xfrm>
            <a:off x="806400" y="2455920"/>
            <a:ext cx="449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Chuyển hóa: 200ml/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Text Box 9"/>
          <p:cNvSpPr/>
          <p:nvPr/>
        </p:nvSpPr>
        <p:spPr>
          <a:xfrm>
            <a:off x="848520" y="3753000"/>
            <a:ext cx="477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Urine: 1200- 1500 ml/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Text Box 10"/>
          <p:cNvSpPr/>
          <p:nvPr/>
        </p:nvSpPr>
        <p:spPr>
          <a:xfrm>
            <a:off x="831240" y="4400640"/>
            <a:ext cx="31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Phân: 200ml/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Text Box 11"/>
          <p:cNvSpPr/>
          <p:nvPr/>
        </p:nvSpPr>
        <p:spPr>
          <a:xfrm>
            <a:off x="848160" y="5062680"/>
            <a:ext cx="46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Hô hấp: 300- 400 ml/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Text Box 12"/>
          <p:cNvSpPr/>
          <p:nvPr/>
        </p:nvSpPr>
        <p:spPr>
          <a:xfrm>
            <a:off x="834840" y="5767560"/>
            <a:ext cx="458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Mồ hôi: 300- 400 ml/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5f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Text Box 4" descr=""/>
          <p:cNvPicPr/>
          <p:nvPr/>
        </p:nvPicPr>
        <p:blipFill>
          <a:blip r:embed="rId1"/>
          <a:stretch/>
        </p:blipFill>
        <p:spPr>
          <a:xfrm>
            <a:off x="-208080" y="128520"/>
            <a:ext cx="5121360" cy="68256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5"/>
          <p:cNvSpPr/>
          <p:nvPr/>
        </p:nvSpPr>
        <p:spPr>
          <a:xfrm>
            <a:off x="1955880" y="1397160"/>
            <a:ext cx="519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gười trưởng thành: 50k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2210760" y="2117880"/>
            <a:ext cx="476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ịch cơ thể (30lít # 60%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Text Box 8"/>
          <p:cNvSpPr/>
          <p:nvPr/>
        </p:nvSpPr>
        <p:spPr>
          <a:xfrm>
            <a:off x="749880" y="3054240"/>
            <a:ext cx="298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CF(20 l # 40%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Text Box 9"/>
          <p:cNvSpPr/>
          <p:nvPr/>
        </p:nvSpPr>
        <p:spPr>
          <a:xfrm>
            <a:off x="3418200" y="3909960"/>
            <a:ext cx="2597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sm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3,3 l # 6,6%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Text Box 10"/>
          <p:cNvSpPr/>
          <p:nvPr/>
        </p:nvSpPr>
        <p:spPr>
          <a:xfrm>
            <a:off x="166320" y="893880"/>
            <a:ext cx="21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♦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ân bố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Text Box 11"/>
          <p:cNvSpPr/>
          <p:nvPr/>
        </p:nvSpPr>
        <p:spPr>
          <a:xfrm>
            <a:off x="200520" y="5373720"/>
            <a:ext cx="583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Chất không điện giải: ưu thế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Text Box 12"/>
          <p:cNvSpPr/>
          <p:nvPr/>
        </p:nvSpPr>
        <p:spPr>
          <a:xfrm>
            <a:off x="519120" y="6078600"/>
            <a:ext cx="863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- Chất đgiải:qđịnh tính thẩm thấu/dịch bo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Text Box 13"/>
          <p:cNvSpPr/>
          <p:nvPr/>
        </p:nvSpPr>
        <p:spPr>
          <a:xfrm>
            <a:off x="4848120" y="3035160"/>
            <a:ext cx="30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CF(10 l # 20%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Text Box 14"/>
          <p:cNvSpPr/>
          <p:nvPr/>
        </p:nvSpPr>
        <p:spPr>
          <a:xfrm>
            <a:off x="6008400" y="3924360"/>
            <a:ext cx="28310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ịch kẽ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6,7 l # 13,3%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Text Box 15"/>
          <p:cNvSpPr/>
          <p:nvPr/>
        </p:nvSpPr>
        <p:spPr>
          <a:xfrm>
            <a:off x="172080" y="4710240"/>
            <a:ext cx="25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♦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i nhó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Line 16"/>
          <p:cNvSpPr/>
          <p:nvPr/>
        </p:nvSpPr>
        <p:spPr>
          <a:xfrm flipH="1">
            <a:off x="2734920" y="263700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Line 17"/>
          <p:cNvSpPr/>
          <p:nvPr/>
        </p:nvSpPr>
        <p:spPr>
          <a:xfrm>
            <a:off x="3816360" y="2637000"/>
            <a:ext cx="934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Line 18"/>
          <p:cNvSpPr/>
          <p:nvPr/>
        </p:nvSpPr>
        <p:spPr>
          <a:xfrm flipH="1">
            <a:off x="4463640" y="357336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Line 19"/>
          <p:cNvSpPr/>
          <p:nvPr/>
        </p:nvSpPr>
        <p:spPr>
          <a:xfrm>
            <a:off x="5545080" y="3573360"/>
            <a:ext cx="934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5f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Text Box 4" descr=""/>
          <p:cNvPicPr/>
          <p:nvPr/>
        </p:nvPicPr>
        <p:blipFill>
          <a:blip r:embed="rId1"/>
          <a:stretch/>
        </p:blipFill>
        <p:spPr>
          <a:xfrm>
            <a:off x="-219240" y="317520"/>
            <a:ext cx="9114120" cy="68256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5"/>
          <p:cNvSpPr/>
          <p:nvPr/>
        </p:nvSpPr>
        <p:spPr>
          <a:xfrm>
            <a:off x="43920" y="3908520"/>
            <a:ext cx="761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♦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ó sự cân bằng về NĐTT / ICF và EC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Text Box 6"/>
          <p:cNvSpPr/>
          <p:nvPr/>
        </p:nvSpPr>
        <p:spPr>
          <a:xfrm>
            <a:off x="-720" y="4778280"/>
            <a:ext cx="494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♦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hi có sự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↨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ĐTT/ EC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Text Box 7"/>
          <p:cNvSpPr/>
          <p:nvPr/>
        </p:nvSpPr>
        <p:spPr>
          <a:xfrm>
            <a:off x="-61560" y="5707080"/>
            <a:ext cx="606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♦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ân bằng mới được thiết lậ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Text Box 8"/>
          <p:cNvSpPr/>
          <p:nvPr/>
        </p:nvSpPr>
        <p:spPr>
          <a:xfrm>
            <a:off x="5927400" y="4778280"/>
            <a:ext cx="254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↨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ĐTT/ IC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Line 9"/>
          <p:cNvSpPr/>
          <p:nvPr/>
        </p:nvSpPr>
        <p:spPr>
          <a:xfrm>
            <a:off x="4995720" y="50817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5" name="Text Box 10" descr=""/>
          <p:cNvPicPr/>
          <p:nvPr/>
        </p:nvPicPr>
        <p:blipFill>
          <a:blip r:embed="rId2"/>
          <a:stretch/>
        </p:blipFill>
        <p:spPr>
          <a:xfrm>
            <a:off x="-36360" y="1103400"/>
            <a:ext cx="7351560" cy="68904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11"/>
          <p:cNvSpPr/>
          <p:nvPr/>
        </p:nvSpPr>
        <p:spPr>
          <a:xfrm>
            <a:off x="195480" y="2044800"/>
            <a:ext cx="921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ĐT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/ECF là: 285 mosmol.10L= 2850 mosm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Text Box 12"/>
          <p:cNvSpPr/>
          <p:nvPr/>
        </p:nvSpPr>
        <p:spPr>
          <a:xfrm>
            <a:off x="200880" y="2908440"/>
            <a:ext cx="91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ĐT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/ICF là: 285 mosmol.20L= 5700 mosm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Line 13"/>
          <p:cNvSpPr/>
          <p:nvPr/>
        </p:nvSpPr>
        <p:spPr>
          <a:xfrm>
            <a:off x="-142920" y="2276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Line 14"/>
          <p:cNvSpPr/>
          <p:nvPr/>
        </p:nvSpPr>
        <p:spPr>
          <a:xfrm>
            <a:off x="-142920" y="31399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5f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4"/>
          <p:cNvSpPr/>
          <p:nvPr/>
        </p:nvSpPr>
        <p:spPr>
          <a:xfrm>
            <a:off x="1734120" y="3241800"/>
            <a:ext cx="591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ĐTT ở 2 ngăn đạt giá trị mớ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Text Box 5"/>
          <p:cNvSpPr/>
          <p:nvPr/>
        </p:nvSpPr>
        <p:spPr>
          <a:xfrm>
            <a:off x="762840" y="1081080"/>
            <a:ext cx="2612880" cy="21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CF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ấ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l - (2/3 x 6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16 lí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Text Box 7"/>
          <p:cNvSpPr/>
          <p:nvPr/>
        </p:nvSpPr>
        <p:spPr>
          <a:xfrm>
            <a:off x="4644000" y="1062000"/>
            <a:ext cx="2913120" cy="21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ECF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ấ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10 l – (1/3 x 6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8 lí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Line 9"/>
          <p:cNvSpPr/>
          <p:nvPr/>
        </p:nvSpPr>
        <p:spPr>
          <a:xfrm flipH="1">
            <a:off x="2787120" y="66348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Line 10"/>
          <p:cNvSpPr/>
          <p:nvPr/>
        </p:nvSpPr>
        <p:spPr>
          <a:xfrm>
            <a:off x="3868560" y="663480"/>
            <a:ext cx="935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Text Box 13"/>
          <p:cNvSpPr/>
          <p:nvPr/>
        </p:nvSpPr>
        <p:spPr>
          <a:xfrm>
            <a:off x="2206800" y="71280"/>
            <a:ext cx="402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: BN mất 6 L nướ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Line 15"/>
          <p:cNvSpPr/>
          <p:nvPr/>
        </p:nvSpPr>
        <p:spPr>
          <a:xfrm>
            <a:off x="539640" y="35449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7" name="Object 17"/>
              <p:cNvSpPr txBox="1"/>
              <p:nvPr/>
            </p:nvSpPr>
            <p:spPr>
              <a:xfrm>
                <a:off x="106200" y="4091040"/>
                <a:ext cx="892980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C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C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7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850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mosmol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8" name="Rectangle 13"/>
          <p:cNvSpPr/>
          <p:nvPr/>
        </p:nvSpPr>
        <p:spPr>
          <a:xfrm>
            <a:off x="0" y="5784480"/>
            <a:ext cx="90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  <a:ea typeface="Times New Roman"/>
              </a:rPr>
              <a:t>Tóm lại: Để duy trì tính hằng định/ NĐTT ICF, phải có cơ chế đ.hòa V, NĐTT/ ECF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zoom dir="ou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5f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Text Box 4" descr=""/>
          <p:cNvPicPr/>
          <p:nvPr/>
        </p:nvPicPr>
        <p:blipFill>
          <a:blip r:embed="rId1"/>
          <a:stretch/>
        </p:blipFill>
        <p:spPr>
          <a:xfrm>
            <a:off x="-139680" y="49320"/>
            <a:ext cx="7765920" cy="60300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5"/>
          <p:cNvSpPr/>
          <p:nvPr/>
        </p:nvSpPr>
        <p:spPr>
          <a:xfrm>
            <a:off x="276840" y="549360"/>
            <a:ext cx="86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điện tích anions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điện tích cations ở từng ngă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826920" y="1087560"/>
          <a:ext cx="7129800" cy="5898960"/>
        </p:xfrm>
        <a:graphic>
          <a:graphicData uri="http://schemas.openxmlformats.org/drawingml/2006/table">
            <a:tbl>
              <a:tblPr/>
              <a:tblGrid>
                <a:gridCol w="2802240"/>
                <a:gridCol w="2163600"/>
                <a:gridCol w="2163960"/>
              </a:tblGrid>
              <a:tr h="77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ành phầ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sma    (mOsmol/l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ịch kẽ    (mOsmol/l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0" lang="en-US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en-US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0" lang="en-US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0" lang="en-US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TỔNG CỘ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1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</a:t>
                      </a:r>
                      <a:r>
                        <a:rPr b="0" lang="en-US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O</a:t>
                      </a:r>
                      <a:r>
                        <a:rPr b="0" lang="en-US" sz="3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</a:t>
                      </a:r>
                      <a:r>
                        <a:rPr b="0" lang="en-US" sz="3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3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tei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id hữu cơ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5f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Text Box 4" descr=""/>
          <p:cNvPicPr/>
          <p:nvPr/>
        </p:nvPicPr>
        <p:blipFill>
          <a:blip r:embed="rId1"/>
          <a:stretch/>
        </p:blipFill>
        <p:spPr>
          <a:xfrm>
            <a:off x="-171360" y="171360"/>
            <a:ext cx="4011480" cy="682560"/>
          </a:xfrm>
          <a:prstGeom prst="rect">
            <a:avLst/>
          </a:prstGeom>
          <a:ln w="0">
            <a:noFill/>
          </a:ln>
        </p:spPr>
      </p:pic>
      <p:sp>
        <p:nvSpPr>
          <p:cNvPr id="563" name="Text Box 5"/>
          <p:cNvSpPr/>
          <p:nvPr/>
        </p:nvSpPr>
        <p:spPr>
          <a:xfrm>
            <a:off x="1689480" y="2852640"/>
            <a:ext cx="7016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 HCl + Na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3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+ Na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4" name="Text Box 6" descr=""/>
          <p:cNvPicPr/>
          <p:nvPr/>
        </p:nvPicPr>
        <p:blipFill>
          <a:blip r:embed="rId2"/>
          <a:stretch/>
        </p:blipFill>
        <p:spPr>
          <a:xfrm>
            <a:off x="401760" y="957240"/>
            <a:ext cx="8534160" cy="142560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7"/>
          <p:cNvSpPr/>
          <p:nvPr/>
        </p:nvSpPr>
        <p:spPr>
          <a:xfrm>
            <a:off x="5052600" y="4278240"/>
            <a:ext cx="1398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↑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Line 8"/>
          <p:cNvSpPr/>
          <p:nvPr/>
        </p:nvSpPr>
        <p:spPr>
          <a:xfrm>
            <a:off x="5365800" y="3141720"/>
            <a:ext cx="79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Text Box 9"/>
          <p:cNvSpPr/>
          <p:nvPr/>
        </p:nvSpPr>
        <p:spPr>
          <a:xfrm>
            <a:off x="6426720" y="4278240"/>
            <a:ext cx="1040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Text Box 10"/>
          <p:cNvSpPr/>
          <p:nvPr/>
        </p:nvSpPr>
        <p:spPr>
          <a:xfrm>
            <a:off x="7026480" y="3414600"/>
            <a:ext cx="2148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+ 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Line 11"/>
          <p:cNvSpPr/>
          <p:nvPr/>
        </p:nvSpPr>
        <p:spPr>
          <a:xfrm>
            <a:off x="6084720" y="3357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Freeform 12"/>
          <p:cNvSpPr/>
          <p:nvPr/>
        </p:nvSpPr>
        <p:spPr>
          <a:xfrm>
            <a:off x="5578560" y="3930480"/>
            <a:ext cx="1079280" cy="433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Freeform 15"/>
          <p:cNvSpPr/>
          <p:nvPr/>
        </p:nvSpPr>
        <p:spPr>
          <a:xfrm>
            <a:off x="6084720" y="3463920"/>
            <a:ext cx="863640" cy="252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Text Box 16"/>
          <p:cNvSpPr/>
          <p:nvPr/>
        </p:nvSpPr>
        <p:spPr>
          <a:xfrm>
            <a:off x="2208240" y="391788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Text Box 17"/>
          <p:cNvSpPr/>
          <p:nvPr/>
        </p:nvSpPr>
        <p:spPr>
          <a:xfrm>
            <a:off x="2423880" y="413388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Text Box 18"/>
          <p:cNvSpPr/>
          <p:nvPr/>
        </p:nvSpPr>
        <p:spPr>
          <a:xfrm>
            <a:off x="1885680" y="4005360"/>
            <a:ext cx="24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hịp thở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↑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Text Box 19"/>
          <p:cNvSpPr/>
          <p:nvPr/>
        </p:nvSpPr>
        <p:spPr>
          <a:xfrm>
            <a:off x="1917360" y="4710240"/>
            <a:ext cx="24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↑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ài tiết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Freeform 20"/>
          <p:cNvSpPr/>
          <p:nvPr/>
        </p:nvSpPr>
        <p:spPr>
          <a:xfrm>
            <a:off x="4211640" y="4365720"/>
            <a:ext cx="936720" cy="43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Text Box 22"/>
          <p:cNvSpPr/>
          <p:nvPr/>
        </p:nvSpPr>
        <p:spPr>
          <a:xfrm>
            <a:off x="1613880" y="5646600"/>
            <a:ext cx="7368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NaOH 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Na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Line 23"/>
          <p:cNvSpPr/>
          <p:nvPr/>
        </p:nvSpPr>
        <p:spPr>
          <a:xfrm>
            <a:off x="5364000" y="59500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Text Box 24"/>
          <p:cNvSpPr/>
          <p:nvPr/>
        </p:nvSpPr>
        <p:spPr>
          <a:xfrm>
            <a:off x="7484400" y="6305400"/>
            <a:ext cx="113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ậ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Freeform 26"/>
          <p:cNvSpPr/>
          <p:nvPr/>
        </p:nvSpPr>
        <p:spPr>
          <a:xfrm>
            <a:off x="6541920" y="6235560"/>
            <a:ext cx="949320" cy="371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5f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Text Box 4" descr=""/>
          <p:cNvPicPr/>
          <p:nvPr/>
        </p:nvPicPr>
        <p:blipFill>
          <a:blip r:embed="rId1"/>
          <a:stretch/>
        </p:blipFill>
        <p:spPr>
          <a:xfrm>
            <a:off x="-171360" y="171360"/>
            <a:ext cx="4835520" cy="68256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5"/>
          <p:cNvSpPr/>
          <p:nvPr/>
        </p:nvSpPr>
        <p:spPr>
          <a:xfrm>
            <a:off x="576360" y="2852640"/>
            <a:ext cx="7567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 HCl +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+ Na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3" name="Text Box 6" descr=""/>
          <p:cNvPicPr/>
          <p:nvPr/>
        </p:nvPicPr>
        <p:blipFill>
          <a:blip r:embed="rId2"/>
          <a:stretch/>
        </p:blipFill>
        <p:spPr>
          <a:xfrm>
            <a:off x="401760" y="957240"/>
            <a:ext cx="8754840" cy="1425600"/>
          </a:xfrm>
          <a:prstGeom prst="rect">
            <a:avLst/>
          </a:prstGeom>
          <a:ln w="0">
            <a:noFill/>
          </a:ln>
        </p:spPr>
      </p:pic>
      <p:sp>
        <p:nvSpPr>
          <p:cNvPr id="584" name="Text Box 8"/>
          <p:cNvSpPr/>
          <p:nvPr/>
        </p:nvSpPr>
        <p:spPr>
          <a:xfrm>
            <a:off x="534240" y="4724280"/>
            <a:ext cx="81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NaOH 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H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Text Box 9"/>
          <p:cNvSpPr/>
          <p:nvPr/>
        </p:nvSpPr>
        <p:spPr>
          <a:xfrm>
            <a:off x="7052760" y="5502240"/>
            <a:ext cx="113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ậ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Freeform 10"/>
          <p:cNvSpPr/>
          <p:nvPr/>
        </p:nvSpPr>
        <p:spPr>
          <a:xfrm>
            <a:off x="6110280" y="5432400"/>
            <a:ext cx="949320" cy="371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Text Box 11"/>
          <p:cNvSpPr/>
          <p:nvPr/>
        </p:nvSpPr>
        <p:spPr>
          <a:xfrm>
            <a:off x="6624000" y="3498840"/>
            <a:ext cx="113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ậ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Freeform 12"/>
          <p:cNvSpPr/>
          <p:nvPr/>
        </p:nvSpPr>
        <p:spPr>
          <a:xfrm>
            <a:off x="5681520" y="3429000"/>
            <a:ext cx="949320" cy="371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Line 13"/>
          <p:cNvSpPr/>
          <p:nvPr/>
        </p:nvSpPr>
        <p:spPr>
          <a:xfrm>
            <a:off x="4427640" y="3141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Line 14"/>
          <p:cNvSpPr/>
          <p:nvPr/>
        </p:nvSpPr>
        <p:spPr>
          <a:xfrm>
            <a:off x="4572000" y="5013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zoom dir="ou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7T16:38:08Z</dcterms:created>
  <dc:creator>Anseta</dc:creator>
  <dc:description/>
  <dc:language>en-US</dc:language>
  <cp:lastModifiedBy>Phong ( A Chau)</cp:lastModifiedBy>
  <dcterms:modified xsi:type="dcterms:W3CDTF">2010-05-27T05:40:19Z</dcterms:modified>
  <cp:revision>74</cp:revision>
  <dc:subject/>
  <dc:title>CÁC KHOANG DỊCH</dc:title>
</cp:coreProperties>
</file>