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Nachtigall_Serenade20.wav" ContentType="audio/x-wav"/>
  <Override PartName="/ppt/media/image2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E72-ED20-4A0E-A68E-B7A4656E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BC0-883E-48F3-8CD8-3B01C6DA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5CA-329A-4345-90E9-DE7E1C0F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7B9-4680-4A1C-A889-03C9B6C6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85F-EAC5-4B27-8A2F-79C364C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E7E-7C71-4FAD-82DA-44007670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733-EDC5-4664-A3E5-0F7A630A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178-BB27-484A-9143-1C860C49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22-4951-4617-956C-3B5D8B02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AF4-8B23-44A1-BB08-08F9969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3C8-8E87-4104-9035-A22296E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AD8-B9F6-4147-89DD-59CB495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1CF6-1852-4227-9EEB-2DEDF23CE24D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420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268280"/>
            <a:ext cx="57610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nowdrift"/>
              </a:rPr>
              <a:t>Waterworld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nowdrift"/>
              <a:ea typeface="Snowdrift"/>
            </a:endParaRPr>
          </a:p>
        </p:txBody>
      </p:sp>
      <p:sp>
        <p:nvSpPr>
          <p:cNvPr id="44" name=""/>
          <p:cNvSpPr/>
          <p:nvPr/>
        </p:nvSpPr>
        <p:spPr>
          <a:xfrm>
            <a:off x="5761440" y="630864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Arial Rounded MT Bold"/>
              </a:rPr>
              <a:t>Musik Nachtigall-Seren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74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90440" y="-171360"/>
            <a:ext cx="9524880" cy="727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334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82480" y="386064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Star Down"/>
              </a:rPr>
              <a:t>Good bye . . . .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152280"/>
            <a:ext cx="9524880" cy="7162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8:28:24Z</dcterms:created>
  <dc:creator>Rosmarie Steffen</dc:creator>
  <dc:description/>
  <dc:language>en-US</dc:language>
  <cp:lastModifiedBy>Smets</cp:lastModifiedBy>
  <dcterms:modified xsi:type="dcterms:W3CDTF">2009-07-06T04:42:34Z</dcterms:modified>
  <cp:revision>4</cp:revision>
  <dc:subject/>
  <dc:title>Folie 1</dc:title>
</cp:coreProperties>
</file>