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Nachtigall_Serenade20.wav" ContentType="audio/x-wav"/>
  <Override PartName="/ppt/media/image2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686-6575-4A90-AB0F-D949AB05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A1B-0A68-4478-9374-F37702E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A23-313F-428E-9E7D-8C200BF5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78B-1948-4898-A205-7D93E53E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9E0-52A1-4929-B1F5-E1100FF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B9F-38B1-46D7-9756-5323107D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8D6-344B-4770-AD29-5D5FCAA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E7B-182E-4482-9830-16E5B09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FBF-EC3C-4DD8-A8E9-D9FD0A5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2A9-7076-40D7-A316-E406550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33D-E481-491F-8C52-6503355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454-0ADF-4716-A6C5-D4A4945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1C0-9A24-49CA-A0E5-804A1D2D162B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420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268280"/>
            <a:ext cx="57610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nowdrift"/>
              </a:rPr>
              <a:t>Waterworld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nowdrift"/>
              <a:ea typeface="Snowdrift"/>
            </a:endParaRPr>
          </a:p>
        </p:txBody>
      </p:sp>
      <p:sp>
        <p:nvSpPr>
          <p:cNvPr id="44" name=""/>
          <p:cNvSpPr/>
          <p:nvPr/>
        </p:nvSpPr>
        <p:spPr>
          <a:xfrm>
            <a:off x="5761440" y="630864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 Rounded MT Bold"/>
              </a:rPr>
              <a:t>Musik Nachtigall-Seren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74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90440" y="-171360"/>
            <a:ext cx="9524880" cy="727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82480" y="386064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Star Down"/>
              </a:rPr>
              <a:t>Good bye . . . .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152280"/>
            <a:ext cx="9524880" cy="7162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8:28:24Z</dcterms:created>
  <dc:creator>Rosmarie Steffen</dc:creator>
  <dc:description/>
  <dc:language>en-US</dc:language>
  <cp:lastModifiedBy>Smets</cp:lastModifiedBy>
  <dcterms:modified xsi:type="dcterms:W3CDTF">2009-07-06T04:42:34Z</dcterms:modified>
  <cp:revision>4</cp:revision>
  <dc:subject/>
  <dc:title>Folie 1</dc:title>
</cp:coreProperties>
</file>