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A565-EEF4-4FCA-BAF3-F45C847E9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C57F-2486-46CC-9D4E-AEDAB4FE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946-EE00-4AB6-B763-EED59DDE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3B6F-FCC5-4353-AD95-04D3BDC1E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501C-EA81-44ED-AAEE-0238DB81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B8E5-DE73-4372-AD99-16B3593A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B91-51F6-4820-B615-89C03CE4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E185-7478-4D09-BDCA-F6E1E1A0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CC2F-814B-473B-ACC9-61F6FF65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744-743B-4063-B07C-B2795168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9B9-5133-4EEA-827A-86DD1FE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4993-A800-4841-82BD-5633F75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4B45-60CA-487F-A300-717197627280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7.xml"/><Relationship Id="rId3" Type="http://schemas.openxmlformats.org/officeDocument/2006/relationships/image" Target="../media/image8.jpeg"/><Relationship Id="rId4" Type="http://schemas.openxmlformats.org/officeDocument/2006/relationships/slide" Target="slide9.xml"/><Relationship Id="rId5" Type="http://schemas.openxmlformats.org/officeDocument/2006/relationships/image" Target="../media/image9.jpeg"/><Relationship Id="rId6" Type="http://schemas.openxmlformats.org/officeDocument/2006/relationships/hyperlink" Target="file:///../../&#1601;&#1607;&#1585;&#1587;%20&#1575;&#1604;&#1578;&#1585;&#1575;&#1606;&#1610;&#1605;.pps" TargetMode="External"/><Relationship Id="rId7" Type="http://schemas.openxmlformats.org/officeDocument/2006/relationships/image" Target="../media/image9.jpeg"/><Relationship Id="rId8" Type="http://schemas.openxmlformats.org/officeDocument/2006/relationships/slide" Target="slide3.xml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طول اليوم أستن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4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كل لما أنظر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92">
            <a:hlinkClick r:id="rId6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جه علشاني دم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23760" y="1219320"/>
            <a:ext cx="72295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جه علشاني دمه فدا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8080" y="2319480"/>
            <a:ext cx="82296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جت له اداني قلب ج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352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يرعان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ينسا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كل زماني حب جد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4624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و ضامني ايده تحمل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يه يشغلن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نا سعي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962520" y="94788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بــه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990720"/>
            <a:ext cx="3262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له ف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9880" y="2352600"/>
            <a:ext cx="381024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لى عين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395440"/>
            <a:ext cx="38862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ظر ليه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114300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ول اليوم استنى مجيئ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أقول يارب تعال آم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309840"/>
            <a:ext cx="91440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انت آمين في كل وعودك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4529160"/>
            <a:ext cx="91440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هما تطول أيام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سني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80880" y="1295280"/>
            <a:ext cx="822960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بد تيجي 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جيني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548080"/>
            <a:ext cx="8077320" cy="2283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</a:t>
            </a:r>
            <a:r>
              <a:rPr b="1" lang="ar-EG" sz="7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نسيني كل أنين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1066680"/>
            <a:ext cx="914400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كل لما انظر عمل النعمة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ي فداني على الصلي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3352680"/>
            <a:ext cx="8839080" cy="44780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قلبي يهلل قلبي يرن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مري ما هانسى أغلى حبيب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8:28Z</dcterms:created>
  <dc:creator>Nevia</dc:creator>
  <dc:description/>
  <dc:language>en-US</dc:language>
  <cp:lastModifiedBy>Sp2</cp:lastModifiedBy>
  <dcterms:modified xsi:type="dcterms:W3CDTF">2008-12-23T23:18:13Z</dcterms:modified>
  <cp:revision>13</cp:revision>
  <dc:subject/>
  <dc:title>No Slide Title</dc:title>
</cp:coreProperties>
</file>