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0C5-C0B7-4BD6-8CCB-55BB0FB1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C06-1731-4778-ABDA-5D46CF0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1C9-A1B7-4524-B89D-158475FD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EEA-14D5-420E-BA53-3444FC87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B31-F346-454C-BCCC-E31ED6A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932-5141-4728-BC0F-9EB09212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8AA-2D5A-43E5-B71F-D95C697D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69F-D3BD-4408-8A3E-86C9A885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BF4-CD15-45B5-96B3-F9F462F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EDF-4D2F-4C7F-A9F3-28C6CB8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007-4B23-4727-B963-59C6688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A8D-17D9-4EC2-95CA-E991ED3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E74-AA8B-4DD8-82C7-F4A7BE4655E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7.xml"/><Relationship Id="rId3" Type="http://schemas.openxmlformats.org/officeDocument/2006/relationships/image" Target="../media/image8.jpeg"/><Relationship Id="rId4" Type="http://schemas.openxmlformats.org/officeDocument/2006/relationships/slide" Target="slide9.xml"/><Relationship Id="rId5" Type="http://schemas.openxmlformats.org/officeDocument/2006/relationships/image" Target="../media/image9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ل لما انظر عمل النعم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ي فداني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352680"/>
            <a:ext cx="883908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ي يهلل قلبي يرن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ري ما هانسى أغلى حب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62520" y="94788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ــه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990720"/>
            <a:ext cx="3262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له 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352600"/>
            <a:ext cx="381024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لى عين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39544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ظر لي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طول اليوم أس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كل لما أنظر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جه علشاني دم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94788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ــه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990720"/>
            <a:ext cx="3262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له 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352600"/>
            <a:ext cx="381024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لى عين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39544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ظر لي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23760" y="1219320"/>
            <a:ext cx="72295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ه علشاني دمه فدا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319480"/>
            <a:ext cx="82296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جت له اداني قلب جد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يرعاني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ينسا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كل زماني حب جد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4624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ضامني ايده تحمل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ه يشغلني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نا سع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66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ل لما انظر عمل النعم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ي فداني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352680"/>
            <a:ext cx="883908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ي يهلل قلبي يرن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ري ما هانسى أغلى حب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4788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ــه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990720"/>
            <a:ext cx="3262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له 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352600"/>
            <a:ext cx="381024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لى عين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39544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ظر لي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14300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طول اليوم استنى مجيئ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قول يارب تعال آ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09840"/>
            <a:ext cx="91440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انت آمين في كل وعود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4529160"/>
            <a:ext cx="91440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هما تطول أيام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ن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1295280"/>
            <a:ext cx="82296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بد تيجي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جي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548080"/>
            <a:ext cx="8077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سيني كل أنين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066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ل لما انظر عمل النعم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ي فداني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352680"/>
            <a:ext cx="883908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ي يهلل قلبي يرن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ري ما هانسى أغلى حب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8:28Z</dcterms:created>
  <dc:creator>Nevia</dc:creator>
  <dc:description/>
  <dc:language>en-US</dc:language>
  <cp:lastModifiedBy>Sp2</cp:lastModifiedBy>
  <dcterms:modified xsi:type="dcterms:W3CDTF">2008-12-23T23:18:13Z</dcterms:modified>
  <cp:revision>13</cp:revision>
  <dc:subject/>
  <dc:title>No Slide Title</dc:title>
</cp:coreProperties>
</file>