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4.jpeg" ContentType="image/jpeg"/>
  <Override PartName="/ppt/media/image1.jpeg" ContentType="image/jpeg"/>
  <Override PartName="/ppt/media/angel3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73D-D43F-4F0C-9620-7AF0DCE2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CDF-24C7-45B6-B920-64CE6479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E20-0703-4FB7-8179-C9311489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3D6-97A6-4078-8E5C-D5529C77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EEC-E26B-4A40-877C-C2408268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12D-A99C-4024-8C7C-DE46C244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3AA-B3DE-4592-9D24-9F54C737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309-0D3E-41B3-B22B-99908B01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AE4-DB27-47B5-8683-7632FEE3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65C-5EF5-470C-A2D8-6CD6C1BA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D83-72EF-4B39-BB6F-EDCE13F4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5CB-3619-47BE-855C-84F18645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FA65-CDC9-4C5F-AD2C-B861812124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gel3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38240" y="404640"/>
            <a:ext cx="56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7200" spc="-1" strike="noStrike">
                <a:solidFill>
                  <a:srgbClr val="ff0066"/>
                </a:solidFill>
                <a:latin typeface="Harlow Solid Italic"/>
              </a:rPr>
              <a:t>Als  je  denk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720" y="623736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66"/>
                </a:solidFill>
                <a:latin typeface="Arial"/>
              </a:rPr>
              <a:t>Muziek: Eddy Smets  </a:t>
            </a:r>
            <a:r>
              <a:rPr b="1" i="1" lang="nl-BE" sz="1800" spc="-1" strike="noStrike">
                <a:solidFill>
                  <a:srgbClr val="ff0066"/>
                </a:solidFill>
                <a:latin typeface="Arial"/>
              </a:rPr>
              <a:t>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heel spokes="3"/>
    <p:sndAc>
      <p:stSnd>
        <p:snd r:embed="rId2" name="angel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15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5480" y="765000"/>
            <a:ext cx="58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66"/>
                </a:solidFill>
                <a:latin typeface="Comic Sans MS"/>
              </a:rPr>
              <a:t>En waar je wegen dan ook zullen l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54760" y="587700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66"/>
                </a:solidFill>
                <a:latin typeface="Comic Sans MS"/>
              </a:rPr>
              <a:t>Denk dan aan je echte vri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76760" y="76500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En die zullen voor eeuw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45920" y="6093000"/>
            <a:ext cx="32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En altijd bij je blij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716360" y="47628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400" spc="-1" strike="noStrike">
                <a:solidFill>
                  <a:srgbClr val="ff0066"/>
                </a:solidFill>
                <a:latin typeface="Comic Sans MS"/>
              </a:rPr>
              <a:t>The 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18000" y="6308640"/>
            <a:ext cx="38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0066"/>
                </a:solidFill>
                <a:latin typeface="Arial"/>
              </a:rPr>
              <a:t>Made by: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nl-BE" sz="2000" spc="-1" strike="noStrike">
                <a:solidFill>
                  <a:srgbClr val="ff0066"/>
                </a:solidFill>
                <a:latin typeface="Comic Sans MS"/>
              </a:rPr>
              <a:t>Jaklien (Peggytoe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835280" y="566100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wheel spokes="3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7840" y="476280"/>
            <a:ext cx="56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0066"/>
                </a:solidFill>
                <a:latin typeface="Comic Sans MS"/>
              </a:rPr>
              <a:t>Als je denkt, telkens als je denkt</a:t>
            </a:r>
            <a:r>
              <a:rPr b="1" i="1" lang="nl-BE" sz="2800" spc="-1" strike="noStrike">
                <a:solidFill>
                  <a:srgbClr val="ff00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4160" y="1795320"/>
            <a:ext cx="29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i="1" lang="nl-BE" sz="2800" spc="-1" strike="noStrike">
                <a:solidFill>
                  <a:srgbClr val="ff0066"/>
                </a:solidFill>
                <a:latin typeface="Comic Sans MS"/>
              </a:rPr>
              <a:t>t gaat niet m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91880" y="620640"/>
            <a:ext cx="64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0000"/>
                </a:solidFill>
                <a:latin typeface="Comic Sans MS"/>
              </a:rPr>
              <a:t>Schijnt er een lichtstraal keer op 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5589720"/>
            <a:ext cx="82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0000"/>
                </a:solidFill>
                <a:latin typeface="Comic Sans MS"/>
              </a:rPr>
              <a:t>Die de kracht en moed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0000"/>
                </a:solidFill>
                <a:latin typeface="Comic Sans MS"/>
              </a:rPr>
              <a:t>                         </a:t>
            </a:r>
            <a:r>
              <a:rPr b="1" i="1" lang="nl-BE" sz="2800" spc="-1" strike="noStrike">
                <a:solidFill>
                  <a:srgbClr val="ff0000"/>
                </a:solidFill>
                <a:latin typeface="Comic Sans MS"/>
              </a:rPr>
              <a:t>om verder te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2842560" y="260280"/>
            <a:ext cx="59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Laten wij elk moment aangrij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58770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Om hoop, liefde en vert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                      </a:t>
            </a: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om ons heen te verspr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23400" y="642960"/>
            <a:ext cx="549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0066"/>
                </a:solidFill>
                <a:latin typeface="Comic Sans MS"/>
              </a:rPr>
              <a:t>Geluk ligt niet aan de overka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13720" y="5900760"/>
            <a:ext cx="35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0066"/>
                </a:solidFill>
                <a:latin typeface="Comic Sans MS"/>
              </a:rPr>
              <a:t>Ligt niet bij 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560" y="476280"/>
            <a:ext cx="62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Je denkt dikwijls w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de anderen hebben het veel bet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609300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Maar het geluk ligt bij je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549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Als je wilt is er vandaag voor j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                         </a:t>
            </a: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een nieuwe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73440" y="6237360"/>
            <a:ext cx="65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Als je wilt kun je vandaag opnieuw begi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692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Als je wilt, stap je vanaf 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7920" y="522936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Een nieuwe wereld bi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3000" y="40464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66"/>
                </a:solidFill>
                <a:latin typeface="Comic Sans MS"/>
              </a:rPr>
              <a:t>En dat als een nieuw 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2280" y="587700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0066"/>
                </a:solidFill>
                <a:latin typeface="Comic Sans MS"/>
              </a:rPr>
              <a:t>Want vandaag is je eerste s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3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8:03:43Z</dcterms:created>
  <dc:creator>Fer</dc:creator>
  <dc:description/>
  <dc:language>en-US</dc:language>
  <cp:lastModifiedBy>Smets</cp:lastModifiedBy>
  <dcterms:modified xsi:type="dcterms:W3CDTF">2008-08-25T19:18:19Z</dcterms:modified>
  <cp:revision>26</cp:revision>
  <dc:subject/>
  <dc:title>Dia 1</dc:title>
</cp:coreProperties>
</file>