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jpeg" ContentType="image/jpeg"/>
  <Override PartName="/ppt/media/angel3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211-EB07-4B17-823A-7BAABB8A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73A-1024-492B-BE3B-C75C536C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CBE-E7D3-424C-8DB0-06DAA7A3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8DE-5236-4E12-BBF3-50E6B13F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504-60C7-4CD2-B7B2-558752A3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D49-9396-4DAE-9D6B-0B1443B1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482-A2CE-447A-905E-43A6396D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582-D598-4A2A-85DE-81EC760A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BC6-1D93-48C8-B0A3-81C9DE43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703-E1E1-45E5-8858-A221F06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F2B-CDA5-4A59-A8C4-A964C285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EB7-7E2A-4CBB-8770-25D9CA4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2DFC-0124-4763-AA09-BFC4DACB76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gel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38240" y="404640"/>
            <a:ext cx="56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7200" spc="-1" strike="noStrike">
                <a:solidFill>
                  <a:srgbClr val="ff0066"/>
                </a:solidFill>
                <a:latin typeface="Harlow Solid Italic"/>
              </a:rPr>
              <a:t>Als  je  denk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623736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66"/>
                </a:solidFill>
                <a:latin typeface="Arial"/>
              </a:rPr>
              <a:t>Muziek: Eddy Smets  </a:t>
            </a:r>
            <a:r>
              <a:rPr b="1" i="1" lang="nl-BE" sz="1800" spc="-1" strike="noStrike">
                <a:solidFill>
                  <a:srgbClr val="ff0066"/>
                </a:solidFill>
                <a:latin typeface="Arial"/>
              </a:rPr>
              <a:t>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heel spokes="3"/>
    <p:sndAc>
      <p:stSnd>
        <p:snd r:embed="rId2" name="angel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15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5480" y="765000"/>
            <a:ext cx="58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66"/>
                </a:solidFill>
                <a:latin typeface="Comic Sans MS"/>
              </a:rPr>
              <a:t>En waar je wegen dan ook zullen 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54760" y="587700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66"/>
                </a:solidFill>
                <a:latin typeface="Comic Sans MS"/>
              </a:rPr>
              <a:t>Denk dan aan je echte vri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76760" y="76500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En die zullen voor eeuw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45920" y="6093000"/>
            <a:ext cx="32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En altijd bij je blij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16360" y="476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ff0066"/>
                </a:solidFill>
                <a:latin typeface="Comic Sans MS"/>
              </a:rPr>
              <a:t>The 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18000" y="6308640"/>
            <a:ext cx="38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0066"/>
                </a:solidFill>
                <a:latin typeface="Arial"/>
              </a:rPr>
              <a:t>Made by: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BE" sz="2000" spc="-1" strike="noStrike">
                <a:solidFill>
                  <a:srgbClr val="ff0066"/>
                </a:solidFill>
                <a:latin typeface="Comic Sans MS"/>
              </a:rPr>
              <a:t>Jaklien (Peggytoe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35280" y="56610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wheel spokes="3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7840" y="476280"/>
            <a:ext cx="56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66"/>
                </a:solidFill>
                <a:latin typeface="Comic Sans MS"/>
              </a:rPr>
              <a:t>Als je denkt, telkens als je denkt</a:t>
            </a:r>
            <a:r>
              <a:rPr b="1" i="1" lang="nl-BE" sz="2800" spc="-1" strike="noStrike">
                <a:solidFill>
                  <a:srgbClr val="ff00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4160" y="17953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i="1" lang="nl-BE" sz="2800" spc="-1" strike="noStrike">
                <a:solidFill>
                  <a:srgbClr val="ff0066"/>
                </a:solidFill>
                <a:latin typeface="Comic Sans MS"/>
              </a:rPr>
              <a:t>t gaat niet m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91880" y="620640"/>
            <a:ext cx="64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00"/>
                </a:solidFill>
                <a:latin typeface="Comic Sans MS"/>
              </a:rPr>
              <a:t>Schijnt er een lichtstraal keer op 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558972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00"/>
                </a:solidFill>
                <a:latin typeface="Comic Sans MS"/>
              </a:rPr>
              <a:t>Die de kracht en moed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00"/>
                </a:solidFill>
                <a:latin typeface="Comic Sans MS"/>
              </a:rPr>
              <a:t>                         </a:t>
            </a:r>
            <a:r>
              <a:rPr b="1" i="1" lang="nl-BE" sz="2800" spc="-1" strike="noStrike">
                <a:solidFill>
                  <a:srgbClr val="ff0000"/>
                </a:solidFill>
                <a:latin typeface="Comic Sans MS"/>
              </a:rPr>
              <a:t>om verder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2842560" y="260280"/>
            <a:ext cx="59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Laten wij elk moment aangrij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877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Om hoop, liefde en 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om ons heen te verspr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3400" y="642960"/>
            <a:ext cx="54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66"/>
                </a:solidFill>
                <a:latin typeface="Comic Sans MS"/>
              </a:rPr>
              <a:t>Geluk ligt niet aan de overka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13720" y="5900760"/>
            <a:ext cx="35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66"/>
                </a:solidFill>
                <a:latin typeface="Comic Sans MS"/>
              </a:rPr>
              <a:t>Ligt niet bij 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560" y="476280"/>
            <a:ext cx="62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Je denkt dikwijls w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de anderen hebben het veel be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609300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Maar het geluk ligt bij je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549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Als je wilt is er vandaag voor j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                         </a:t>
            </a: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een nieuwe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73440" y="6237360"/>
            <a:ext cx="65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Als je wilt kun je vandaag opnieuw begi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692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Als je wilt, stap je vanaf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7920" y="522936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Een nieuwe wereld bi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3000" y="40464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66"/>
                </a:solidFill>
                <a:latin typeface="Comic Sans MS"/>
              </a:rPr>
              <a:t>En dat als een nieuw 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2280" y="587700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66"/>
                </a:solidFill>
                <a:latin typeface="Comic Sans MS"/>
              </a:rPr>
              <a:t>Want vandaag is je eerste s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8:03:43Z</dcterms:created>
  <dc:creator>Fer</dc:creator>
  <dc:description/>
  <dc:language>en-US</dc:language>
  <cp:lastModifiedBy>Smets</cp:lastModifiedBy>
  <dcterms:modified xsi:type="dcterms:W3CDTF">2008-08-25T19:18:19Z</dcterms:modified>
  <cp:revision>26</cp:revision>
  <dc:subject/>
  <dc:title>Dia 1</dc:title>
</cp:coreProperties>
</file>