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FBD6-9430-46B0-A30F-0778EDF8D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7F8B-9FD5-4A61-8B51-F71BC5FB3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 chandeliers, ice sculptur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1A5-AE1A-405F-8DD3-CFAFBC0F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590-BB82-4B7B-8FDF-E87608F2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43D-563B-4413-A48A-D14BF32F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4B2-D63C-4096-9DF4-E4306450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A5A-7DBA-49ED-8D74-9E024939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D5C1-CB90-4A6A-84BD-EE72455B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E706-86DE-496B-8A71-88CC08F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59BA-CF34-43F9-B839-CB499405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89DD-5D5C-4AE1-9C62-817EF44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84D-DA10-428F-91B0-6876F68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383D-ACDC-4975-8544-36EDC5D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2EF-26AE-4807-820B-22A5270D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14AD-135F-4400-8394-8228F0B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31A-48C9-42B8-ADEB-EFEBD21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5B74-1754-43FF-BD1C-F1C05A3C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9116-0616-44A8-80B0-C325F46C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0808-5B43-4374-AD1C-0AF29CF8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F18-86A3-4D56-9A1D-32C810F4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016-2897-48B3-8700-DE0A1F1C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672-0AF6-4A75-9483-41CE1126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DFA-60F9-4054-88D7-3ED5398E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D94-2167-4102-BA09-9EA7425B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469-A820-4A5C-B056-8B753197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97A-43C8-45B4-94BD-7BA04B6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0E8-5E0F-41F3-ACE7-D37ABCE31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8A93-7460-4A30-9155-22EE0EF90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353880"/>
            <a:ext cx="10159920" cy="726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414141"/>
                </a:solidFill>
                <a:latin typeface="georgia"/>
              </a:rPr>
              <a:t>APPROVALS &amp; CONSULTATI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75800" y="2192400"/>
            <a:ext cx="573084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Laws, orders &amp; regul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Liquor licen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Music license (SoCa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Noi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Local authorities (ex. polic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Insurance co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MARKET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94880" y="2182680"/>
            <a:ext cx="6178680" cy="45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Inte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Attend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Price &amp; Tick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Public Rel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078000" y="2382840"/>
            <a:ext cx="70837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FINANCIAL CONTRO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04960" y="2430000"/>
            <a:ext cx="85500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Financial Commitment: $541,3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10% contingency f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Budget is completely inclusive of all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RISK MANAGEMEN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52240" y="2336760"/>
            <a:ext cx="92437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Identific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Assessmen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Management of Risks/Hazar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RISK MANAGEMEN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46280" y="2320920"/>
            <a:ext cx="90453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Natural Ri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Fire &amp; heavy 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Financial Ri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Unforeseen costs &amp; fines d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Mismanagement Ri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Miscommunication with suppliers &amp;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Technology-related Ri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Faulty installation &amp; malfunc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0280" y="2558880"/>
            <a:ext cx="963936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ENT STAG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THEM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0720" y="2336400"/>
            <a:ext cx="517680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15th Anniver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Dia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White &amp; Si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311960" y="2154240"/>
            <a:ext cx="2178000" cy="189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2"/>
          <a:srcRect l="5816" t="5050" r="4388" b="8535"/>
          <a:stretch/>
        </p:blipFill>
        <p:spPr>
          <a:xfrm>
            <a:off x="6411960" y="4386240"/>
            <a:ext cx="3078000" cy="2962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rcRect l="4674" t="2812" r="4586" b="0"/>
          <a:stretch/>
        </p:blipFill>
        <p:spPr>
          <a:xfrm>
            <a:off x="5511960" y="1938240"/>
            <a:ext cx="15411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DECO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42800" y="2579400"/>
            <a:ext cx="544032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Layou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Airbus A380: lounge, reception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Hangar: Banquet style, dance floor,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Entertain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CEO Gregg Saretsky, Champaign band, Michael B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Lighting &amp; Soun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create an ambience to allow the diamonds to shi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multiple spe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197760" y="1625760"/>
            <a:ext cx="3487680" cy="245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689440" y="4470480"/>
            <a:ext cx="3475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7680" y="-360"/>
            <a:ext cx="963936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LAYOUT OVERVIEW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01520" y="1625760"/>
            <a:ext cx="10012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MORE STAG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270920" y="2023920"/>
            <a:ext cx="2071440" cy="305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557280" y="2646000"/>
            <a:ext cx="644508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eorgia"/>
              </a:rPr>
              <a:t>Servic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Overall cove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eorgia"/>
              </a:rPr>
              <a:t>Cater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5 course meal by Jean-Georges</a:t>
            </a:r>
            <a:r>
              <a:rPr b="0" lang="en-US" sz="1800" spc="-1" strike="noStrike">
                <a:solidFill>
                  <a:srgbClr val="414141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Waste &amp; Enviro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Implement recycl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782800" y="758880"/>
            <a:ext cx="4594320" cy="3862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9680" y="4060800"/>
            <a:ext cx="9690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14141"/>
                </a:solidFill>
                <a:latin typeface="georgia"/>
              </a:rPr>
              <a:t>15th Anniversary Diamond Event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60280" y="5322600"/>
            <a:ext cx="9639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14141"/>
                </a:solidFill>
                <a:latin typeface="georgia"/>
              </a:rPr>
              <a:t>Event Managem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/>
          <a:stretch/>
        </p:blipFill>
        <p:spPr>
          <a:xfrm>
            <a:off x="-25560" y="5681520"/>
            <a:ext cx="1613160" cy="2144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 rot="11493600">
            <a:off x="8819640" y="2487600"/>
            <a:ext cx="109548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4"/>
          <a:stretch/>
        </p:blipFill>
        <p:spPr>
          <a:xfrm>
            <a:off x="8174160" y="3736800"/>
            <a:ext cx="1304640" cy="105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109440" y="493560"/>
            <a:ext cx="1024200" cy="865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6"/>
          <a:stretch/>
        </p:blipFill>
        <p:spPr>
          <a:xfrm>
            <a:off x="8693280" y="-13968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7"/>
          <a:stretch/>
        </p:blipFill>
        <p:spPr>
          <a:xfrm>
            <a:off x="8918640" y="158760"/>
            <a:ext cx="738000" cy="768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8359920" y="6281640"/>
            <a:ext cx="1701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ffffff"/>
                </a:solidFill>
                <a:latin typeface="georgia"/>
              </a:rPr>
              <a:t>Ashley Salvad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ffffff"/>
                </a:solidFill>
                <a:latin typeface="georgia"/>
              </a:rPr>
              <a:t>Danny She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ffffff"/>
                </a:solidFill>
                <a:latin typeface="georgia"/>
              </a:rPr>
              <a:t>Emil Stef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ffffff"/>
                </a:solidFill>
                <a:latin typeface="georgia"/>
              </a:rPr>
              <a:t>Stephanie Mura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STAFF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55640" y="3030120"/>
            <a:ext cx="796932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georgia"/>
              </a:rPr>
              <a:t>Catering, technical operations, customer relations, media departmen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georgia"/>
              </a:rPr>
              <a:t>Hire White Glove Waiters temporary staffing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Training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Brie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SAFETY &amp; SECURITY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2437920"/>
            <a:ext cx="9121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Inform the polic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Consult with technician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Communic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OPERATIONAL PLA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56800" y="2540160"/>
            <a:ext cx="912204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Polic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Procedur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Run she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Performance Standar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Expectations/criteria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Contingency Pla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Logistic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Setup/teardow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ALU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87520" y="2052360"/>
            <a:ext cx="738000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eorgia"/>
              </a:rPr>
              <a:t>Measuring Objective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14141"/>
                </a:solidFill>
                <a:latin typeface="georgia"/>
              </a:rPr>
              <a:t>Questionnaires/Guestboo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14141"/>
                </a:solidFill>
                <a:latin typeface="georgia"/>
              </a:rPr>
              <a:t>Ratio of attendants/invit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14141"/>
                </a:solidFill>
                <a:latin typeface="georgia"/>
              </a:rPr>
              <a:t>Track employee performa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0280" y="353880"/>
            <a:ext cx="963936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QUESTIONS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2919240" y="3165480"/>
            <a:ext cx="42627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ENT DESCRIP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96960" y="2153880"/>
            <a:ext cx="878688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WestJet’s Diamond 15</a:t>
            </a:r>
            <a:r>
              <a:rPr b="0" lang="en-US" sz="3100" spc="-1" strike="noStrike" baseline="30000">
                <a:solidFill>
                  <a:srgbClr val="414141"/>
                </a:solidFill>
                <a:latin typeface="georgia"/>
              </a:rPr>
              <a:t>th</a:t>
            </a: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 Anniversar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Dinner &amp; Dance – By invite on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Located in WestJet Hangar &amp; Airbus A38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March 12, 2011 @ 4:30 pm - 12:30 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 rot="16864800">
            <a:off x="8547120" y="5476680"/>
            <a:ext cx="16128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ENT DESCRIP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2153880"/>
            <a:ext cx="87883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Purpose: WestJet Appreci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Concept: A fun &amp; sophisticated eve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Black Tie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Objectiv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Thank guests for supporting the comp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Provide an exceptional exper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 rot="16864800">
            <a:off x="8547120" y="5476680"/>
            <a:ext cx="161280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8032680" y="2009880"/>
            <a:ext cx="1763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09560" y="641520"/>
            <a:ext cx="6350040" cy="42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5495760" y="4457880"/>
            <a:ext cx="4677120" cy="28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198360" y="4589640"/>
            <a:ext cx="43210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44444"/>
                </a:solidFill>
                <a:latin typeface="georgia"/>
              </a:rPr>
              <a:t>INVIT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613" t="10353" r="8180" b="21720"/>
          <a:stretch/>
        </p:blipFill>
        <p:spPr>
          <a:xfrm>
            <a:off x="1119240" y="1692360"/>
            <a:ext cx="7993080" cy="46321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44444"/>
                </a:solidFill>
                <a:latin typeface="georgia"/>
              </a:rPr>
              <a:t>EVENT TIM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2600" y="1828800"/>
            <a:ext cx="905508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4:30-5:45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 – Guests arrive, passed appetizers and cocktails available on Airbus A38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5:45-6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 – Guests head into airport hangar to find seats and prepare for di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6 – 8:30 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– 5 Course seated meal prepared by Jean-Georges Vongerichten of Market, complete with wine pair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8:30-9:45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 – Musical performance from Vancouver local Michael Bubl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9:45-10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 – Champagne toast. Speech from WestJet CEO Gregg Sarets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10 – 12:30 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– Guests are treated to live band and dan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52240" y="111240"/>
            <a:ext cx="905508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444444"/>
                </a:solidFill>
                <a:latin typeface="georgia"/>
              </a:rPr>
              <a:t>DIAMOND ANNIVERSARY SAMPLE MENU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4280" y="1460520"/>
            <a:ext cx="1007136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by: Jean-Georges Vonger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et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a Tart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cado, Spicy Rad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ger 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ed Shrimp Sal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Greens, Avo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pagne 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t Pea S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napper, Nut and Seed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t and Sour Br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lled Pork Cho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nte Beans, Pepp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iutto J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milk Panna Cot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sted Apric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cot Sorb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Vegetarian Menu Available Upon Request -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727280" y="1219320"/>
            <a:ext cx="6603840" cy="65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 rot="16864800">
            <a:off x="7339680" y="3591720"/>
            <a:ext cx="1612800" cy="214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3"/>
          <a:srcRect l="2727" t="0" r="4372" b="4697"/>
          <a:stretch/>
        </p:blipFill>
        <p:spPr>
          <a:xfrm rot="20769600">
            <a:off x="484200" y="4842000"/>
            <a:ext cx="1550880" cy="172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ENT MANAGEMEN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4680" y="2003040"/>
            <a:ext cx="615780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Event involvement is ke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Variety of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hley Salvador</cp:lastModifiedBy>
  <dcterms:modified xsi:type="dcterms:W3CDTF">2010-11-18T17:20:28Z</dcterms:modified>
  <cp:revision>15</cp:revision>
  <dc:subject/>
  <dc:title>PowerPoint Presentation</dc:title>
</cp:coreProperties>
</file>