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CD4-EBBF-459D-9D6E-E3746FA0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EDB-E432-496D-A312-7E2E2C1A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8FC-0F56-4FA0-A5B9-94E3891E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85E-369C-4786-B6F5-5C1D5913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2A7-8DD4-445D-99A9-D3E9B4CC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E85-FD5E-4C4B-9E48-9D65904F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FA4-1E12-4828-A6F4-A63C0EA2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22E-1108-4574-96DC-7411FD1E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35E-A388-46AD-9842-7A4C397A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338-8207-4DA0-AF20-C12D01B7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A6C-A700-4087-951A-4554CBA0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83A-6630-40C9-B51B-2A1D52CC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00D0-3C29-4AE6-9812-4FE299B0BB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Fotos pessoais\Ponte da Eternidade\Montanhas com barr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578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b0f0"/>
                </a:solidFill>
                <a:latin typeface="Arial"/>
                <a:ea typeface="Arial"/>
              </a:rPr>
              <a:t>PONTE DA ETERN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31480" y="284328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6210000" y="35305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I Coríntios 15: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7200" y="58435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orque primeiramente vos entreguei o que também recebi: que Cristo morreu por nossos pecados, segundo as Escrituras; que foi sepultado; que foi ressuscitado ao terceiro dia, segundo as Escritura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380280" y="31590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2 Coríntios 5: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755760" y="27860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5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magem 11" descr="Cruz.gif"/>
          <p:cNvPicPr/>
          <p:nvPr/>
        </p:nvPicPr>
        <p:blipFill>
          <a:blip r:embed="rId1"/>
          <a:stretch/>
        </p:blipFill>
        <p:spPr>
          <a:xfrm>
            <a:off x="1574640" y="71280"/>
            <a:ext cx="5994720" cy="5643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Homemcópia"/>
          <p:cNvPicPr/>
          <p:nvPr/>
        </p:nvPicPr>
        <p:blipFill>
          <a:blip r:embed="rId2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31480" y="284328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805800" y="39290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fésios 2: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41360" y="5904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orque pela graça sois salvos, por meio da fé, e isto não vem de vós, é dom de Deus; não vem das obras, para que ninguém se glori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210000" y="35305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I Coríntios 15: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380280" y="31590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2 Coríntios 5: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6755760" y="27860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5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231480" y="284328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7265880" y="43340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João 5: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41360" y="587376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Em verdade, em verdade vos digo que quem ouve a minha palavra, e crê naquele que me enviou, tem a vida eterna e não entra em juízo, mas já passou da morte para a vid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Imagem 11" descr="Cruz.gif"/>
          <p:cNvPicPr/>
          <p:nvPr/>
        </p:nvPicPr>
        <p:blipFill>
          <a:blip r:embed="rId2"/>
          <a:stretch/>
        </p:blipFill>
        <p:spPr>
          <a:xfrm>
            <a:off x="1574640" y="71280"/>
            <a:ext cx="5994720" cy="5643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Conector reto 14"/>
          <p:cNvSpPr/>
          <p:nvPr/>
        </p:nvSpPr>
        <p:spPr>
          <a:xfrm flipV="1">
            <a:off x="1857240" y="267840"/>
            <a:ext cx="2214720" cy="1071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onector reto 17"/>
          <p:cNvSpPr/>
          <p:nvPr/>
        </p:nvSpPr>
        <p:spPr>
          <a:xfrm>
            <a:off x="4071960" y="266760"/>
            <a:ext cx="10717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aixaDeTexto 20"/>
          <p:cNvSpPr/>
          <p:nvPr/>
        </p:nvSpPr>
        <p:spPr>
          <a:xfrm rot="20050200">
            <a:off x="2364480" y="438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UV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aixaDeTexto 21"/>
          <p:cNvSpPr/>
          <p:nvPr/>
        </p:nvSpPr>
        <p:spPr>
          <a:xfrm>
            <a:off x="4168800" y="-36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805800" y="39290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fésios 2: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210000" y="35305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I Coríntios 15: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380280" y="31590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2 Coríntios 5: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6755760" y="27860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5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31480" y="284328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7265880" y="47466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João 1: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26960" y="59198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as, a todos quantos o receberam, aos que crêem no seu nome, deu-lhes o poder de se tornarem filhos de Deu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Imagem 11" descr="Cruz.gif"/>
          <p:cNvPicPr/>
          <p:nvPr/>
        </p:nvPicPr>
        <p:blipFill>
          <a:blip r:embed="rId2"/>
          <a:stretch/>
        </p:blipFill>
        <p:spPr>
          <a:xfrm>
            <a:off x="1574640" y="71280"/>
            <a:ext cx="5994720" cy="5643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Conector reto 13"/>
          <p:cNvSpPr/>
          <p:nvPr/>
        </p:nvSpPr>
        <p:spPr>
          <a:xfrm flipV="1">
            <a:off x="1857240" y="267840"/>
            <a:ext cx="2214720" cy="1071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Conector reto 14"/>
          <p:cNvSpPr/>
          <p:nvPr/>
        </p:nvSpPr>
        <p:spPr>
          <a:xfrm>
            <a:off x="4071960" y="266760"/>
            <a:ext cx="10717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Conector reto 15"/>
          <p:cNvSpPr/>
          <p:nvPr/>
        </p:nvSpPr>
        <p:spPr>
          <a:xfrm flipH="1" flipV="1">
            <a:off x="5132160" y="256680"/>
            <a:ext cx="2214360" cy="1096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CaixaDeTexto 16"/>
          <p:cNvSpPr/>
          <p:nvPr/>
        </p:nvSpPr>
        <p:spPr>
          <a:xfrm rot="20050200">
            <a:off x="2364480" y="438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UV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CaixaDeTexto 17"/>
          <p:cNvSpPr/>
          <p:nvPr/>
        </p:nvSpPr>
        <p:spPr>
          <a:xfrm>
            <a:off x="4168800" y="-36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CaixaDeTexto 18"/>
          <p:cNvSpPr/>
          <p:nvPr/>
        </p:nvSpPr>
        <p:spPr>
          <a:xfrm rot="1570200">
            <a:off x="5694480" y="60948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CE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7265880" y="43340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João 5: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6805800" y="39290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fésios 2: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6210000" y="35305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I Coríntios 15: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380280" y="31590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2 Coríntios 5: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6755760" y="27860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5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31480" y="284328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7265880" y="47466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João 1: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426960" y="59198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as, a todos quantos o receberam, aos que crêem no seu nome, deu-lhes o poder de se tornarem filhos de Deu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Imagem 11" descr="Cruz.gif"/>
          <p:cNvPicPr/>
          <p:nvPr/>
        </p:nvPicPr>
        <p:blipFill>
          <a:blip r:embed="rId2"/>
          <a:stretch/>
        </p:blipFill>
        <p:spPr>
          <a:xfrm>
            <a:off x="1574640" y="71280"/>
            <a:ext cx="5994720" cy="5643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Conector reto 11"/>
          <p:cNvSpPr/>
          <p:nvPr/>
        </p:nvSpPr>
        <p:spPr>
          <a:xfrm flipV="1">
            <a:off x="1857240" y="267840"/>
            <a:ext cx="2214720" cy="1071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Conector reto 12"/>
          <p:cNvSpPr/>
          <p:nvPr/>
        </p:nvSpPr>
        <p:spPr>
          <a:xfrm>
            <a:off x="4071960" y="266760"/>
            <a:ext cx="10717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Conector reto 13"/>
          <p:cNvSpPr/>
          <p:nvPr/>
        </p:nvSpPr>
        <p:spPr>
          <a:xfrm flipH="1" flipV="1">
            <a:off x="5132160" y="256680"/>
            <a:ext cx="2214360" cy="1096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aixaDeTexto 16"/>
          <p:cNvSpPr/>
          <p:nvPr/>
        </p:nvSpPr>
        <p:spPr>
          <a:xfrm rot="20050200">
            <a:off x="2364480" y="438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UV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CaixaDeTexto 17"/>
          <p:cNvSpPr/>
          <p:nvPr/>
        </p:nvSpPr>
        <p:spPr>
          <a:xfrm>
            <a:off x="4168800" y="-36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CaixaDeTexto 18"/>
          <p:cNvSpPr/>
          <p:nvPr/>
        </p:nvSpPr>
        <p:spPr>
          <a:xfrm rot="1570200">
            <a:off x="5694480" y="60948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CE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7265880" y="43340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João 5: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6805800" y="39290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fésios 2: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6210000" y="35305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I Coríntios 15: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6380280" y="31590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2 Coríntios 5: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6755760" y="27860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5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231480" y="284328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Imagem 11" descr="Cruz.gif"/>
          <p:cNvPicPr/>
          <p:nvPr/>
        </p:nvPicPr>
        <p:blipFill>
          <a:blip r:embed="rId2"/>
          <a:stretch/>
        </p:blipFill>
        <p:spPr>
          <a:xfrm>
            <a:off x="1574640" y="71280"/>
            <a:ext cx="5994720" cy="5643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Conector reto 13"/>
          <p:cNvSpPr/>
          <p:nvPr/>
        </p:nvSpPr>
        <p:spPr>
          <a:xfrm flipV="1">
            <a:off x="1857240" y="267840"/>
            <a:ext cx="2214720" cy="1071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Conector reto 14"/>
          <p:cNvSpPr/>
          <p:nvPr/>
        </p:nvSpPr>
        <p:spPr>
          <a:xfrm>
            <a:off x="4071960" y="266760"/>
            <a:ext cx="10717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Conector reto 15"/>
          <p:cNvSpPr/>
          <p:nvPr/>
        </p:nvSpPr>
        <p:spPr>
          <a:xfrm flipH="1" flipV="1">
            <a:off x="5132160" y="256680"/>
            <a:ext cx="2214360" cy="1096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CaixaDeTexto 16"/>
          <p:cNvSpPr/>
          <p:nvPr/>
        </p:nvSpPr>
        <p:spPr>
          <a:xfrm rot="20050200">
            <a:off x="2364480" y="438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UV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CaixaDeTexto 17"/>
          <p:cNvSpPr/>
          <p:nvPr/>
        </p:nvSpPr>
        <p:spPr>
          <a:xfrm>
            <a:off x="4168800" y="-36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aixaDeTexto 18"/>
          <p:cNvSpPr/>
          <p:nvPr/>
        </p:nvSpPr>
        <p:spPr>
          <a:xfrm rot="1570200">
            <a:off x="5694480" y="60948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CE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714240" y="578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b0f0"/>
                </a:solidFill>
                <a:latin typeface="Arial"/>
                <a:ea typeface="Arial"/>
              </a:rPr>
              <a:t>PONTE DA ETERN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7265880" y="47466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João 1: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7265880" y="43340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João 5: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6805800" y="39290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fésios 2: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6210000" y="353052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I Coríntios 15: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6380280" y="31590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2 Coríntios 5: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6755760" y="27860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5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5" descr="Homemcópia"/>
          <p:cNvPicPr/>
          <p:nvPr/>
        </p:nvPicPr>
        <p:blipFill>
          <a:blip r:embed="rId3"/>
          <a:stretch/>
        </p:blipFill>
        <p:spPr>
          <a:xfrm>
            <a:off x="7643880" y="285840"/>
            <a:ext cx="879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E:\Fotos pessoais\Ponte da Eternidade\Homemcópia.gif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8960" y="2743200"/>
            <a:ext cx="16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M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7684560" y="27432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28760" y="5932440"/>
            <a:ext cx="8305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orque todos pecaram e carecem da Glória de Deu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31480" y="28432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8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533520" y="5899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rque o salário do pecado é a morte, mas o dom gratuito de Deus é a vida eterna em Cristo Jesus, nosso Senhor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7"/>
          <p:cNvSpPr/>
          <p:nvPr/>
        </p:nvSpPr>
        <p:spPr>
          <a:xfrm>
            <a:off x="241920" y="28432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235440" y="32227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57200" y="5854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, como ao homem está ordenado morrer uma só vez, vindo depois disso o juíz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235080" y="358920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241920" y="28432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235440" y="32227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604960" y="2852640"/>
            <a:ext cx="1656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RELIGI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ponte incompletacópia"/>
          <p:cNvPicPr/>
          <p:nvPr/>
        </p:nvPicPr>
        <p:blipFill>
          <a:blip r:embed="rId1"/>
          <a:stretch/>
        </p:blipFill>
        <p:spPr>
          <a:xfrm>
            <a:off x="826920" y="907920"/>
            <a:ext cx="4176720" cy="2925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Homemcópia"/>
          <p:cNvPicPr/>
          <p:nvPr/>
        </p:nvPicPr>
        <p:blipFill>
          <a:blip r:embed="rId2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2604960" y="357336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BOAS O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2604960" y="395748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SINCER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2604960" y="321300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BAT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2604960" y="431784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OCULT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35080" y="358920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41920" y="28432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235440" y="32227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643120" y="1697040"/>
            <a:ext cx="2016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31480" y="284328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755760" y="27860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5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87440" y="587376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as Deus dá prova do seu amor para conosco, em que, quando éramos ainda pecadores, Cristo morreu por nó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omemcópia"/>
          <p:cNvPicPr/>
          <p:nvPr/>
        </p:nvPicPr>
        <p:blipFill>
          <a:blip r:embed="rId1"/>
          <a:stretch/>
        </p:blipFill>
        <p:spPr>
          <a:xfrm>
            <a:off x="533520" y="228600"/>
            <a:ext cx="879480" cy="1523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0" y="190512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O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7545240" y="198108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31480" y="284328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3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6: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Hebreus 9: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380280" y="31590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2 Coríntios 5: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41360" y="5857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Àquele que não conheceu pecado, Deus o fez pecado por nós; para que nele fôssemos feitos justiça de Deu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P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6755760" y="27860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omanos 5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1:59:59Z</dcterms:created>
  <dc:creator>godofredoc</dc:creator>
  <dc:description/>
  <dc:language>en-US</dc:language>
  <cp:lastModifiedBy>godofredo.carvalho</cp:lastModifiedBy>
  <dcterms:modified xsi:type="dcterms:W3CDTF">2012-05-29T18:37:01Z</dcterms:modified>
  <cp:revision>33</cp:revision>
  <dc:subject/>
  <dc:title>Ponte da Eternidade</dc:title>
</cp:coreProperties>
</file>