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C252-3D90-4F37-927F-2A6D5F2CD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DE86-93DB-4A13-997B-17419B6D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459B-9780-45F8-A7B1-11B5DB353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223D-F411-48C1-A3EB-256E6E5A5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F8B8-2B6E-4290-9BCC-DAAF82B4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8B1C-1E27-4A24-8AF0-195C7484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2FED-5A1A-415C-A00B-03E24BF6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7885-EEDB-4ABE-BBD7-E9DCE42D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D97E-8B6F-42CB-AFEE-FF64E965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4F7F-B3BA-46C5-AB65-B49E431B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5BC1-CBBB-4DE3-BAE4-98DCC9E7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4258-A2D6-4C25-A13F-51B8BAB8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CDA6-7988-4696-9205-A7B62C3587F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:\Fotos pessoais\Ponte da Eternidade\Montanhas com barr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4240" y="578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b0f0"/>
                </a:solidFill>
                <a:latin typeface="Arial"/>
                <a:ea typeface="Arial"/>
              </a:rPr>
              <a:t>PONTE DA ETERNID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Homemcópia"/>
          <p:cNvPicPr/>
          <p:nvPr/>
        </p:nvPicPr>
        <p:blipFill>
          <a:blip r:embed="rId1"/>
          <a:stretch/>
        </p:blipFill>
        <p:spPr>
          <a:xfrm>
            <a:off x="533520" y="228600"/>
            <a:ext cx="879480" cy="15238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"/>
          <p:cNvSpPr/>
          <p:nvPr/>
        </p:nvSpPr>
        <p:spPr>
          <a:xfrm>
            <a:off x="0" y="1905120"/>
            <a:ext cx="2133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HOM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7545240" y="198108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31480" y="2843280"/>
            <a:ext cx="226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omanos 3: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omanos 6: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Hebreus 9: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6210000" y="3530520"/>
            <a:ext cx="26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I Coríntios 15:3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457200" y="584352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Porque primeiramente vos entreguei o que também recebi: que Cristo morreu por nossos pecados, segundo as Escrituras; que foi sepultado; que foi ressuscitado ao terceiro dia, segundo as Escrituras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P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E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C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A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D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6380280" y="3159000"/>
            <a:ext cx="24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2 Coríntios 5: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6755760" y="2786040"/>
            <a:ext cx="20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omanos 5: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Imagem 11" descr="Cruz.gif"/>
          <p:cNvPicPr/>
          <p:nvPr/>
        </p:nvPicPr>
        <p:blipFill>
          <a:blip r:embed="rId1"/>
          <a:stretch/>
        </p:blipFill>
        <p:spPr>
          <a:xfrm>
            <a:off x="1574640" y="71280"/>
            <a:ext cx="5994720" cy="5643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Homemcópia"/>
          <p:cNvPicPr/>
          <p:nvPr/>
        </p:nvPicPr>
        <p:blipFill>
          <a:blip r:embed="rId2"/>
          <a:stretch/>
        </p:blipFill>
        <p:spPr>
          <a:xfrm>
            <a:off x="533520" y="228600"/>
            <a:ext cx="879480" cy="15238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7"/>
          <p:cNvSpPr/>
          <p:nvPr/>
        </p:nvSpPr>
        <p:spPr>
          <a:xfrm>
            <a:off x="0" y="1905120"/>
            <a:ext cx="2133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HOM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7545240" y="198108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231480" y="2843280"/>
            <a:ext cx="226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omanos 3: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omanos 6: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Hebreus 9: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P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E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C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A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D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6805800" y="392904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Efésios 2:8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441360" y="59040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Porque pela graça sois salvos, por meio da fé, e isto não vem de vós, é dom de Deus; não vem das obras, para que ninguém se glorie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6210000" y="3530520"/>
            <a:ext cx="26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I Coríntios 15:3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6380280" y="3159000"/>
            <a:ext cx="24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2 Coríntios 5: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6755760" y="2786040"/>
            <a:ext cx="20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omanos 5: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Homemcópia"/>
          <p:cNvPicPr/>
          <p:nvPr/>
        </p:nvPicPr>
        <p:blipFill>
          <a:blip r:embed="rId1"/>
          <a:stretch/>
        </p:blipFill>
        <p:spPr>
          <a:xfrm>
            <a:off x="533520" y="228600"/>
            <a:ext cx="879480" cy="15238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7"/>
          <p:cNvSpPr/>
          <p:nvPr/>
        </p:nvSpPr>
        <p:spPr>
          <a:xfrm>
            <a:off x="0" y="1905120"/>
            <a:ext cx="2133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HOM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7545240" y="198108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231480" y="2843280"/>
            <a:ext cx="226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omanos 3: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omanos 6: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Hebreus 9: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7265880" y="433404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João 5: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441360" y="587376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Em verdade, em verdade vos digo que quem ouve a minha palavra, e crê naquele que me enviou, tem a vida eterna e não entra em juízo, mas já passou da morte para a vida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Imagem 11" descr="Cruz.gif"/>
          <p:cNvPicPr/>
          <p:nvPr/>
        </p:nvPicPr>
        <p:blipFill>
          <a:blip r:embed="rId2"/>
          <a:stretch/>
        </p:blipFill>
        <p:spPr>
          <a:xfrm>
            <a:off x="1574640" y="71280"/>
            <a:ext cx="5994720" cy="56437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P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E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C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A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D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Conector reto 14"/>
          <p:cNvSpPr/>
          <p:nvPr/>
        </p:nvSpPr>
        <p:spPr>
          <a:xfrm flipV="1">
            <a:off x="1857240" y="267840"/>
            <a:ext cx="2214720" cy="1071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Conector reto 17"/>
          <p:cNvSpPr/>
          <p:nvPr/>
        </p:nvSpPr>
        <p:spPr>
          <a:xfrm>
            <a:off x="4071960" y="266760"/>
            <a:ext cx="107172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CaixaDeTexto 20"/>
          <p:cNvSpPr/>
          <p:nvPr/>
        </p:nvSpPr>
        <p:spPr>
          <a:xfrm rot="20050200">
            <a:off x="2364480" y="43812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OUV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CaixaDeTexto 21"/>
          <p:cNvSpPr/>
          <p:nvPr/>
        </p:nvSpPr>
        <p:spPr>
          <a:xfrm>
            <a:off x="4168800" y="-3636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CR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6805800" y="392904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Efésios 2:8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6210000" y="3530520"/>
            <a:ext cx="26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I Coríntios 15:3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6380280" y="3159000"/>
            <a:ext cx="24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2 Coríntios 5: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6755760" y="2786040"/>
            <a:ext cx="20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omanos 5: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Homemcópia"/>
          <p:cNvPicPr/>
          <p:nvPr/>
        </p:nvPicPr>
        <p:blipFill>
          <a:blip r:embed="rId1"/>
          <a:stretch/>
        </p:blipFill>
        <p:spPr>
          <a:xfrm>
            <a:off x="533520" y="228600"/>
            <a:ext cx="879480" cy="15238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7"/>
          <p:cNvSpPr/>
          <p:nvPr/>
        </p:nvSpPr>
        <p:spPr>
          <a:xfrm>
            <a:off x="0" y="1905120"/>
            <a:ext cx="2133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HOM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545240" y="198108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231480" y="2843280"/>
            <a:ext cx="226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omanos 3: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omanos 6: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Hebreus 9: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7265880" y="474660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João 1: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426960" y="591984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Mas, a todos quantos o receberam, aos que crêem no seu nome, deu-lhes o poder de se tornarem filhos de Deus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Imagem 11" descr="Cruz.gif"/>
          <p:cNvPicPr/>
          <p:nvPr/>
        </p:nvPicPr>
        <p:blipFill>
          <a:blip r:embed="rId2"/>
          <a:stretch/>
        </p:blipFill>
        <p:spPr>
          <a:xfrm>
            <a:off x="1574640" y="71280"/>
            <a:ext cx="5994720" cy="56437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P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E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C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A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D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Conector reto 13"/>
          <p:cNvSpPr/>
          <p:nvPr/>
        </p:nvSpPr>
        <p:spPr>
          <a:xfrm flipV="1">
            <a:off x="1857240" y="267840"/>
            <a:ext cx="2214720" cy="1071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Conector reto 14"/>
          <p:cNvSpPr/>
          <p:nvPr/>
        </p:nvSpPr>
        <p:spPr>
          <a:xfrm>
            <a:off x="4071960" y="266760"/>
            <a:ext cx="107172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Conector reto 15"/>
          <p:cNvSpPr/>
          <p:nvPr/>
        </p:nvSpPr>
        <p:spPr>
          <a:xfrm flipH="1" flipV="1">
            <a:off x="5132160" y="256680"/>
            <a:ext cx="2214360" cy="1096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CaixaDeTexto 16"/>
          <p:cNvSpPr/>
          <p:nvPr/>
        </p:nvSpPr>
        <p:spPr>
          <a:xfrm rot="20050200">
            <a:off x="2364480" y="43812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OUV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CaixaDeTexto 17"/>
          <p:cNvSpPr/>
          <p:nvPr/>
        </p:nvSpPr>
        <p:spPr>
          <a:xfrm>
            <a:off x="4168800" y="-3636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CR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CaixaDeTexto 18"/>
          <p:cNvSpPr/>
          <p:nvPr/>
        </p:nvSpPr>
        <p:spPr>
          <a:xfrm rot="1570200">
            <a:off x="5694480" y="609480"/>
            <a:ext cx="16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RECE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7265880" y="433404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João 5: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6805800" y="392904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Efésios 2:8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6210000" y="3530520"/>
            <a:ext cx="26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I Coríntios 15:3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6380280" y="3159000"/>
            <a:ext cx="24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2 Coríntios 5: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6755760" y="2786040"/>
            <a:ext cx="20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omanos 5: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Homemcópia"/>
          <p:cNvPicPr/>
          <p:nvPr/>
        </p:nvPicPr>
        <p:blipFill>
          <a:blip r:embed="rId1"/>
          <a:stretch/>
        </p:blipFill>
        <p:spPr>
          <a:xfrm>
            <a:off x="533520" y="228600"/>
            <a:ext cx="879480" cy="15238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7"/>
          <p:cNvSpPr/>
          <p:nvPr/>
        </p:nvSpPr>
        <p:spPr>
          <a:xfrm>
            <a:off x="0" y="1905120"/>
            <a:ext cx="2133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HOM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7545240" y="198108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231480" y="2843280"/>
            <a:ext cx="226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omanos 3: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omanos 6: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Hebreus 9: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7265880" y="474660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João 1: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426960" y="591984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Mas, a todos quantos o receberam, aos que crêem no seu nome, deu-lhes o poder de se tornarem filhos de Deus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Imagem 11" descr="Cruz.gif"/>
          <p:cNvPicPr/>
          <p:nvPr/>
        </p:nvPicPr>
        <p:blipFill>
          <a:blip r:embed="rId2"/>
          <a:stretch/>
        </p:blipFill>
        <p:spPr>
          <a:xfrm>
            <a:off x="1574640" y="71280"/>
            <a:ext cx="5994720" cy="56437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P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E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C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A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D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Conector reto 11"/>
          <p:cNvSpPr/>
          <p:nvPr/>
        </p:nvSpPr>
        <p:spPr>
          <a:xfrm flipV="1">
            <a:off x="1857240" y="267840"/>
            <a:ext cx="2214720" cy="1071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Conector reto 12"/>
          <p:cNvSpPr/>
          <p:nvPr/>
        </p:nvSpPr>
        <p:spPr>
          <a:xfrm>
            <a:off x="4071960" y="266760"/>
            <a:ext cx="107172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Conector reto 13"/>
          <p:cNvSpPr/>
          <p:nvPr/>
        </p:nvSpPr>
        <p:spPr>
          <a:xfrm flipH="1" flipV="1">
            <a:off x="5132160" y="256680"/>
            <a:ext cx="2214360" cy="1096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CaixaDeTexto 16"/>
          <p:cNvSpPr/>
          <p:nvPr/>
        </p:nvSpPr>
        <p:spPr>
          <a:xfrm rot="20050200">
            <a:off x="2364480" y="43812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OUV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CaixaDeTexto 17"/>
          <p:cNvSpPr/>
          <p:nvPr/>
        </p:nvSpPr>
        <p:spPr>
          <a:xfrm>
            <a:off x="4168800" y="-3636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CR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CaixaDeTexto 18"/>
          <p:cNvSpPr/>
          <p:nvPr/>
        </p:nvSpPr>
        <p:spPr>
          <a:xfrm rot="1570200">
            <a:off x="5694480" y="609480"/>
            <a:ext cx="16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RECE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7265880" y="433404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João 5: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6805800" y="392904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Efésios 2:8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6210000" y="3530520"/>
            <a:ext cx="26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I Coríntios 15:3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6380280" y="3159000"/>
            <a:ext cx="24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2 Coríntios 5: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6755760" y="2786040"/>
            <a:ext cx="20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omanos 5: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5" descr="Homemcópia"/>
          <p:cNvPicPr/>
          <p:nvPr/>
        </p:nvPicPr>
        <p:blipFill>
          <a:blip r:embed="rId1"/>
          <a:stretch/>
        </p:blipFill>
        <p:spPr>
          <a:xfrm>
            <a:off x="533520" y="228600"/>
            <a:ext cx="879480" cy="152388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7"/>
          <p:cNvSpPr/>
          <p:nvPr/>
        </p:nvSpPr>
        <p:spPr>
          <a:xfrm>
            <a:off x="0" y="1905120"/>
            <a:ext cx="2133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HOM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7545240" y="198108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231480" y="2843280"/>
            <a:ext cx="226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omanos 3: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omanos 6: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Hebreus 9: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Imagem 11" descr="Cruz.gif"/>
          <p:cNvPicPr/>
          <p:nvPr/>
        </p:nvPicPr>
        <p:blipFill>
          <a:blip r:embed="rId2"/>
          <a:stretch/>
        </p:blipFill>
        <p:spPr>
          <a:xfrm>
            <a:off x="1574640" y="71280"/>
            <a:ext cx="5994720" cy="56437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P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E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C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A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D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Conector reto 13"/>
          <p:cNvSpPr/>
          <p:nvPr/>
        </p:nvSpPr>
        <p:spPr>
          <a:xfrm flipV="1">
            <a:off x="1857240" y="267840"/>
            <a:ext cx="2214720" cy="1071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Conector reto 14"/>
          <p:cNvSpPr/>
          <p:nvPr/>
        </p:nvSpPr>
        <p:spPr>
          <a:xfrm>
            <a:off x="4071960" y="266760"/>
            <a:ext cx="107172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Conector reto 15"/>
          <p:cNvSpPr/>
          <p:nvPr/>
        </p:nvSpPr>
        <p:spPr>
          <a:xfrm flipH="1" flipV="1">
            <a:off x="5132160" y="256680"/>
            <a:ext cx="2214360" cy="1096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CaixaDeTexto 16"/>
          <p:cNvSpPr/>
          <p:nvPr/>
        </p:nvSpPr>
        <p:spPr>
          <a:xfrm rot="20050200">
            <a:off x="2364480" y="43812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OUV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CaixaDeTexto 17"/>
          <p:cNvSpPr/>
          <p:nvPr/>
        </p:nvSpPr>
        <p:spPr>
          <a:xfrm>
            <a:off x="4168800" y="-3636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CR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CaixaDeTexto 18"/>
          <p:cNvSpPr/>
          <p:nvPr/>
        </p:nvSpPr>
        <p:spPr>
          <a:xfrm rot="1570200">
            <a:off x="5694480" y="609480"/>
            <a:ext cx="16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RECE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714240" y="578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b0f0"/>
                </a:solidFill>
                <a:latin typeface="Arial"/>
                <a:ea typeface="Arial"/>
              </a:rPr>
              <a:t>PONTE DA ETERNID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7265880" y="474660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João 1: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7265880" y="433404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João 5: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6805800" y="392904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Efésios 2:8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6210000" y="3530520"/>
            <a:ext cx="26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I Coríntios 15:3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6380280" y="3159000"/>
            <a:ext cx="24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2 Coríntios 5: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6755760" y="2786040"/>
            <a:ext cx="20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omanos 5: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5" descr="Homemcópia"/>
          <p:cNvPicPr/>
          <p:nvPr/>
        </p:nvPicPr>
        <p:blipFill>
          <a:blip r:embed="rId3"/>
          <a:stretch/>
        </p:blipFill>
        <p:spPr>
          <a:xfrm>
            <a:off x="7643880" y="285840"/>
            <a:ext cx="8794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1905120"/>
            <a:ext cx="2133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HOM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5" descr="E:\Fotos pessoais\Ponte da Eternidade\Homemcópia.gif"/>
          <p:cNvPicPr/>
          <p:nvPr/>
        </p:nvPicPr>
        <p:blipFill>
          <a:blip r:embed="rId1"/>
          <a:stretch/>
        </p:blipFill>
        <p:spPr>
          <a:xfrm>
            <a:off x="533520" y="228600"/>
            <a:ext cx="879480" cy="15238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6"/>
          <p:cNvSpPr/>
          <p:nvPr/>
        </p:nvSpPr>
        <p:spPr>
          <a:xfrm>
            <a:off x="7545240" y="198108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0" y="1905120"/>
            <a:ext cx="2133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HOM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" descr="Homemcópia"/>
          <p:cNvPicPr/>
          <p:nvPr/>
        </p:nvPicPr>
        <p:blipFill>
          <a:blip r:embed="rId1"/>
          <a:stretch/>
        </p:blipFill>
        <p:spPr>
          <a:xfrm>
            <a:off x="533520" y="228600"/>
            <a:ext cx="879480" cy="15238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7545240" y="198108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28960" y="2743200"/>
            <a:ext cx="164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M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7684560" y="2743200"/>
            <a:ext cx="11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0" y="1905120"/>
            <a:ext cx="2133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HOM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Homemcópia"/>
          <p:cNvPicPr/>
          <p:nvPr/>
        </p:nvPicPr>
        <p:blipFill>
          <a:blip r:embed="rId1"/>
          <a:stretch/>
        </p:blipFill>
        <p:spPr>
          <a:xfrm>
            <a:off x="533520" y="228600"/>
            <a:ext cx="879480" cy="15238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7545240" y="198108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428760" y="5932440"/>
            <a:ext cx="83055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Porque todos pecaram e carecem da Glória de Deus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231480" y="284328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omanos 3: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0" y="1905120"/>
            <a:ext cx="2133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HOM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8" descr="Homemcópia"/>
          <p:cNvPicPr/>
          <p:nvPr/>
        </p:nvPicPr>
        <p:blipFill>
          <a:blip r:embed="rId1"/>
          <a:stretch/>
        </p:blipFill>
        <p:spPr>
          <a:xfrm>
            <a:off x="533520" y="228600"/>
            <a:ext cx="879480" cy="15238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9"/>
          <p:cNvSpPr/>
          <p:nvPr/>
        </p:nvSpPr>
        <p:spPr>
          <a:xfrm>
            <a:off x="7545240" y="198108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24"/>
          <p:cNvSpPr/>
          <p:nvPr/>
        </p:nvSpPr>
        <p:spPr>
          <a:xfrm>
            <a:off x="533520" y="589932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orque o salário do pecado é a morte, mas o dom gratuito de Deus é a vida eterna em Cristo Jesus, nosso Senhor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7"/>
          <p:cNvSpPr/>
          <p:nvPr/>
        </p:nvSpPr>
        <p:spPr>
          <a:xfrm>
            <a:off x="241920" y="284328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omanos 3: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P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E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C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A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D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7"/>
          <p:cNvSpPr/>
          <p:nvPr/>
        </p:nvSpPr>
        <p:spPr>
          <a:xfrm>
            <a:off x="235440" y="322272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omanos 6: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0" y="1905120"/>
            <a:ext cx="2133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HOM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545240" y="198108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457200" y="58546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E, como ao homem está ordenado morrer uma só vez, vindo depois disso o juíz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235080" y="3589200"/>
            <a:ext cx="20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Hebreus 9: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9" descr="Homemcópia"/>
          <p:cNvPicPr/>
          <p:nvPr/>
        </p:nvPicPr>
        <p:blipFill>
          <a:blip r:embed="rId1"/>
          <a:stretch/>
        </p:blipFill>
        <p:spPr>
          <a:xfrm>
            <a:off x="533520" y="228600"/>
            <a:ext cx="879480" cy="1523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P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E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C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A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D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7"/>
          <p:cNvSpPr/>
          <p:nvPr/>
        </p:nvSpPr>
        <p:spPr>
          <a:xfrm>
            <a:off x="241920" y="284328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omanos 3: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7"/>
          <p:cNvSpPr/>
          <p:nvPr/>
        </p:nvSpPr>
        <p:spPr>
          <a:xfrm>
            <a:off x="235440" y="322272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omanos 6: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604960" y="2852640"/>
            <a:ext cx="16560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RELIGI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ponte incompletacópia"/>
          <p:cNvPicPr/>
          <p:nvPr/>
        </p:nvPicPr>
        <p:blipFill>
          <a:blip r:embed="rId1"/>
          <a:stretch/>
        </p:blipFill>
        <p:spPr>
          <a:xfrm>
            <a:off x="826920" y="907920"/>
            <a:ext cx="4176720" cy="2925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Homemcópia"/>
          <p:cNvPicPr/>
          <p:nvPr/>
        </p:nvPicPr>
        <p:blipFill>
          <a:blip r:embed="rId2"/>
          <a:stretch/>
        </p:blipFill>
        <p:spPr>
          <a:xfrm>
            <a:off x="533520" y="228600"/>
            <a:ext cx="879480" cy="15238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"/>
          <p:cNvSpPr/>
          <p:nvPr/>
        </p:nvSpPr>
        <p:spPr>
          <a:xfrm>
            <a:off x="0" y="1905120"/>
            <a:ext cx="2133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HOM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7545240" y="198108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2604960" y="3573360"/>
            <a:ext cx="237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BOAS O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2"/>
          <p:cNvSpPr/>
          <p:nvPr/>
        </p:nvSpPr>
        <p:spPr>
          <a:xfrm>
            <a:off x="2604960" y="3957480"/>
            <a:ext cx="237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SINCER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2604960" y="3213000"/>
            <a:ext cx="237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BATIS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4"/>
          <p:cNvSpPr/>
          <p:nvPr/>
        </p:nvSpPr>
        <p:spPr>
          <a:xfrm>
            <a:off x="2604960" y="4317840"/>
            <a:ext cx="223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OCULTIS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P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E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C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A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D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35080" y="3589200"/>
            <a:ext cx="20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Hebreus 9: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27"/>
          <p:cNvSpPr/>
          <p:nvPr/>
        </p:nvSpPr>
        <p:spPr>
          <a:xfrm>
            <a:off x="241920" y="284328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omanos 3: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7"/>
          <p:cNvSpPr/>
          <p:nvPr/>
        </p:nvSpPr>
        <p:spPr>
          <a:xfrm>
            <a:off x="235440" y="322272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omanos 6: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2643120" y="1697040"/>
            <a:ext cx="2016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2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Homemcópia"/>
          <p:cNvPicPr/>
          <p:nvPr/>
        </p:nvPicPr>
        <p:blipFill>
          <a:blip r:embed="rId1"/>
          <a:stretch/>
        </p:blipFill>
        <p:spPr>
          <a:xfrm>
            <a:off x="533520" y="228600"/>
            <a:ext cx="879480" cy="15238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7"/>
          <p:cNvSpPr/>
          <p:nvPr/>
        </p:nvSpPr>
        <p:spPr>
          <a:xfrm>
            <a:off x="0" y="1905120"/>
            <a:ext cx="2133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HOM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7545240" y="198108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231480" y="2843280"/>
            <a:ext cx="226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omanos 3: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omanos 6: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Hebreus 9: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6755760" y="2786040"/>
            <a:ext cx="20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omanos 5: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487440" y="587376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Mas Deus dá prova do seu amor para conosco, em que, quando éramos ainda pecadores, Cristo morreu por nós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P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E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C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A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D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Homemcópia"/>
          <p:cNvPicPr/>
          <p:nvPr/>
        </p:nvPicPr>
        <p:blipFill>
          <a:blip r:embed="rId1"/>
          <a:stretch/>
        </p:blipFill>
        <p:spPr>
          <a:xfrm>
            <a:off x="533520" y="228600"/>
            <a:ext cx="879480" cy="15238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0" y="1905120"/>
            <a:ext cx="2133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HOM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7545240" y="198108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231480" y="2843280"/>
            <a:ext cx="226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omanos 3: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omanos 6: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Hebreus 9: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6380280" y="3159000"/>
            <a:ext cx="24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2 Coríntios 5: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441360" y="58579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Àquele que não conheceu pecado, Deus o fez pecado por nós; para que nele fôssemos feitos justiça de Deus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P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E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C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A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D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6755760" y="2786040"/>
            <a:ext cx="20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omanos 5: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1:59:59Z</dcterms:created>
  <dc:creator>godofredoc</dc:creator>
  <dc:description/>
  <dc:language>en-US</dc:language>
  <cp:lastModifiedBy>godofredo.carvalho</cp:lastModifiedBy>
  <dcterms:modified xsi:type="dcterms:W3CDTF">2012-05-29T18:37:01Z</dcterms:modified>
  <cp:revision>33</cp:revision>
  <dc:subject/>
  <dc:title>Ponte da Eternidade</dc:title>
</cp:coreProperties>
</file>