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Frans%20Bauer%20Grad%20damen-%20Eens%20schijnt%20voor%20jou%20de%20zon(1)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13D-E3D1-4E9E-AD89-047C5A7D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51B-E93D-4CE3-8ADB-03A3469C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7BA-D6BE-488E-9CF6-85CDAF03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176-620C-4C59-93AE-5C8095C4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1BE-9DF1-4B3B-B020-D27E0C71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AB2-0E78-44D9-A4A0-EFF70AA7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C6C-A81F-408F-9AD8-29557DB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3B3-E3B2-4DD0-B326-E21A0402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EFC-539C-4AC8-B8F6-745F52F4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9DF-50CD-40D3-935B-F5D06610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40E-3897-4309-B0CA-D637BCCA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3DC-60C6-4758-88B9-EAD1BF77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1225-3B54-4941-A767-E0F90C311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rans%20Bauer%20Grad%20damen-%20Eens%20schijnt%20voor%20jou%20de%20zon(1)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852640"/>
            <a:ext cx="7488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EN SIMPE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ORD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60930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powerpoint van de K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8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720" y="105264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RIE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7120" y="4643280"/>
            <a:ext cx="26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ief wo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lein ge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6560" y="1908000"/>
            <a:ext cx="261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t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elukk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et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242892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52000" y="1628640"/>
            <a:ext cx="45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n zoen,een a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n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4292640"/>
            <a:ext cx="51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leine din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e maken je 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242856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48200" cy="492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27480" y="1042920"/>
            <a:ext cx="385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en pra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en zwij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 krij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595008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amen gen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334836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95120" y="1187280"/>
            <a:ext cx="388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et mag…het m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lkaar bij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 voor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gensp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3057480" cy="29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7161120" cy="5470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19280" y="1197000"/>
            <a:ext cx="433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amen lac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amen ja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000" y="263700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iefde ge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lkaar beda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53680" y="4859280"/>
            <a:ext cx="598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 waarheid z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n ruzies bij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553080" cy="47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835280" y="1660680"/>
            <a:ext cx="5329080" cy="3497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7680" y="1908000"/>
            <a:ext cx="451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steu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 tijden van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3480" y="3429000"/>
            <a:ext cx="463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precht vertrouw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uchtkastelen dur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736720" cy="2664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47480" y="611280"/>
            <a:ext cx="433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imte om te gro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en blo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920" y="3645000"/>
            <a:ext cx="415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ijken naar een 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 ma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7680" y="4932360"/>
            <a:ext cx="410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 dan w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e eigen weg 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335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70040" y="611280"/>
            <a:ext cx="415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tijd kunnen bell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oit kw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84920" y="466560"/>
            <a:ext cx="28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geint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g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000" y="3645000"/>
            <a:ext cx="36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simpel w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7960" y="4508640"/>
            <a:ext cx="57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VRIENDSCH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82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3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7:48:49Z</dcterms:created>
  <dc:creator/>
  <dc:description/>
  <dc:language>en-US</dc:language>
  <cp:lastModifiedBy>Smets</cp:lastModifiedBy>
  <dcterms:modified xsi:type="dcterms:W3CDTF">2011-11-13T05:56:25Z</dcterms:modified>
  <cp:revision>5</cp:revision>
  <dc:subject/>
  <dc:title>Dia 1</dc:title>
</cp:coreProperties>
</file>