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Frans%20Bauer%20Grad%20damen-%20Eens%20schijnt%20voor%20jou%20de%20zon(1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7DE-7DF8-41DF-97BE-6130399E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6A1-6B45-4700-82E2-F8FDB31A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637-AD50-4E6E-90EB-82578576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FFF-7B17-44AA-B3EC-B0513E92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045-A851-41E7-A2A3-22E1590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81A-A3ED-49B7-B9D0-60EFF38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442-6375-46A3-920A-C2E1B10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FB7-2AF0-46A6-95D7-2EB98564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A82-B0FC-4449-A776-15C1855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D41-9281-4215-9596-7BEA9C7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4AC-F53F-4590-A14D-8A14BD7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0FF-36FE-4A19-B930-E396E56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085A-544E-4C37-A94A-935E52A2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rans%20Bauer%20Grad%20damen-%20Eens%20schijnt%20voor%20jou%20de%20zon(1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852640"/>
            <a:ext cx="7488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EN SIMPEL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OR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60930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powerpoint van de K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720" y="105264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7120" y="4643280"/>
            <a:ext cx="26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ef wo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lein ge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6560" y="1908000"/>
            <a:ext cx="261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t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lukk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e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242892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2000" y="1628640"/>
            <a:ext cx="45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n zoen,een a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429264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leine di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e maken je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4285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48200" cy="492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27480" y="1042920"/>
            <a:ext cx="385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n pra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n zwij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 krij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95008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amen gen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34836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5120" y="1187280"/>
            <a:ext cx="388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t mag…het m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lkaar bij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 voor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gensp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305748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7161120" cy="5470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197000"/>
            <a:ext cx="433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men lac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men j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000" y="263700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efde g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lkaar bed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53680" y="4859280"/>
            <a:ext cx="598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 waarheid z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n ruzies bij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5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835280" y="1660680"/>
            <a:ext cx="5329080" cy="3497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7680" y="1908000"/>
            <a:ext cx="45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steu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 tijden va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3480" y="3429000"/>
            <a:ext cx="463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recht vertrouw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uchtkastelen dur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736720" cy="266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47480" y="611280"/>
            <a:ext cx="43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imte om t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n bl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920" y="364500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ijken naar een 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 ma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7680" y="4932360"/>
            <a:ext cx="410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 dan 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e eigen weg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335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70040" y="61128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tijd kunnen bell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oit kw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84920" y="466560"/>
            <a:ext cx="28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geint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g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000" y="364500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en simpel w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7960" y="4508640"/>
            <a:ext cx="57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82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3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7:48:49Z</dcterms:created>
  <dc:creator/>
  <dc:description/>
  <dc:language>en-US</dc:language>
  <cp:lastModifiedBy>Smets</cp:lastModifiedBy>
  <dcterms:modified xsi:type="dcterms:W3CDTF">2011-11-13T05:56:25Z</dcterms:modified>
  <cp:revision>5</cp:revision>
  <dc:subject/>
  <dc:title>Dia 1</dc:title>
</cp:coreProperties>
</file>