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E7891-2E62-4F9C-8A39-DDCE377D3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833A3-C154-48AD-9D9B-098593422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1EE3F-995F-47DC-A5DA-04E8C6CB2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907E5-2CCB-45E3-85F0-050CBB704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932A04C-A0F1-4971-AF3E-DE2C4A84E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E7F809-ECBD-4A75-B94B-75ED5787C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D2EBA0-12F1-4C79-95F0-66853D247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B28BCB-7A65-400C-B26D-922A3B001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D4A989-CAAF-4354-8F58-4A4FE849F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788EA17-C14A-44C8-AE54-03E9EB256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ED8AD6-B107-40A1-AB35-2D464CD82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C1C66-107F-44EC-92C0-EFA0D389F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2EF7F2-E778-44D4-A7FF-381363A9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7F76D8-F027-40AB-A569-0B6C41308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E12164-1CD3-49D1-8D02-6FE447C23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D63586A-A4FF-40EA-898B-34D6CA549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DB2C90-C81A-4BA2-B0BA-59EFA80EE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014B7F-A0E7-4596-ACC3-E3E2C744C5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7BBE4-8340-4C45-B718-102052C26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BCE72-763A-43C8-82B9-820507E1A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14B7B-4307-4FBA-9EC8-D176E60D2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F699DF-095E-46DC-B972-AF03A3DFB0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82265-2559-4A6A-9877-8C13E1E3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97D64-75DD-4EC5-8554-6DE1A2905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5CBD0-582A-48E5-BDA1-EAF09454C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46C0E-6E34-49AE-BF70-3AB0B606F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8422B-78F4-420F-BE93-FF77D6D11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E5C742-666F-4306-A42E-C2C303FCCE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B44340-D950-4133-8812-F265CC6153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A78B42-CBA1-42E4-BDDC-4EE3EE42BE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A4B1048-0360-461F-9AD2-0FD655ACB1A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B85048D-7F54-42E2-B6E2-5FBA4D91E72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F0E3B1A-E123-4CE2-9E64-D60CA652FF1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A5E37-62E7-4375-B580-A360EA8A3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E5830D7-C3C9-47BB-9DC9-5809DF16E7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359AEF2-4FBD-4C99-AA70-0EB97BA394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4B42464-8C2B-4192-A441-EE285010FDF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EAF6220-0E45-4C65-A051-CB8C210284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A50D7F4-424D-42F8-8DD3-AF248CD88D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F7367F8-43B0-4E70-840A-1EB97C3230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A807B39-18B5-4732-B5E6-B0250B0652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1AC08A1-F1E1-48A3-923E-70201C46422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8154DB9-3745-482A-B373-2BE1BA84D3E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DEB66-03B1-4449-AE5E-0E50D0060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D6A9A-9DA1-4DB3-A315-7D912607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DAABA-536C-4155-8468-B40275A91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E4F6E-E254-4719-BCA5-B5A0BEEA4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958FD-F411-4C73-8886-E75D4688D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a25c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75f5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5f55"/>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75f5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AD66-C2D1-495A-9BF8-C1F3BA43B489}" type="slidenum">
              <a:rPr b="0" lang="ru-RU" sz="1600" spc="-1" strike="noStrike">
                <a:solidFill>
                  <a:srgbClr val="775f55"/>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bf9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bf9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Овал 10"/>
          <p:cNvSpPr/>
          <p:nvPr/>
        </p:nvSpPr>
        <p:spPr>
          <a:xfrm>
            <a:off x="4540320" y="3525840"/>
            <a:ext cx="46080" cy="46080"/>
          </a:xfrm>
          <a:prstGeom prst="ellipse">
            <a:avLst/>
          </a:prstGeom>
          <a:solidFill>
            <a:srgbClr val="dd8047"/>
          </a:solidFill>
          <a:ln w="38160">
            <a:solidFill>
              <a:srgbClr val="dd80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a25c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75f5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5f55"/>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75f5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E5F5-2B3B-4815-9310-2E78B9F1997C}" type="slidenum">
              <a:rPr b="0" lang="ru-RU" sz="1600" spc="-1" strike="noStrike">
                <a:solidFill>
                  <a:srgbClr val="775f55"/>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a25c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75f5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5f55"/>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75f5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9589-69F0-4C9F-8235-1AE7C745483E}" type="slidenum">
              <a:rPr b="0" lang="ru-RU" sz="1600" spc="-1" strike="noStrike">
                <a:solidFill>
                  <a:srgbClr val="775f55"/>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bf9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bf9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a25c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75f5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36B3-AE9D-4BAB-B155-D8D255EAB515}" type="slidenum">
              <a:rPr b="0" lang="ru-RU" sz="1600" spc="-1" strike="noStrike">
                <a:solidFill>
                  <a:srgbClr val="775f55"/>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75f5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5f55"/>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8400" y="713880"/>
            <a:ext cx="8429400" cy="46436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775f55"/>
                </a:solidFill>
                <a:latin typeface="Constantia"/>
              </a:rPr>
              <a:t>Le Versailles</a:t>
            </a:r>
            <a:endParaRPr b="0" lang="en-US" sz="8000" spc="-1" strike="noStrike">
              <a:solidFill>
                <a:srgbClr val="000000"/>
              </a:solidFill>
              <a:latin typeface="Constantia"/>
            </a:endParaRPr>
          </a:p>
        </p:txBody>
      </p:sp>
      <p:sp>
        <p:nvSpPr>
          <p:cNvPr id="171" name="PlaceHolder 2"/>
          <p:cNvSpPr>
            <a:spLocks noGrp="1"/>
          </p:cNvSpPr>
          <p:nvPr>
            <p:ph type="title"/>
          </p:nvPr>
        </p:nvSpPr>
        <p:spPr>
          <a:xfrm>
            <a:off x="8072280" y="-9654840"/>
            <a:ext cx="385920" cy="1325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9f9f9"/>
              </a:solidFill>
              <a:latin typeface="Constant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13840" y="-360"/>
            <a:ext cx="5286600" cy="442908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lassé depuis 30 ans au patrimoine mondial de l’Humanité, le château de Versailles constitue l’une des plus belles réalisations de l’art français au XVIIe siècle. L’ancien pavillon de chasse de Louis XIII fut transformé et agrandi par son fils Louis XIV qui y installa la Cour et le gouvernement de la France en 1682. Jusqu’à la Révolution française, les rois s’y sont succédés, embellissant chacun à leur tour le Château. </a:t>
            </a:r>
            <a:endParaRPr b="0" lang="en-US" sz="2400" spc="-1" strike="noStrike">
              <a:solidFill>
                <a:srgbClr val="000000"/>
              </a:solidFill>
              <a:latin typeface="Constantia"/>
            </a:endParaRPr>
          </a:p>
        </p:txBody>
      </p:sp>
      <p:sp>
        <p:nvSpPr>
          <p:cNvPr id="173" name="PlaceHolder 1"/>
          <p:cNvSpPr>
            <a:spLocks noGrp="1"/>
          </p:cNvSpPr>
          <p:nvPr>
            <p:ph type="title"/>
          </p:nvPr>
        </p:nvSpPr>
        <p:spPr>
          <a:xfrm>
            <a:off x="457200" y="-24444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pic>
        <p:nvPicPr>
          <p:cNvPr id="174" name="Рисунок 3" descr="39295808_1233958396_1774.jpg"/>
          <p:cNvPicPr/>
          <p:nvPr/>
        </p:nvPicPr>
        <p:blipFill>
          <a:blip r:embed="rId1"/>
          <a:stretch/>
        </p:blipFill>
        <p:spPr>
          <a:xfrm>
            <a:off x="3544920" y="3571920"/>
            <a:ext cx="5060880" cy="3000240"/>
          </a:xfrm>
          <a:prstGeom prst="rect">
            <a:avLst/>
          </a:prstGeom>
          <a:ln w="0">
            <a:noFill/>
          </a:ln>
        </p:spPr>
      </p:pic>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Рисунок 3" descr="34684849_paradnuyy_vid.jpg"/>
          <p:cNvPicPr/>
          <p:nvPr/>
        </p:nvPicPr>
        <p:blipFill>
          <a:blip r:embed="rId1"/>
          <a:stretch/>
        </p:blipFill>
        <p:spPr>
          <a:xfrm>
            <a:off x="214200" y="357120"/>
            <a:ext cx="4572000" cy="6104160"/>
          </a:xfrm>
          <a:prstGeom prst="rect">
            <a:avLst/>
          </a:prstGeom>
          <a:ln w="0">
            <a:noFill/>
          </a:ln>
        </p:spPr>
      </p:pic>
      <p:sp>
        <p:nvSpPr>
          <p:cNvPr id="176" name=""/>
          <p:cNvSpPr txBox="1"/>
          <p:nvPr/>
        </p:nvSpPr>
        <p:spPr>
          <a:xfrm>
            <a:off x="4214520" y="428400"/>
            <a:ext cx="4514760" cy="6072120"/>
          </a:xfrm>
          <a:prstGeom prst="rect">
            <a:avLst/>
          </a:prstGeom>
          <a:noFill/>
          <a:ln w="0">
            <a:noFill/>
          </a:ln>
        </p:spPr>
        <p:txBody>
          <a:bodyPr anchor="t">
            <a:normAutofit fontScale="96000"/>
          </a:bodyPr>
          <a:p>
            <a:pPr marL="261720" indent="-26172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Il n'est au départ qu'un modeste château construit par Louis XIII pour la chasse. C'est cet emplacement qui sera néanmoins choisi par Louis XIV pour construire le palais que nous connaissons aujourd'hui, symbole de l'absolutisme royal et incarnation de l'art classique français.</a:t>
            </a:r>
            <a:endParaRPr b="0" lang="en-US" sz="2200" spc="-1" strike="noStrike">
              <a:solidFill>
                <a:srgbClr val="000000"/>
              </a:solidFill>
              <a:latin typeface="Constantia"/>
            </a:endParaRPr>
          </a:p>
          <a:p>
            <a:pPr marL="261720" indent="-26172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Dans les années 1670, Louis XIV fait notamment aménager les Grands Appartements du Roi et de la Reine. Lieu de parade et de réception par excellence, la réalisation la plus emblématique de cet espace reste la Galerie des Glaces imaginée par Mansart. Au siècle suivant, la Chapelle et l’Opéra (sous Louis XV) voient le jour. </a:t>
            </a:r>
            <a:endParaRPr b="0" lang="en-US" sz="2200" spc="-1" strike="noStrike">
              <a:solidFill>
                <a:srgbClr val="000000"/>
              </a:solidFill>
              <a:latin typeface="Constantia"/>
            </a:endParaRPr>
          </a:p>
          <a:p>
            <a:pPr marL="261720" indent="-26172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177" name="PlaceHolder 1"/>
          <p:cNvSpPr>
            <a:spLocks noGrp="1"/>
          </p:cNvSpPr>
          <p:nvPr>
            <p:ph type="title"/>
          </p:nvPr>
        </p:nvSpPr>
        <p:spPr>
          <a:xfrm>
            <a:off x="457200" y="-52092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3" descr="3.jpg"/>
          <p:cNvPicPr/>
          <p:nvPr/>
        </p:nvPicPr>
        <p:blipFill>
          <a:blip r:embed="rId1"/>
          <a:stretch/>
        </p:blipFill>
        <p:spPr>
          <a:xfrm>
            <a:off x="4429080" y="714240"/>
            <a:ext cx="4429080" cy="5467320"/>
          </a:xfrm>
          <a:prstGeom prst="rect">
            <a:avLst/>
          </a:prstGeom>
          <a:ln w="0">
            <a:noFill/>
          </a:ln>
        </p:spPr>
      </p:pic>
      <p:sp>
        <p:nvSpPr>
          <p:cNvPr id="179" name=""/>
          <p:cNvSpPr txBox="1"/>
          <p:nvPr/>
        </p:nvSpPr>
        <p:spPr>
          <a:xfrm>
            <a:off x="-360" y="571680"/>
            <a:ext cx="4714920" cy="5286240"/>
          </a:xfrm>
          <a:prstGeom prst="rect">
            <a:avLst/>
          </a:prstGeom>
          <a:noFill/>
          <a:ln w="0">
            <a:noFill/>
          </a:ln>
        </p:spPr>
        <p:txBody>
          <a:bodyPr anchor="t">
            <a:normAutofit fontScale="98000"/>
          </a:bodyPr>
          <a:p>
            <a:pPr marL="267120" indent="-267120">
              <a:lnSpc>
                <a:spcPct val="9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e la fenêtre centrale de la galerie des Glaces se déploie, sous l’œil des visiteurs, la grande perspective qui conduit le regard du parterre d’Eau vers l’horizon. Cette perspective originelle, antérieure au règne de Louis XIV, le jardinier André Le Nôtre se plut à l’aménager et à la prolonger en élargissant l’Allée royale et en faisant creuser le Grand Canal. Cette vaste perspective court de la façade du château de Versailles à la grille du parc.</a:t>
            </a:r>
            <a:endParaRPr b="0" lang="en-US" sz="2400" spc="-1" strike="noStrike">
              <a:solidFill>
                <a:srgbClr val="000000"/>
              </a:solidFill>
              <a:latin typeface="Constantia"/>
            </a:endParaRPr>
          </a:p>
          <a:p>
            <a:pPr marL="267120" indent="-267120">
              <a:lnSpc>
                <a:spcPct val="9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0" name="PlaceHolder 1"/>
          <p:cNvSpPr>
            <a:spLocks noGrp="1"/>
          </p:cNvSpPr>
          <p:nvPr>
            <p:ph type="title"/>
          </p:nvPr>
        </p:nvSpPr>
        <p:spPr>
          <a:xfrm>
            <a:off x="457200" y="-52128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med">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Рисунок 5" descr="39295804_1233958391_1772.jpg"/>
          <p:cNvPicPr/>
          <p:nvPr/>
        </p:nvPicPr>
        <p:blipFill>
          <a:blip r:embed="rId1"/>
          <a:stretch/>
        </p:blipFill>
        <p:spPr>
          <a:xfrm>
            <a:off x="1000080" y="2643120"/>
            <a:ext cx="6929640" cy="3929040"/>
          </a:xfrm>
          <a:prstGeom prst="rect">
            <a:avLst/>
          </a:prstGeom>
          <a:ln w="0">
            <a:noFill/>
          </a:ln>
        </p:spPr>
      </p:pic>
      <p:sp>
        <p:nvSpPr>
          <p:cNvPr id="182" name=""/>
          <p:cNvSpPr txBox="1"/>
          <p:nvPr/>
        </p:nvSpPr>
        <p:spPr>
          <a:xfrm>
            <a:off x="428760" y="0"/>
            <a:ext cx="8229600" cy="35719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En 1661, Louis XIV charge André Le Nôtre de la création et de l’aménagement des jardins de Versailles qui, à ses yeux, sont aussi importants que le Château. Les travaux sont entrepris en même temps que ceux du palais et durent une quarantaine d’années. Mais André Le Nôtre ne travaille pas seul. Jean-Baptiste Colbert, Surintendant des bâtiments du Roi, de 1664 à 1683, dirige le chantier ; Charles Le Brun, nommé Premier Peintre du Roi en janvier 1664, donne les dessins d’un grand nombre de statues et fontaines ; un peu plus tard, l’architecte Jules Hardouin-Mansart ordonne des décors de plus en plus sobres et construit l’Orangerie. Enfin, le Roi lui-même se fait soumettre tous les projets et veut le « détail de tout ». </a:t>
            </a:r>
            <a:endParaRPr b="0" lang="en-US" sz="2000" spc="-1" strike="noStrike">
              <a:solidFill>
                <a:srgbClr val="000000"/>
              </a:solidFill>
              <a:latin typeface="Constantia"/>
            </a:endParaRPr>
          </a:p>
        </p:txBody>
      </p:sp>
      <p:sp>
        <p:nvSpPr>
          <p:cNvPr id="183" name="PlaceHolder 1"/>
          <p:cNvSpPr>
            <a:spLocks noGrp="1"/>
          </p:cNvSpPr>
          <p:nvPr>
            <p:ph type="title"/>
          </p:nvPr>
        </p:nvSpPr>
        <p:spPr>
          <a:xfrm>
            <a:off x="457200" y="-52092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Рисунок 5" descr="1183568449_g.jpg"/>
          <p:cNvPicPr/>
          <p:nvPr/>
        </p:nvPicPr>
        <p:blipFill>
          <a:blip r:embed="rId1"/>
          <a:stretch/>
        </p:blipFill>
        <p:spPr>
          <a:xfrm>
            <a:off x="357120" y="357120"/>
            <a:ext cx="8429760" cy="6143760"/>
          </a:xfrm>
          <a:prstGeom prst="rect">
            <a:avLst/>
          </a:prstGeom>
          <a:ln w="0">
            <a:noFill/>
          </a:ln>
        </p:spPr>
      </p:pic>
      <p:sp>
        <p:nvSpPr>
          <p:cNvPr id="185" name=""/>
          <p:cNvSpPr txBox="1"/>
          <p:nvPr/>
        </p:nvSpPr>
        <p:spPr>
          <a:xfrm>
            <a:off x="0" y="357120"/>
            <a:ext cx="8229600" cy="4572000"/>
          </a:xfrm>
          <a:prstGeom prst="rect">
            <a:avLst/>
          </a:prstGeom>
          <a:noFill/>
          <a:ln w="0">
            <a:noFill/>
          </a:ln>
        </p:spPr>
        <p:txBody>
          <a:bodyPr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Depuis 1992, les jardins sont en cours de replantation, et après la tempête dévastatrice de décembre 1999, les travaux se sont accélérés au point que, dans bien des parties, ils ont déjà retrouvé leur physionomie d’origine.</a:t>
            </a:r>
            <a:endParaRPr b="0" lang="en-US" sz="2600" spc="-1" strike="noStrike">
              <a:solidFill>
                <a:srgbClr val="000000"/>
              </a:solidFill>
              <a:latin typeface="Constantia"/>
            </a:endParaRPr>
          </a:p>
        </p:txBody>
      </p:sp>
      <p:sp>
        <p:nvSpPr>
          <p:cNvPr id="186" name="PlaceHolder 1"/>
          <p:cNvSpPr>
            <a:spLocks noGrp="1"/>
          </p:cNvSpPr>
          <p:nvPr>
            <p:ph type="title"/>
          </p:nvPr>
        </p:nvSpPr>
        <p:spPr>
          <a:xfrm>
            <a:off x="1213920" y="-521280"/>
            <a:ext cx="747252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med">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Рисунок 3" descr="76642494.jpg"/>
          <p:cNvPicPr/>
          <p:nvPr/>
        </p:nvPicPr>
        <p:blipFill>
          <a:blip r:embed="rId1"/>
          <a:stretch/>
        </p:blipFill>
        <p:spPr>
          <a:xfrm>
            <a:off x="4786200" y="857160"/>
            <a:ext cx="3929040" cy="4786560"/>
          </a:xfrm>
          <a:prstGeom prst="rect">
            <a:avLst/>
          </a:prstGeom>
          <a:ln w="0">
            <a:noFill/>
          </a:ln>
        </p:spPr>
      </p:pic>
      <p:sp>
        <p:nvSpPr>
          <p:cNvPr id="188" name=""/>
          <p:cNvSpPr txBox="1"/>
          <p:nvPr/>
        </p:nvSpPr>
        <p:spPr>
          <a:xfrm>
            <a:off x="285840" y="499680"/>
            <a:ext cx="5214960" cy="6643800"/>
          </a:xfrm>
          <a:prstGeom prst="rect">
            <a:avLst/>
          </a:prstGeom>
          <a:noFill/>
          <a:ln w="0">
            <a:noFill/>
          </a:ln>
        </p:spPr>
        <p:txBody>
          <a:bodyPr anchor="t">
            <a:normAutofit/>
          </a:bodyPr>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Petit palais de marbre rose et de porphyre avec des jardins délicieux » selon la description de Mansart qui respecte à la lettre les indications de Louis XIV très impliqué dans cette construction, on ne peut que tomber sous le charme de cet édifice aux proportions élégantes dégageant intimité, douceur et grandeur. Très influencé par l’architecture italienne, ce palais s’étend sur un seul niveau, placé entre cour et jardin, recouvert d’un toit plat, dissimulé par une balustrade, autrefois agrémentée de groupes d’enfants, de vases, de figures sculptées.</a:t>
            </a:r>
            <a:endParaRPr b="0" lang="en-US" sz="18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Renommé pour ses jardins à la française, ordonnés et géométriques, « rempli de toutes sortes de fleurs d’orangers et d’arbrisseaux vert », nous rapporte Félibien, le « Trianon de Marbre » est entouré, dès sa construction, de plusieurs dizaines de milliers de plantes vivaces et tubéreuses. Enterrées en pots, afin de pouvoir être changées tous les jours, et créer ainsi un spectacle fleuri et embaumé, ces plantes offrent un décor vivant qui anime la perfection de cette architecture tout entière ouverte sur les jardins.</a:t>
            </a:r>
            <a:endParaRPr b="0" lang="en-US" sz="18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9" name="PlaceHolder 1"/>
          <p:cNvSpPr>
            <a:spLocks noGrp="1"/>
          </p:cNvSpPr>
          <p:nvPr>
            <p:ph type="title"/>
          </p:nvPr>
        </p:nvSpPr>
        <p:spPr>
          <a:xfrm>
            <a:off x="457200" y="-45900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Рисунок 4" descr="375304.jpg"/>
          <p:cNvPicPr/>
          <p:nvPr/>
        </p:nvPicPr>
        <p:blipFill>
          <a:blip r:embed="rId1"/>
          <a:stretch/>
        </p:blipFill>
        <p:spPr>
          <a:xfrm>
            <a:off x="285840" y="642960"/>
            <a:ext cx="3809880" cy="5715000"/>
          </a:xfrm>
          <a:prstGeom prst="rect">
            <a:avLst/>
          </a:prstGeom>
          <a:ln w="0">
            <a:noFill/>
          </a:ln>
          <a:effectLst>
            <a:outerShdw dist="139498" dir="2700000" blurRad="0" rotWithShape="0">
              <a:srgbClr val="333333">
                <a:alpha val="65000"/>
              </a:srgbClr>
            </a:outerShdw>
          </a:effectLst>
        </p:spPr>
      </p:pic>
      <p:sp>
        <p:nvSpPr>
          <p:cNvPr id="191" name=""/>
          <p:cNvSpPr txBox="1"/>
          <p:nvPr/>
        </p:nvSpPr>
        <p:spPr>
          <a:xfrm>
            <a:off x="3571560" y="856800"/>
            <a:ext cx="5143320" cy="5715000"/>
          </a:xfrm>
          <a:prstGeom prst="rect">
            <a:avLst/>
          </a:prstGeom>
          <a:noFill/>
          <a:ln w="0">
            <a:noFill/>
          </a:ln>
        </p:spPr>
        <p:txBody>
          <a:bodyPr anchor="t">
            <a:normAutofit fontScale="95000"/>
          </a:bodyPr>
          <a:p>
            <a:pPr marL="259200" indent="-25920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Occupé par Louis XIV, qui y logera sa belle-sœur, la princesse Palatine, son gendre, le duc de Chartres, sa fille, la duchesse de Bourbon, le Grand Trianon est aimé de Marie Leszczinska qui y réside à la belle saison. Marie-Antoinette y donne, quant à elle, quelques représentations, préférant la demeure du Petit Trianon que lui avait offerte Louis XVI . Napoléon Bonaparte, après en avoir ordonnée la restauration, y fait de nombreux séjours avec son épouse l’Impératrice Marie-Louise. Le Général de Gaulle prendra, en 1963, l’initiative de remettre en état les lieux pour y accueillir les hôtes de la République et y organiser dans l’Aile Nord dite de « Trianon-sous-bois », une résidence du Président de la République.</a:t>
            </a:r>
            <a:endParaRPr b="0" lang="en-US" sz="2200" spc="-1" strike="noStrike">
              <a:solidFill>
                <a:srgbClr val="000000"/>
              </a:solidFill>
              <a:latin typeface="Constantia"/>
            </a:endParaRPr>
          </a:p>
        </p:txBody>
      </p:sp>
      <p:sp>
        <p:nvSpPr>
          <p:cNvPr id="192" name="PlaceHolder 1"/>
          <p:cNvSpPr>
            <a:spLocks noGrp="1"/>
          </p:cNvSpPr>
          <p:nvPr>
            <p:ph type="title"/>
          </p:nvPr>
        </p:nvSpPr>
        <p:spPr>
          <a:xfrm>
            <a:off x="457200" y="-52128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28760" y="3357360"/>
            <a:ext cx="8229600" cy="3095640"/>
          </a:xfrm>
          <a:prstGeom prst="rect">
            <a:avLst/>
          </a:prstGeom>
          <a:noFill/>
          <a:ln w="0">
            <a:noFill/>
          </a:ln>
        </p:spPr>
        <p:txBody>
          <a:bodyPr anchor="t">
            <a:normAutofit/>
          </a:bodyPr>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e Petit Trianon et son parc sont indissociablement liés au souvenir de la reine Marie-Antoinette. Elle est la seule reine qui ait imposé son goût personnel à Versailles. Bafouant la vieille cour et ses traditions, elle tient à vivre comme elle l’entend. Dans son domaine de Trianon que Louis XVI lui a offert en 1774, elle trouve le havre d’intimité qui lui permet d’échapper à l’Etiquette. Nul ne peut y pénétrer sans son invitation.</a:t>
            </a:r>
            <a:endParaRPr b="0" lang="en-US" sz="18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Depuis sa restauration en 2008, le domaine a retrouvé sa cohérence en tant que lieu réservé et préservé, centré sur son château. Ce dispositif donne à voir l'éclectisme et le raffinement de Marie-Antoinette, un art de vivre lié à une liberté de </a:t>
            </a:r>
            <a:endParaRPr b="0" lang="en-US" sz="1800" spc="-1" strike="noStrike">
              <a:solidFill>
                <a:srgbClr val="000000"/>
              </a:solidFill>
              <a:latin typeface="Constantia"/>
            </a:endParaRPr>
          </a:p>
        </p:txBody>
      </p:sp>
      <p:sp>
        <p:nvSpPr>
          <p:cNvPr id="194" name="PlaceHolder 1"/>
          <p:cNvSpPr>
            <a:spLocks noGrp="1"/>
          </p:cNvSpPr>
          <p:nvPr>
            <p:ph type="title"/>
          </p:nvPr>
        </p:nvSpPr>
        <p:spPr>
          <a:xfrm>
            <a:off x="8640360" y="-10368360"/>
            <a:ext cx="74520" cy="1052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pic>
        <p:nvPicPr>
          <p:cNvPr id="195" name="Рисунок 3" descr="157142307.jpg"/>
          <p:cNvPicPr/>
          <p:nvPr/>
        </p:nvPicPr>
        <p:blipFill>
          <a:blip r:embed="rId1"/>
          <a:stretch/>
        </p:blipFill>
        <p:spPr>
          <a:xfrm>
            <a:off x="1785960" y="285840"/>
            <a:ext cx="5238720" cy="3000240"/>
          </a:xfrm>
          <a:prstGeom prst="rect">
            <a:avLst/>
          </a:prstGeom>
          <a:ln w="0">
            <a:noFill/>
          </a:ln>
        </p:spPr>
      </p:pic>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2:32:27Z</dcterms:created>
  <dc:creator>Admin</dc:creator>
  <dc:description/>
  <dc:language>en-US</dc:language>
  <cp:lastModifiedBy>AMINO</cp:lastModifiedBy>
  <dcterms:modified xsi:type="dcterms:W3CDTF">2011-11-25T09:22:18Z</dcterms:modified>
  <cp:revision>6</cp:revision>
  <dc:subject/>
  <dc:title>Слайд 1</dc:title>
</cp:coreProperties>
</file>