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787-B1A8-495E-8FE0-848B4C9C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B44-C7CD-4CC7-B19E-1B42B4F8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137-E3E1-4FD1-BCA7-B83464B1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9A9-A965-4794-BF35-9DD89017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B0D-3C62-4EF9-B6A2-3D7FF409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28B-7315-4736-918D-2B51CCCA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606-D54A-42BB-9F2B-D64754C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7CC-69F7-459F-80EB-8C57A1F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CB7-FFC8-48B4-BA72-2A6BEEE2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135-9D62-4FA0-9D55-597925B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962-7669-4B00-ABF2-B31AA4F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FE1-DD76-4DD4-8C55-724BD3F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811-DECB-4EE9-93B1-8C33294157C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image" Target="../media/image6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7.jpeg"/><Relationship Id="rId8" Type="http://schemas.openxmlformats.org/officeDocument/2006/relationships/slide" Target="slide3.xm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7880" y="1889280"/>
            <a:ext cx="784872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بيح . تسبيح  للر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7880" y="3184560"/>
            <a:ext cx="79326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تاف . لملك المج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1447920"/>
            <a:ext cx="52578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ق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22640"/>
            <a:ext cx="54864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سلط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9960" y="2727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حب القد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330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228600" y="990720"/>
            <a:ext cx="8763120" cy="2530440"/>
          </a:xfrm>
          <a:prstGeom prst="rect">
            <a:avLst/>
          </a:prstGeom>
          <a:noFill/>
          <a:ln w="0">
            <a:noFill/>
          </a:ln>
          <a:effectLst>
            <a:outerShdw dist="80486" dir="6510959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 مجد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ً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ى مجد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ً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أخذ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691920" y="2057400"/>
            <a:ext cx="10662840" cy="13129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ة فوق نعمة تمنح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260880"/>
            <a:ext cx="853452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وحك القدوس يقود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9000" y="4479840"/>
            <a:ext cx="88354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نحيا حياة منتص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7880" y="1889280"/>
            <a:ext cx="784872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بيح . تسبيح  للر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7880" y="3184560"/>
            <a:ext cx="79326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تاف . لملك المج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57600" y="1447920"/>
            <a:ext cx="52578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ق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022640"/>
            <a:ext cx="54864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سلط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9960" y="2727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حب القد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-36360" y="1219320"/>
            <a:ext cx="933264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طي جمالاً عوضاً عن الرما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674640" y="2359080"/>
            <a:ext cx="9056520" cy="210492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عطي فرحاً عوضاً عن النو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80880" y="3505320"/>
            <a:ext cx="967716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رداء تسبيح عوضا عن اليأ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80" y="4699080"/>
            <a:ext cx="743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لبسنا ثياب الخلا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7880" y="1889280"/>
            <a:ext cx="784872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سبيح . تسبيح  للر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880" y="3184560"/>
            <a:ext cx="79326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تاف . لملك المج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57600" y="1447920"/>
            <a:ext cx="52578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ق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4022640"/>
            <a:ext cx="548640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حب السلط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9960" y="27273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حب القد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81480" y="1413000"/>
            <a:ext cx="392760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تعطي جمالاً عوض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108000" y="1281240"/>
            <a:ext cx="438768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تسبيح .. تسبيح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8" action="ppaction://hlinksldjump"/>
          </p:cNvPr>
          <p:cNvSpPr/>
          <p:nvPr/>
        </p:nvSpPr>
        <p:spPr>
          <a:xfrm>
            <a:off x="5181480" y="417600"/>
            <a:ext cx="392760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من مجدا إلي مج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21:21:11Z</dcterms:created>
  <dc:creator>Nevia</dc:creator>
  <dc:description/>
  <dc:language>en-US</dc:language>
  <cp:lastModifiedBy>Sp2</cp:lastModifiedBy>
  <dcterms:modified xsi:type="dcterms:W3CDTF">2008-09-17T14:16:59Z</dcterms:modified>
  <cp:revision>28</cp:revision>
  <dc:subject/>
  <dc:title>No Slide Title</dc:title>
</cp:coreProperties>
</file>