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32F6-8C61-4491-A7E9-68A6BE5EA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4CDF-87DB-4F7E-833F-56AD721B22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CB1A-6064-45AE-99C1-89441B6107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C5CD-6BEE-4182-B94F-4897328651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1096-940F-439B-BAD2-0F49F32F2F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D7DD-90B3-4D3C-A8EE-14C0B378D7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242-5618-4951-84BD-15CB750F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391-64B6-4F0F-80BE-8DDDDDEB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310-DDCF-4672-8E5A-D159EFD7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2A3-FF9E-4C35-A947-C5AA0211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CE6-BB4C-4CA0-85F5-493E3DB2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38DB-8B68-41AF-9F0F-0C69051C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69E-84C0-4B37-8A6E-8F77E76B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D52F-0A2A-44AA-AF4A-16A601A2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0050-4F04-424E-AF33-12802FB8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9E7-FE21-4E11-89AD-718A5E17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E45-BF82-475F-92B0-981A74AD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549A-CF2E-48C5-8748-F0962B99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A049-1FD6-41BD-920C-A70295C51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a0003"/>
                </a:solidFill>
                <a:latin typeface="Bookman Old Style"/>
              </a:rPr>
              <a:t>FEED RESOURCES FOR LIVESTOCK AND POUL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362320"/>
            <a:ext cx="8305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&amp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“AVAILABILITY TREND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tor is increasingly expect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afe and plentiful food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ing urban popul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verty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rends and the challenges were identified a decade ago by Delgad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999), who coined the ter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livestock revolu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0003"/>
                </a:solidFill>
                <a:latin typeface="Stencil"/>
              </a:rPr>
              <a:t>Live stock sector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Stencil"/>
              </a:rPr>
              <a:t>Livestock Feed Industry of Paki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90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90807"/>
                </a:solidFill>
                <a:latin typeface="Arial"/>
              </a:rPr>
              <a:t>130 Feed mills in the count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90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90807"/>
                </a:solidFill>
                <a:latin typeface="Arial"/>
              </a:rPr>
              <a:t>Only 10 major feed mills, producing ruminant feed in private sect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90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90807"/>
                </a:solidFill>
                <a:latin typeface="Arial"/>
              </a:rPr>
              <a:t>Generally home mixed concentrate are prepared by livestock farm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990720" y="1828800"/>
          <a:ext cx="7467480" cy="4572000"/>
        </p:xfrm>
        <a:graphic>
          <a:graphicData uri="http://schemas.openxmlformats.org/drawingml/2006/table">
            <a:tbl>
              <a:tblPr/>
              <a:tblGrid>
                <a:gridCol w="1536480"/>
                <a:gridCol w="1098720"/>
                <a:gridCol w="483228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w Materi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Fe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rce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arse grai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ize, Rice tips, Sorghum &amp; Wheat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eal &amp; ind. by produc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ce polishing, Rice bran, Wheat bran, Maize bran &amp; Molasse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getable Protei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ybean meal, Canola meal, Sunflower meal, Rape seed meal, Guar meal, Cotton seed meal, Sesame meal &amp; Corn gluten meal.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imal Protei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sh meal, Poultry by product meal, Meat meal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calcium Phosphate, Limestone, Bone meal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-Ingredien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tamins, Minerals, Amino acids, Feed additives &amp; Coccidiosta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2"/>
          <p:cNvSpPr/>
          <p:nvPr/>
        </p:nvSpPr>
        <p:spPr>
          <a:xfrm>
            <a:off x="914400" y="90360"/>
            <a:ext cx="769608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ba0003"/>
                </a:solidFill>
                <a:latin typeface="Stencil"/>
              </a:rPr>
              <a:t>Raw materials for poultr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0003"/>
                </a:solidFill>
                <a:latin typeface="Stencil"/>
              </a:rPr>
              <a:t>SOLUTIONS</a:t>
            </a:r>
            <a:r>
              <a:rPr b="0" lang="en-US" sz="6000" spc="-1" strike="noStrike">
                <a:solidFill>
                  <a:srgbClr val="ba0003"/>
                </a:solidFill>
                <a:latin typeface="Stenci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and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far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s of Hybrid S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on of mech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he agronomic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ion to agriculture far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of new varie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ultry &amp; livestock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s on Improved Protein and Energy U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for alternative feed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cost unconventional fe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fiber, as an energy source in poultry diets will be an important means to meet future feed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digestibility of unconventional feeds through biotechnological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t environment manipulation for better nutrient utiliz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ct quality control of feed 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0003"/>
                </a:solidFill>
                <a:latin typeface="Stencil"/>
              </a:rPr>
              <a:t>SOLUTIONS</a:t>
            </a:r>
            <a:r>
              <a:rPr b="0" lang="en-US" sz="6000" spc="-1" strike="noStrike">
                <a:solidFill>
                  <a:srgbClr val="ba0003"/>
                </a:solidFill>
                <a:latin typeface="Stenci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Stencil"/>
              </a:rPr>
              <a:t>Backgrou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54040"/>
            <a:ext cx="8229600" cy="36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908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0807"/>
                </a:solidFill>
                <a:latin typeface="Tahoma"/>
              </a:rPr>
              <a:t>Increase in demand of animal origin food 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09080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807"/>
                </a:solidFill>
                <a:latin typeface="Tahoma"/>
              </a:rPr>
              <a:t>Population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09080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807"/>
                </a:solidFill>
                <a:latin typeface="Tahoma"/>
              </a:rPr>
              <a:t>Urb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09080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807"/>
                </a:solidFill>
                <a:latin typeface="Tahoma"/>
              </a:rPr>
              <a:t>Changing consumer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09080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807"/>
                </a:solidFill>
                <a:latin typeface="Tahoma"/>
              </a:rPr>
              <a:t>Export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0003"/>
                </a:solidFill>
                <a:latin typeface="Stencil"/>
              </a:rPr>
              <a:t>Feed Resources for Livestock</a:t>
            </a:r>
            <a:r>
              <a:rPr b="0" lang="en-US" sz="4400" spc="-1" strike="noStrike">
                <a:solidFill>
                  <a:srgbClr val="ba0003"/>
                </a:solidFill>
                <a:latin typeface="Stenci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5581800" y="2482920"/>
            <a:ext cx="1455480" cy="1233360"/>
          </a:xfrm>
          <a:prstGeom prst="ellipse">
            <a:avLst/>
          </a:prstGeom>
          <a:solidFill>
            <a:srgbClr val="ee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Resid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3570120" y="2209680"/>
            <a:ext cx="1455840" cy="1231920"/>
          </a:xfrm>
          <a:prstGeom prst="ellipse">
            <a:avLst/>
          </a:prstGeom>
          <a:solidFill>
            <a:srgbClr val="ee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Fo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5859360" y="4332240"/>
            <a:ext cx="1455840" cy="1231920"/>
          </a:xfrm>
          <a:prstGeom prst="ellipse">
            <a:avLst/>
          </a:prstGeom>
          <a:solidFill>
            <a:srgbClr val="ee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F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Add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>
            <a:off x="3500280" y="5016600"/>
            <a:ext cx="1457640" cy="1231920"/>
          </a:xfrm>
          <a:prstGeom prst="ellipse">
            <a:avLst/>
          </a:prstGeom>
          <a:solidFill>
            <a:srgbClr val="ee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Gra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1143000" y="2689200"/>
            <a:ext cx="1455840" cy="1231920"/>
          </a:xfrm>
          <a:prstGeom prst="ellipse">
            <a:avLst/>
          </a:prstGeom>
          <a:solidFill>
            <a:srgbClr val="ee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Grain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Oils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8"/>
          <p:cNvSpPr/>
          <p:nvPr/>
        </p:nvSpPr>
        <p:spPr>
          <a:xfrm>
            <a:off x="1143000" y="4400640"/>
            <a:ext cx="1455840" cy="1231920"/>
          </a:xfrm>
          <a:prstGeom prst="ellipse">
            <a:avLst/>
          </a:prstGeom>
          <a:solidFill>
            <a:srgbClr val="ee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By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1836720" y="3921120"/>
            <a:ext cx="0" cy="47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276720" y="3719520"/>
            <a:ext cx="2081160" cy="101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V="1">
            <a:off x="4264200" y="481140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4264200" y="344160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>
            <a:off x="5511600" y="3510000"/>
            <a:ext cx="20772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5"/>
          <p:cNvSpPr/>
          <p:nvPr/>
        </p:nvSpPr>
        <p:spPr>
          <a:xfrm flipH="1" flipV="1">
            <a:off x="5511600" y="4400280"/>
            <a:ext cx="41580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6"/>
          <p:cNvSpPr/>
          <p:nvPr/>
        </p:nvSpPr>
        <p:spPr>
          <a:xfrm flipV="1">
            <a:off x="2530440" y="4400640"/>
            <a:ext cx="62388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2598840" y="3510000"/>
            <a:ext cx="55548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5280" y="333000"/>
            <a:ext cx="614664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ba0003"/>
                </a:solidFill>
                <a:latin typeface="Stencil"/>
              </a:rPr>
              <a:t>FODDER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994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40000"/>
                </a:solidFill>
                <a:latin typeface="Arial"/>
              </a:rPr>
              <a:t>Legumi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wp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40000"/>
                </a:solidFill>
                <a:latin typeface="Arial"/>
              </a:rPr>
              <a:t>Non-Legumi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rgh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ddaba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tt 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5920" y="1600200"/>
            <a:ext cx="3994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40000"/>
                </a:solidFill>
                <a:latin typeface="Arial"/>
              </a:rPr>
              <a:t>Legumi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rse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40000"/>
                </a:solidFill>
                <a:latin typeface="Arial"/>
              </a:rPr>
              <a:t>Non-Legumi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urn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r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ye 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garcane t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19920" cy="63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ba0003"/>
                </a:solidFill>
                <a:latin typeface="Stencil"/>
              </a:rPr>
              <a:t>Crop residu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at st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e st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ze crop resi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rghum stovers/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let st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ley st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ar crop resi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408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m st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seed st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ong st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h st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oor st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pe seed/mustard st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0003"/>
                </a:solidFill>
                <a:latin typeface="Stencil"/>
              </a:rPr>
              <a:t>NUTRITIONAL QUALITY OF STR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ritional quality is very poor because 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cient in Protein and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w palatability and low intak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w digestibility and feed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aining higher quantities of indigestible fibre and lign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y longer in the rumen, lowering the intake and impair producti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09480" y="5092560"/>
          <a:ext cx="8229600" cy="10191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840"/>
                <a:gridCol w="1645920"/>
                <a:gridCol w="1646280"/>
              </a:tblGrid>
              <a:tr h="4986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M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DN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to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to 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to 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98480" y="1752480"/>
            <a:ext cx="7964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out 60% of the total area of the country is rangela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ep &amp; goats obtain 60% of their feed from rangela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sses, shrubs and tree leaves are the potential feed reservoir for livestock in Pakistan and needs improv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tificial reseeding, fertilization and other inputs could provide good resul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438280" y="853920"/>
            <a:ext cx="6477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ba0003"/>
                </a:solidFill>
                <a:latin typeface="Stencil"/>
              </a:rPr>
              <a:t>Rangelands &amp; Pas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307800"/>
            <a:ext cx="65883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a0003"/>
                </a:solidFill>
                <a:latin typeface="Stencil"/>
                <a:ea typeface="Lucida Sans Unicode"/>
              </a:rPr>
              <a:t>Agro-Industrial</a:t>
            </a:r>
            <a:r>
              <a:rPr b="1" lang="en-GB" sz="4800" spc="-1" strike="noStrike">
                <a:solidFill>
                  <a:srgbClr val="ba0003"/>
                </a:solidFill>
                <a:latin typeface="Stencil"/>
                <a:ea typeface="Lucida Sans Unicode"/>
              </a:rPr>
              <a:t> by-produ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52320" y="1371240"/>
            <a:ext cx="5257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tton seed cake &amp; m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ape seed cake &amp; m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unflower cake &amp; m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inseed cake &amp; m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oybean m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esame seed ca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ize oil ca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ize gluten fe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Wheat br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ice br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ize br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ice polish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ane molas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lm Kernel Ca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conut Ca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0003"/>
                </a:solidFill>
                <a:latin typeface="Stencil"/>
              </a:rPr>
              <a:t>Live stock sector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tock sector has developed and changed rapidly in respons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s in the global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ing incomes in many developing countrie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societal expec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08:16:56Z</dcterms:created>
  <dc:creator>Ehsaan</dc:creator>
  <dc:description/>
  <cp:keywords/>
  <dc:language>en-US</dc:language>
  <cp:lastModifiedBy>it</cp:lastModifiedBy>
  <dcterms:modified xsi:type="dcterms:W3CDTF">2010-10-28T08:20:38Z</dcterms:modified>
  <cp:revision>2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591033</vt:lpwstr>
  </property>
</Properties>
</file>