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594F-17C3-445E-9803-6AA198246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D498-E7BD-4928-B0CD-758853F623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A740-47CE-4A1F-8890-A20650EED7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433D-931D-4DC0-B68F-E1D0AC1FAD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7071-8266-4100-88DE-BA11C7CA35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0C65-F74B-4A7E-9324-1253B194C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36B-11C9-4E8A-8062-D75166AD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7E9-EB85-4EA0-A073-354D3F9D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395-8BA7-47C2-A9EB-EA55A8C9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173-1745-49F6-9F0C-08ECA89B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1D3-1536-4BEE-B785-7AF56164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9E2-1E63-4B51-B4A5-4B3FB6CC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F6F-62A1-48FD-B6FB-448DC52B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D48-B5A6-4C4D-B184-67EC7562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2A3-422D-43A1-B225-7A63CB52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CD0-0CE4-4505-AF3E-D8665364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7A8-04B5-4379-AA80-B5527C59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C2F-297E-4778-B849-64F30C10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6216-7580-4547-B58E-376D37332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0003"/>
                </a:solidFill>
                <a:latin typeface="Bookman Old Style"/>
              </a:rPr>
              <a:t>FEED RESOURCES FOR LIVESTOCK AND POUL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362320"/>
            <a:ext cx="830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&amp;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“AVAILABILITY TREN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tor is increasingly expec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fe and plentiful food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urban popu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r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rends and the challenges were identified a decade ago by Delga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99), who coined the ter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livestock revolu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0003"/>
                </a:solidFill>
                <a:latin typeface="Stencil"/>
              </a:rPr>
              <a:t>Live stock sector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Stencil"/>
              </a:rPr>
              <a:t>Livestock Feed Industry of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90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90807"/>
                </a:solidFill>
                <a:latin typeface="Arial"/>
              </a:rPr>
              <a:t>130 Feed mills in the count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90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90807"/>
                </a:solidFill>
                <a:latin typeface="Arial"/>
              </a:rPr>
              <a:t>Only 10 major feed mills, producing ruminant feed in private sect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90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90807"/>
                </a:solidFill>
                <a:latin typeface="Arial"/>
              </a:rPr>
              <a:t>Generally home mixed concentrate are prepared by livestock farm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990720" y="1828800"/>
          <a:ext cx="7467480" cy="4572000"/>
        </p:xfrm>
        <a:graphic>
          <a:graphicData uri="http://schemas.openxmlformats.org/drawingml/2006/table">
            <a:tbl>
              <a:tblPr/>
              <a:tblGrid>
                <a:gridCol w="1536480"/>
                <a:gridCol w="1098720"/>
                <a:gridCol w="483228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w Mater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of F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arse gra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ze, Rice tips, Sorghum &amp; Wheat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eal &amp; ind. by produc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ce polishing, Rice bran, Wheat bran, Maize bran &amp; Molass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getable Prote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ybean meal, Canola meal, Sunflower meal, Rape seed meal, Guar meal, Cotton seed meal, Sesame meal &amp; Corn gluten meal.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imal Protei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sh meal, Poultry by product meal, Meat me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calcium Phosphate, Limestone, Bone me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-Ingredien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tamins, Minerals, Amino acids, Feed additives &amp; Coccidiosta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2"/>
          <p:cNvSpPr/>
          <p:nvPr/>
        </p:nvSpPr>
        <p:spPr>
          <a:xfrm>
            <a:off x="914400" y="90360"/>
            <a:ext cx="76960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ba0003"/>
                </a:solidFill>
                <a:latin typeface="Stencil"/>
              </a:rPr>
              <a:t>Raw materials for poultr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0003"/>
                </a:solidFill>
                <a:latin typeface="Stencil"/>
              </a:rPr>
              <a:t>SOLUTIONS</a:t>
            </a:r>
            <a:r>
              <a:rPr b="0" lang="en-US" sz="6000" spc="-1" strike="noStrike">
                <a:solidFill>
                  <a:srgbClr val="ba0003"/>
                </a:solidFill>
                <a:latin typeface="Stenci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nd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far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s of Hybrid 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on of mech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he agronomic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on to agriculture far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new varie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ltry &amp; livestock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n Improved Protein and Energy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alternative feed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st unconventional fe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fiber, as an energy source in poultry diets will be an important means to meet future feed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digestibility of unconventional feeds through biotechnologic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t environment manipulation for better nutrient utiliz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ct quality control of feed 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0003"/>
                </a:solidFill>
                <a:latin typeface="Stencil"/>
              </a:rPr>
              <a:t>SOLUTIONS</a:t>
            </a:r>
            <a:r>
              <a:rPr b="0" lang="en-US" sz="6000" spc="-1" strike="noStrike">
                <a:solidFill>
                  <a:srgbClr val="ba0003"/>
                </a:solidFill>
                <a:latin typeface="Stenci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Stencil"/>
              </a:rPr>
              <a:t>Backg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54040"/>
            <a:ext cx="822960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908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0807"/>
                </a:solidFill>
                <a:latin typeface="Tahoma"/>
              </a:rPr>
              <a:t>Increase in demand of animal origin food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09080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807"/>
                </a:solidFill>
                <a:latin typeface="Tahoma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09080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807"/>
                </a:solidFill>
                <a:latin typeface="Tahoma"/>
              </a:rPr>
              <a:t>Urb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09080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807"/>
                </a:solidFill>
                <a:latin typeface="Tahoma"/>
              </a:rPr>
              <a:t>Changing consumer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09080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0807"/>
                </a:solidFill>
                <a:latin typeface="Tahoma"/>
              </a:rPr>
              <a:t>Export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003"/>
                </a:solidFill>
                <a:latin typeface="Stencil"/>
              </a:rPr>
              <a:t>Feed Resources for Livestock</a:t>
            </a:r>
            <a:r>
              <a:rPr b="0" lang="en-US" sz="4400" spc="-1" strike="noStrike">
                <a:solidFill>
                  <a:srgbClr val="ba0003"/>
                </a:solidFill>
                <a:latin typeface="Stenci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581800" y="2482920"/>
            <a:ext cx="1455480" cy="123336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Resi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3570120" y="2209680"/>
            <a:ext cx="14558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Fo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859360" y="4332240"/>
            <a:ext cx="14558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F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Add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3500280" y="5016600"/>
            <a:ext cx="14576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Gra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1143000" y="2689200"/>
            <a:ext cx="14558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Grain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Oil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1143000" y="4400640"/>
            <a:ext cx="1455840" cy="1231920"/>
          </a:xfrm>
          <a:prstGeom prst="ellipse">
            <a:avLst/>
          </a:prstGeom>
          <a:solidFill>
            <a:srgbClr val="ee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By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807"/>
                </a:solidFill>
                <a:latin typeface="Times New Roman"/>
                <a:ea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836720" y="392112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276720" y="3719520"/>
            <a:ext cx="2081160" cy="101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4264200" y="481140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4264200" y="344160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5511600" y="3510000"/>
            <a:ext cx="20772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 flipH="1" flipV="1">
            <a:off x="5511600" y="4400280"/>
            <a:ext cx="41580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 flipV="1">
            <a:off x="2530440" y="4400640"/>
            <a:ext cx="62388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2598840" y="3510000"/>
            <a:ext cx="5554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5280" y="333000"/>
            <a:ext cx="614664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ba0003"/>
                </a:solidFill>
                <a:latin typeface="Stencil"/>
              </a:rPr>
              <a:t>FODDER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99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40000"/>
                </a:solidFill>
                <a:latin typeface="Arial"/>
              </a:rPr>
              <a:t>Legumi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wp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40000"/>
                </a:solidFill>
                <a:latin typeface="Arial"/>
              </a:rPr>
              <a:t>Non-Legumi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rgh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ddaba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tt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5920" y="1600200"/>
            <a:ext cx="399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40000"/>
                </a:solidFill>
                <a:latin typeface="Arial"/>
              </a:rPr>
              <a:t>Legumi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se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40000"/>
                </a:solidFill>
                <a:latin typeface="Arial"/>
              </a:rPr>
              <a:t>Non-Legumi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rn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r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ye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garcane 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01992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ba0003"/>
                </a:solidFill>
                <a:latin typeface="Stencil"/>
              </a:rPr>
              <a:t>Crop residu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at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e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ze crop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rghum stovers/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et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ley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 crop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m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seed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ong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h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oor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pe seed/mustard st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0003"/>
                </a:solidFill>
                <a:latin typeface="Stencil"/>
              </a:rPr>
              <a:t>NUTRITIONAL QUALITY OF STR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ritional quality is very poor because o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cient in Protein an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w palatability and low intak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w digestibility and feed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ing higher quantities of indigestible fibre and lign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y longer in the rumen, lowering the intake and impair productiv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480" y="5092560"/>
          <a:ext cx="8229600" cy="10191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4986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M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DN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to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to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to 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98480" y="1752480"/>
            <a:ext cx="796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60% of the total area of the country is rangela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ep &amp; goats obtain 60% of their feed from rangel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sses, shrubs and tree leaves are the potential feed reservoir for livestock in Pakistan and needs improv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icial reseeding, fertilization and other inputs could provide good resul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38280" y="853920"/>
            <a:ext cx="6477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ba0003"/>
                </a:solidFill>
                <a:latin typeface="Stencil"/>
              </a:rPr>
              <a:t>Rangelands &amp; Pas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307800"/>
            <a:ext cx="6588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a0003"/>
                </a:solidFill>
                <a:latin typeface="Stencil"/>
                <a:ea typeface="Lucida Sans Unicode"/>
              </a:rPr>
              <a:t>Agro-Industrial</a:t>
            </a:r>
            <a:r>
              <a:rPr b="1" lang="en-GB" sz="4800" spc="-1" strike="noStrike">
                <a:solidFill>
                  <a:srgbClr val="ba0003"/>
                </a:solidFill>
                <a:latin typeface="Stencil"/>
                <a:ea typeface="Lucida Sans Unicode"/>
              </a:rPr>
              <a:t> by-produ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52320" y="137124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tton seed cake &amp;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ape seed cake &amp;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unflower cake &amp;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inseed cake &amp;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oybean m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same seed c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ize oil c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ize gluten fe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heat br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ice br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ize br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ice polish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ne mola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lm Kernel C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conut C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0003"/>
                </a:solidFill>
                <a:latin typeface="Stencil"/>
              </a:rPr>
              <a:t>Live stock sector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sector has developed and changed rapidly in respons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s in the global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ng incomes in many developing countrie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societal expec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8:16:56Z</dcterms:created>
  <dc:creator>Ehsaan</dc:creator>
  <dc:description/>
  <cp:keywords/>
  <dc:language>en-US</dc:language>
  <cp:lastModifiedBy>it</cp:lastModifiedBy>
  <dcterms:modified xsi:type="dcterms:W3CDTF">2010-10-28T08:20:38Z</dcterms:modified>
  <cp:revision>2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91033</vt:lpwstr>
  </property>
</Properties>
</file>