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A5A-E3B7-4418-9B84-F71BD6F4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D63-31F0-4075-BFCE-69294E2A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F74-D010-4B04-90DE-8B20CC89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7716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6824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8608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7716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6824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1CF-6FD7-493D-B529-CB65B045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AC27-DFC1-4003-B7D1-5C8B1CB2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E249-D3E5-4E04-9B55-1811EE99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7367-B17D-4C52-B68E-4D325F48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0C8A-7FDA-4480-A32C-379E22DE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3582-7C3D-4D70-BB3B-F9CDEBEE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85720" y="533160"/>
            <a:ext cx="81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505D-9081-45FD-872F-EA6CA905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E75E-309E-45DD-8170-6BF5FB95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D36-1998-4293-8FEE-DD6CB2EB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0A4C-9377-40B4-8A96-FE0F4242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371C-F1DF-4943-B509-FE0AF6DF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A28D-B5D1-40D2-A418-5D805876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16EC-8074-4363-8E7A-53927A7F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716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06824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8608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716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06824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4305-CBB1-429C-90EC-FDB8CF35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8AB-E9D6-4B76-9A18-CF244A54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D02-8532-4B74-A17A-C6B45A3E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F21-FE6C-43C9-893A-C4587B35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85720" y="533160"/>
            <a:ext cx="81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E35-CCB1-4733-8B7A-7F53A8E4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99D-AF52-4A76-8007-18BBBF44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BE9-6DFB-4500-8324-D1AF6ADD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FE9-8274-412E-B062-C362AE31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AKE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486080" y="6248520"/>
            <a:ext cx="181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71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8418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4A7F-EA17-4A78-8C94-D33B9E7E1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trtegic1" descr=""/>
          <p:cNvPicPr/>
          <p:nvPr/>
        </p:nvPicPr>
        <p:blipFill>
          <a:blip r:embed="rId3"/>
          <a:stretch/>
        </p:blipFill>
        <p:spPr>
          <a:xfrm>
            <a:off x="-15228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20840" y="76320"/>
            <a:ext cx="239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Manajemen Keluar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LOGO%20TRUSTCO" descr=""/>
          <p:cNvPicPr/>
          <p:nvPr/>
        </p:nvPicPr>
        <p:blipFill>
          <a:blip r:embed="rId4"/>
          <a:stretch/>
        </p:blipFill>
        <p:spPr>
          <a:xfrm>
            <a:off x="8782200" y="0"/>
            <a:ext cx="112392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9360" y="685440"/>
            <a:ext cx="60246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081F-537C-45D0-A6B5-9FBDE9191D8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85720" y="759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asalah rumah tangg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an solusinya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86080" y="160020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Baha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luarga adalah 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bu, bapak dengan anak; seisi rum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kamus Besar Bhs Indones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primary social group consisting of parents and their off spring (International diction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Sosiolo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is universal human institusion is a  small kindship-structured group with the key function of nurturaantsocialization of the newborn (Reiss, 198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9EE-D26B-4CA7-BCB1-1A9F2CFB4B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kebiasaan efektif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untuk keluarg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38360" y="1600200"/>
            <a:ext cx="781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njadi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proakt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 agent of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Memulai dari yang akhi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: visi dan m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Mendahulukan yang p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Berpikir menang-menang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dari saya ke k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Memahami baru difaham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: pemecahan masalah kelu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iner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embentukan keluarga yang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imb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4FE-923A-4456-A287-87235ADB5E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572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ASANGAN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yang kuharap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KELUARGA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yang kuharap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KONDISI KELUARGA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yang kuharap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MISI KELUARGA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yang ingin aku bang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sa depan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ANAK-ANAK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KARIR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u, karir pasanga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ERAN SOSIAL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: thd orang tuaku, domisili, aktifitas ek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C04-BFA3-4784-BC47-7B838DC279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F04-EAAD-456C-952B-3E97DA7CEF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04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YA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lah orang yang paling bertanggung jawab dengan keluarga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50600" y="55623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ake  family persons becoming 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19400" y="28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e02002_" descr=""/>
          <p:cNvPicPr/>
          <p:nvPr/>
        </p:nvPicPr>
        <p:blipFill>
          <a:blip r:embed="rId1"/>
          <a:stretch/>
        </p:blipFill>
        <p:spPr>
          <a:xfrm>
            <a:off x="3490920" y="2305080"/>
            <a:ext cx="311292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199-5CF3-40D9-A417-87D82D0C28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BU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lah orang yang paling bertanggung terhadap rumah ketika suaminya pergi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3160" y="4572000"/>
            <a:ext cx="8997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erlukan sifat sholih, taat, dan hafidz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i seorang ibu agar rumah tangg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at baha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7280" y="2286000"/>
            <a:ext cx="3137040" cy="19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099-E7F2-4ADF-B80C-43F574BD27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Anak,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dalah penyejuk mata, rizki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ujian dan fitnah bagi orang tua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9400" y="4952520"/>
            <a:ext cx="842004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perlukan  kemampuan unt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munikasi, keterbukaan, saling menghargai, menerima dan memb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33640" y="2590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e02043_" descr=""/>
          <p:cNvPicPr/>
          <p:nvPr/>
        </p:nvPicPr>
        <p:blipFill>
          <a:blip r:embed="rId1"/>
          <a:stretch/>
        </p:blipFill>
        <p:spPr>
          <a:xfrm>
            <a:off x="4459320" y="2209680"/>
            <a:ext cx="186516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49A-B481-456A-9C74-6E40BB5C0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mah idaman- QS. 30:2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62040" y="11430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eluarga sakinah (tent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waddah (rasa kasih saya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an Rahmah (kedama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ntuk rumah tangga dan mengarahkan pada nilai-nilai yang baik serta memperat hubungan antar keluarga dengan proses ta’aruf, tafahum dan takaful (risalah taa’li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eluar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Surga kecil atau  neraka kehidu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Suami dan istri bagaikan dunia dan akhi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bnul Qoyyi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2BA-36C9-43DE-88FB-AF2E399CBF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gsi keluarg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86080" y="1371600"/>
            <a:ext cx="773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log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empat berna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empat makan dan minum yang cu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empat memnuhi kebutuhan suami is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ikolog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at anggota diterima secara w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at anggota merasa aman dan ny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at anggota mendapat dukungan psikolo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identitas, cinta dan konsep di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17E-6CB2-4F24-9094-9C771544A6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ngsi keluarg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14680" y="182880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siolog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ngkungan pendidikan pertama dan terb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nghubung anggota dengan masyara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’wah (kh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Objek da’wah pert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Model keluarga id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Setiap anggota terlibat da’w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Antibodi bagi virus kejaha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F2F-5AB6-4563-9B22-05F5153B64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Ancaman kebahagia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14680" y="914400"/>
            <a:ext cx="773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eterpecahan orientasi kehidu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ujuan nikah kab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idak menambah ketaqwaan, stabilitas emosi tergang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Pemikiran bahwa perkawinan dunia akhirat menu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si keburukan mengungguli kebai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ika mudah marah dan sulit memaaf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ika tergesa-gesa menyimpulkan sik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uniksai tersend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ai enggan ekspresikan c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hilangan keceriaan, senda gu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FF8-5D9A-42F0-A900-2BE596AB31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8480" y="759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caman kebahagiaa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16200" y="99072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engabaikan kewaji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ami kurang qawwam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dak bekerja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dak berakhlak baik terhadap pasa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dak membahagiakan pasa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bungan sosial tergang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hadirannya tidak dirasakan manfaatny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ak mampu menebar niali ke lingku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rang menikmati rasa sa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ak mampu menghormati kerab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ra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SIL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29D-9D37-4034-86BD-841419F105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07:36:03Z</dcterms:created>
  <dc:creator>Atro</dc:creator>
  <dc:description/>
  <dc:language>en-US</dc:language>
  <cp:lastModifiedBy>Jundi</cp:lastModifiedBy>
  <dcterms:modified xsi:type="dcterms:W3CDTF">2001-04-12T13:32:56Z</dcterms:modified>
  <cp:revision>17</cp:revision>
  <dc:subject/>
  <dc:title>Pernik-pernik masalah rumah tangga dan solusinya</dc:title>
</cp:coreProperties>
</file>