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AE2-B6E8-471B-B304-6785E891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618-63BD-4FBE-930C-0605B2E8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7DA-1EDB-459C-93A0-BC9BD29B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269-A811-4825-BC45-173FF8C2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FA5-7102-4D58-AC10-3439CDDF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9E2-25D5-4785-8D8E-CB5F230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850-CB04-4C74-81A9-6E57ACD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CE62-5983-49A4-946C-08498E66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A4C-96A3-47C6-AD64-6236EC55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CBF-29BE-4044-942B-EFA08D27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9777-98A2-4FF7-9496-C1985525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C2D-B187-4E57-BFB9-CF89C30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82D0-942E-48F5-9A4B-B80C9C9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CA22-7E62-43B6-8F66-627FA26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D852-7675-4C55-BAC2-78D6D178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7AED-AFDC-4E59-B0D8-BCFA0DE1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C5F1-D9DD-4296-B6DA-37B2A9AD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4FC-7566-49E2-ADE5-601E56FE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691-915F-4B99-8B0B-5CC8A73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4AD-AC58-4A63-A23B-9165226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D4A-138E-4549-A6CE-7F1E5738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897-2D83-4E95-92E2-7ECA73C4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C1D-592A-4D82-BE8A-7B428BD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6EB-DCC3-48C3-B35B-A6F4B96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AKE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486080" y="6248520"/>
            <a:ext cx="181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71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418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FF2-D836-4619-934E-F294D33AE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rtegic1" descr=""/>
          <p:cNvPicPr/>
          <p:nvPr/>
        </p:nvPicPr>
        <p:blipFill>
          <a:blip r:embed="rId3"/>
          <a:stretch/>
        </p:blipFill>
        <p:spPr>
          <a:xfrm>
            <a:off x="-15228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20840" y="76320"/>
            <a:ext cx="239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mpus Sans ITC"/>
              </a:rPr>
              <a:t>Manajemen Kelu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OGO%20TRUSTCO" descr=""/>
          <p:cNvPicPr/>
          <p:nvPr/>
        </p:nvPicPr>
        <p:blipFill>
          <a:blip r:embed="rId4"/>
          <a:stretch/>
        </p:blipFill>
        <p:spPr>
          <a:xfrm>
            <a:off x="8782200" y="0"/>
            <a:ext cx="112392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9360" y="685440"/>
            <a:ext cx="6024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6B1-F19D-4EB5-9B92-D87CC492AE2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85720" y="759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asalah rumah tangg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an solusiny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86080" y="160020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aha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uarga adalah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bu, bapak dengan anak; seisi rum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amus Besar Bhs Indones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rimary social group consisting of parents and their off spring (International diction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Sosiolo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is universal human institusion is a  small kindship-structured group with the key function of nurturaantsocialization of the newborn (Reiss, 19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DD1-E725-45BF-952F-5A4CF960B2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5720" y="2282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kebiasaan efektif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untuk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38360" y="160020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njadi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proakt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 agent of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mulai dari yang akhi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: visi dan m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ndahulukan yang pe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Berpikir menang-menang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dari saya ke k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Memahami baru difaham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: pemecahan masalah kelu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iner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embentukan keluarga yang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imb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B69-E9B0-4B39-BA4D-8E42F3A4F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SANGAN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ONDISI 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kuharap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MISI KELUARGA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yang ingin aku bang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sa depan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NAK-ANAK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KARIR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u, karir pasangan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ERAN SOSIAL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: thd orang tuaku, domisili, aktifitas ek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A3F-1E6F-40F8-A303-0CFC647FF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9ED-A50D-4932-8965-FA61A93A92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04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YA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lah orang yang paling bertanggung jawab dengan keluarga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50600" y="556236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 family persons becoming com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19400" y="28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e02002_" descr=""/>
          <p:cNvPicPr/>
          <p:nvPr/>
        </p:nvPicPr>
        <p:blipFill>
          <a:blip r:embed="rId1"/>
          <a:stretch/>
        </p:blipFill>
        <p:spPr>
          <a:xfrm>
            <a:off x="3490920" y="2305080"/>
            <a:ext cx="311292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CD3-36A0-4B6B-A2E5-DF2390F40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BU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lah orang yang paling bertanggung terhadap rumah ketika suaminya pergi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3160" y="4572000"/>
            <a:ext cx="899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erlukan sifat sholih, taat, dan hafidz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i seorang ibu agar rumah tangg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at baha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7280" y="2286000"/>
            <a:ext cx="3137040" cy="19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382-1F57-4214-8749-F483EB95F5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Anak,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dalah penyejuk mata, rizki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ujian dan fitnah bagi orang tu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9400" y="4952520"/>
            <a:ext cx="84200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perlukan  kemampuan unt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unikasi, keterbukaan, saling menghargai, menerima dan memb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33640" y="2590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e02043_" descr=""/>
          <p:cNvPicPr/>
          <p:nvPr/>
        </p:nvPicPr>
        <p:blipFill>
          <a:blip r:embed="rId1"/>
          <a:stretch/>
        </p:blipFill>
        <p:spPr>
          <a:xfrm>
            <a:off x="4459320" y="2209680"/>
            <a:ext cx="186516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F2B-2F7E-4D83-8F16-3589B3624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mah idaman- QS. 30:2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62040" y="11430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eluarga sakinah (tent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waddah (rasa kasih saya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an Rahmah (kedama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ntuk rumah tangga dan mengarahkan pada nilai-nilai yang baik serta memperat hubungan antar keluarga dengan proses ta’aruf, tafahum dan takaful (risalah taa’l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elua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rga kecil atau  neraka kehidu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ami dan istri bagaikan dunia dan akhir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bnul Qoyy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84E-5DCA-4459-8426-7EDB1FAA66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17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gsi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86080" y="1371600"/>
            <a:ext cx="773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iolog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berna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makan dan minum yang cu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mpat memnuhi kebutuhan suami i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ikolog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diterima secara w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merasa aman dan ny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at anggota mendapat dukungan psikolo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identitas, cinta dan konsep di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1D3-756F-4F22-AB16-3BB29910B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ngsi keluarg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14680" y="182880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siolog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ngkungan pendidikan pertama dan terb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nghubung anggota dengan masyara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’wah (kh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Objek da’wah pert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Model keluarga id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Setiap anggota terlibat da’w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Times"/>
              </a:rPr>
              <a:t>Antibodi bagi virus kejaha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D85-B859-4A96-B4DB-5F92869943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ncaman kebahagia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14680" y="914400"/>
            <a:ext cx="773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eterpecahan orientasi kehidu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ujuan nikah kab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idak menambah ketaqwaan, stabilitas emosi tergang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emikiran bahwa perkawinan dunia akhirat menu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si keburukan mengungguli kebai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ika mudah marah dan sulit memaaf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ika tergesa-gesa menyimpulkan sik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uniksai tersend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ai enggan ekspresikan c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hilangan keceriaan, senda gu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604-D2A4-4F28-AC82-72E5E83E0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8480" y="759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caman kebahagiaa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16200" y="9907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Mengabaikan kewaji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uami kurang qawwam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bekerja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berakhlak baik terhadap pas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dak membahagiakan pas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r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bungan sosial tergang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hadirannya tidak dirasakan manfaatny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k mampu menebar niali ke lingku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rang menikmati rasa sa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dak mampu menghormati kera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ra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SIL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671-B146-4486-89F7-92FE0C37D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07:36:03Z</dcterms:created>
  <dc:creator>Atro</dc:creator>
  <dc:description/>
  <dc:language>en-US</dc:language>
  <cp:lastModifiedBy>Jundi</cp:lastModifiedBy>
  <dcterms:modified xsi:type="dcterms:W3CDTF">2001-04-12T13:32:56Z</dcterms:modified>
  <cp:revision>17</cp:revision>
  <dc:subject/>
  <dc:title>Pernik-pernik masalah rumah tangga dan solusinya</dc:title>
</cp:coreProperties>
</file>