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94DA-ECA0-43C4-8D01-C5929B587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35F1-ADB9-460E-96C2-298C0D08E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1CE9-BBBA-4444-AE29-6CDC1E95B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546C-4F12-4889-96C0-9915D8900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574D-3420-4E8C-B01B-27164CA9D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30FB-206A-444C-A8D8-EBAC43CB8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F54B-E2CF-427D-8447-8CAE7D26C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015D-2734-438A-911B-BA02FFB13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C665-2A9E-4E8D-A0A2-060BAD5DB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3135-3A6E-426E-B4AA-94DBB42C7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EE58-5D0D-4271-A927-542763962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66BC-E352-4EB7-8711-72EE1CA6A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92A54-B48F-4959-800F-BB46E41DCC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ShockwaveFlash1"/>
          <p:cNvGraphicFramePr/>
          <p:nvPr/>
        </p:nvGraphicFramePr>
        <p:xfrm>
          <a:off x="304920" y="0"/>
          <a:ext cx="830556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0"/>
                    <a:ext cx="8305560" cy="5715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03280" y="5921280"/>
            <a:ext cx="6337440" cy="936720"/>
          </a:xfrm>
          <a:prstGeom prst="octagon">
            <a:avLst>
              <a:gd name="adj" fmla="val 29287"/>
            </a:avLst>
          </a:prstGeom>
          <a:blipFill rotWithShape="0">
            <a:blip r:embed="rId3">
              <a:alphaModFix amt="48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556000" y="6308640"/>
            <a:ext cx="4533840" cy="34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latin typeface="Poor Richard"/>
              </a:rPr>
              <a:t>www.free-powerpoints.goedbegin.be</a:t>
            </a:r>
            <a:endParaRPr b="1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latin typeface="Poor Richard"/>
              <a:ea typeface="Poor Richard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692360" y="6093000"/>
            <a:ext cx="5952960" cy="199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Bookman Old Style"/>
              </a:rPr>
              <a:t>voor meer dan 2500 Powerpoints, click op onderstaande hyperlink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250" autoRev="1" fill="hold"/>
                                        <p:tgtEl>
                                          <p:spTgt spid="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4T07:31:07Z</dcterms:created>
  <dc:creator>Newmont</dc:creator>
  <dc:description>PPSFun.net Download</dc:description>
  <dc:language>en-US</dc:language>
  <cp:lastModifiedBy>Smets</cp:lastModifiedBy>
  <dcterms:modified xsi:type="dcterms:W3CDTF">2010-04-03T19:13:27Z</dcterms:modified>
  <cp:revision>5</cp:revision>
  <dc:subject/>
  <dc:title>Real or hoax</dc:title>
</cp:coreProperties>
</file>