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F3B-B33E-4111-BC2A-3133F2FF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665-210B-4AAA-AD84-03F85211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63B-DCF1-4E4E-8376-9EFA3255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085-8A5A-41CA-A889-ECD64CC1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120-6227-4117-B637-6DFBC779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DDF-C10C-453B-AEED-E1AFC3F4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E8F-3716-43AE-8F3B-C36F3E0C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C1F-28BC-4598-96BE-D20C64A4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0D5-6BE7-4485-BE01-70E3345F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574-2EF4-4C82-B427-9DEAA8F5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9B5-E009-4B49-A33A-C47111A3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2D0-A8F5-44A1-BE98-C0E6D811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07B2-FC9C-485D-8111-83AE14A61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304920" y="0"/>
          <a:ext cx="8305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0556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7:31:07Z</dcterms:created>
  <dc:creator>Newmont</dc:creator>
  <dc:description>PPSFun.net Download</dc:description>
  <dc:language>en-US</dc:language>
  <cp:lastModifiedBy>Smets</cp:lastModifiedBy>
  <dcterms:modified xsi:type="dcterms:W3CDTF">2010-04-03T19:13:27Z</dcterms:modified>
  <cp:revision>5</cp:revision>
  <dc:subject/>
  <dc:title>Real or hoax</dc:title>
</cp:coreProperties>
</file>