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C2A-61C3-4ACE-B362-B921A2CF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3CF-FE33-4D66-97E2-1037FC23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82B-C1D4-4B73-9C4B-9BD66D52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709-C78F-4F4E-85E2-644B846C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4E2-F700-4E52-A466-03F269FC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F93-95A0-4058-A5F7-6A9E078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13D-1C4A-4463-8B85-52A3B46D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DB6-EDE9-4391-8395-F7D6D285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C8E-30FD-413C-92F0-FF9F8890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A0B-B44F-490E-9017-FB71CEF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F36-5694-4D10-AFCC-5B5EF3C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052-349A-46B2-9E8B-90D3188D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89A5-AB2E-4926-BEA2-5C6BB0823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501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402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383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09:56:01Z</dcterms:created>
  <dc:creator>Anton Nikolov</dc:creator>
  <dc:description/>
  <dc:language>en-US</dc:language>
  <cp:lastModifiedBy>Smets</cp:lastModifiedBy>
  <dcterms:modified xsi:type="dcterms:W3CDTF">2008-08-27T19:40:41Z</dcterms:modified>
  <cp:revision>4</cp:revision>
  <dc:subject/>
  <dc:title>Slide 1</dc:title>
</cp:coreProperties>
</file>