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18.jpeg" ContentType="image/jpeg"/>
  <Override PartName="/ppt/media/image16.jpeg" ContentType="image/jpeg"/>
  <Override PartName="/ppt/media/image5.wmf" ContentType="image/x-wmf"/>
  <Override PartName="/ppt/media/image39.gif" ContentType="image/gif"/>
  <Override PartName="/ppt/media/image22.jpeg" ContentType="image/jpeg"/>
  <Override PartName="/ppt/media/image15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12.wmf" ContentType="image/x-wmf"/>
  <Override PartName="/ppt/media/image9.wmf" ContentType="image/x-wmf"/>
  <Override PartName="/ppt/media/image32.jpeg" ContentType="image/jpeg"/>
  <Override PartName="/ppt/media/image8.wmf" ContentType="image/x-wmf"/>
  <Override PartName="/ppt/media/image34.jpeg" ContentType="image/jpeg"/>
  <Override PartName="/ppt/media/image37.png" ContentType="image/png"/>
  <Override PartName="/ppt/media/Genesis%20-%20Land%20Of%20Confusion.wav" ContentType="audio/x-wav"/>
  <Override PartName="/ppt/media/image33.jpeg" ContentType="image/jpeg"/>
  <Override PartName="/ppt/media/image35.jpeg" ContentType="image/jpeg"/>
  <Override PartName="/ppt/media/image27.jpeg" ContentType="image/jpeg"/>
  <Override PartName="/ppt/media/image13.wmf" ContentType="image/x-wmf"/>
  <Override PartName="/ppt/media/image36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2.gif" ContentType="image/gif"/>
  <Override PartName="/ppt/media/image19.jpeg" ContentType="image/jpeg"/>
  <Override PartName="/ppt/media/image29.jpeg" ContentType="image/jpeg"/>
  <Override PartName="/ppt/media/image3.wmf" ContentType="image/x-wmf"/>
  <Override PartName="/ppt/media/image38.gif" ContentType="image/gif"/>
  <Override PartName="/ppt/media/image4.wmf" ContentType="image/x-wmf"/>
  <Override PartName="/ppt/media/image31.jpeg" ContentType="image/jpeg"/>
  <Override PartName="/ppt/media/image10.wmf" ContentType="image/x-wmf"/>
  <Override PartName="/ppt/media/image25.jpeg" ContentType="image/jpeg"/>
  <Override PartName="/ppt/media/image1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89FF-29F2-4AF4-B5F6-92529643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2865-2F74-4809-9F8E-FE2A9209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10C8-94E4-484C-9BD9-5E2DAE8D0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2E21-4AA9-46BA-B001-5A7BCA6E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B589-7A82-449A-B3FE-C609C471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1428-F414-4E51-A561-2A8F7CAE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8001-A498-4877-B6B8-DE1109A7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ACA4-A71A-4A9E-A753-C6CFB135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BAE2-EE49-45E5-870B-50CA573D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AC3D-5A28-4A9C-AD68-DEF71209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4FAB-6207-427A-AD32-A3918DB7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ABF2-3B10-4F18-87E7-A0740807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4C71-F35F-49E2-9F18-EA3F2689E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gif"/><Relationship Id="rId4" Type="http://schemas.openxmlformats.org/officeDocument/2006/relationships/audio" Target="../media/Genesis%20-%20Land%20Of%20Confusion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" Target="slide2.xml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" Target="slide2.xml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" Target="slide2.xml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" Target="slide2.xml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" Target="slide2.xml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3.wmf"/><Relationship Id="rId3" Type="http://schemas.openxmlformats.org/officeDocument/2006/relationships/slide" Target="slide3.xml"/><Relationship Id="rId4" Type="http://schemas.openxmlformats.org/officeDocument/2006/relationships/image" Target="../media/image4.wmf"/><Relationship Id="rId5" Type="http://schemas.openxmlformats.org/officeDocument/2006/relationships/slide" Target="slide9.xml"/><Relationship Id="rId6" Type="http://schemas.openxmlformats.org/officeDocument/2006/relationships/image" Target="../media/image5.wmf"/><Relationship Id="rId7" Type="http://schemas.openxmlformats.org/officeDocument/2006/relationships/slide" Target="slide15.xml"/><Relationship Id="rId8" Type="http://schemas.openxmlformats.org/officeDocument/2006/relationships/image" Target="../media/image6.wmf"/><Relationship Id="rId9" Type="http://schemas.openxmlformats.org/officeDocument/2006/relationships/slide" Target="slide5.xml"/><Relationship Id="rId10" Type="http://schemas.openxmlformats.org/officeDocument/2006/relationships/image" Target="../media/image7.wmf"/><Relationship Id="rId11" Type="http://schemas.openxmlformats.org/officeDocument/2006/relationships/slide" Target="slide7.xml"/><Relationship Id="rId12" Type="http://schemas.openxmlformats.org/officeDocument/2006/relationships/image" Target="../media/image8.wmf"/><Relationship Id="rId13" Type="http://schemas.openxmlformats.org/officeDocument/2006/relationships/slide" Target="slide11.xml"/><Relationship Id="rId14" Type="http://schemas.openxmlformats.org/officeDocument/2006/relationships/image" Target="../media/image9.wmf"/><Relationship Id="rId15" Type="http://schemas.openxmlformats.org/officeDocument/2006/relationships/slide" Target="slide13.xml"/><Relationship Id="rId16" Type="http://schemas.openxmlformats.org/officeDocument/2006/relationships/image" Target="../media/image10.wmf"/><Relationship Id="rId17" Type="http://schemas.openxmlformats.org/officeDocument/2006/relationships/slide" Target="slide19.xml"/><Relationship Id="rId18" Type="http://schemas.openxmlformats.org/officeDocument/2006/relationships/image" Target="../media/image11.wmf"/><Relationship Id="rId19" Type="http://schemas.openxmlformats.org/officeDocument/2006/relationships/slide" Target="slide21.xml"/><Relationship Id="rId20" Type="http://schemas.openxmlformats.org/officeDocument/2006/relationships/image" Target="../media/image12.wmf"/><Relationship Id="rId21" Type="http://schemas.openxmlformats.org/officeDocument/2006/relationships/slide" Target="slide23.xml"/><Relationship Id="rId22" Type="http://schemas.openxmlformats.org/officeDocument/2006/relationships/image" Target="../media/image13.wmf"/><Relationship Id="rId23" Type="http://schemas.openxmlformats.org/officeDocument/2006/relationships/slide" Target="slide25.xml"/><Relationship Id="rId24" Type="http://schemas.openxmlformats.org/officeDocument/2006/relationships/image" Target="../media/image14.wmf"/><Relationship Id="rId25" Type="http://schemas.openxmlformats.org/officeDocument/2006/relationships/slide" Target="slide28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" Target="slide2.xml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" Target="slide2.xml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37.png"/><Relationship Id="rId4" Type="http://schemas.openxmlformats.org/officeDocument/2006/relationships/image" Target="../media/image38.gif"/><Relationship Id="rId5" Type="http://schemas.openxmlformats.org/officeDocument/2006/relationships/image" Target="../media/image38.gif"/><Relationship Id="rId6" Type="http://schemas.openxmlformats.org/officeDocument/2006/relationships/image" Target="../media/image39.gif"/><Relationship Id="rId7" Type="http://schemas.openxmlformats.org/officeDocument/2006/relationships/image" Target="../media/image39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27.xml"/><Relationship Id="rId3" Type="http://schemas.openxmlformats.org/officeDocument/2006/relationships/slide" Target="slide27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" Target="slide2.xml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" Target="slide2.xml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" Target="slide2.xml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971800" y="762120"/>
          <a:ext cx="6172200" cy="56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762120"/>
                    <a:ext cx="6172200" cy="56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457200" y="380880"/>
            <a:ext cx="2895480" cy="4191120"/>
          </a:xfrm>
          <a:prstGeom prst="wedgeEllipseCallout">
            <a:avLst>
              <a:gd name="adj1" fmla="val 122916"/>
              <a:gd name="adj2" fmla="val 124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Vandaag gaan wij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eens kijk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wie heeft opge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tijden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aardrijkskunde 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Landen, st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en hun contou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-6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0" y="-79200"/>
            <a:ext cx="932508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35480" y="632952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Genesis - Land Of Con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476360" y="6048360"/>
            <a:ext cx="809640" cy="80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609480" y="457200"/>
            <a:ext cx="3294360" cy="3468600"/>
            <a:chOff x="609480" y="457200"/>
            <a:chExt cx="3294360" cy="3468600"/>
          </a:xfrm>
        </p:grpSpPr>
        <p:graphicFrame>
          <p:nvGraphicFramePr>
            <p:cNvPr id="102" name=""/>
            <p:cNvGraphicFramePr/>
            <p:nvPr/>
          </p:nvGraphicFramePr>
          <p:xfrm>
            <a:off x="609480" y="457200"/>
            <a:ext cx="3294360" cy="3468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457200"/>
                      <a:ext cx="3294360" cy="346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" name=""/>
            <p:cNvSpPr/>
            <p:nvPr/>
          </p:nvSpPr>
          <p:spPr>
            <a:xfrm>
              <a:off x="2133720" y="144792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imes New Roman"/>
                </a:rPr>
                <a:t>Corr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1523880" y="419112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olg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lastslide"/>
          </p:cNvPr>
          <p:cNvSpPr/>
          <p:nvPr/>
        </p:nvSpPr>
        <p:spPr>
          <a:xfrm>
            <a:off x="1523880" y="54864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572000" y="765000"/>
            <a:ext cx="3333600" cy="2962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4643280" y="3933720"/>
            <a:ext cx="323532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6019920" y="114300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Sardini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6019920" y="3124080"/>
            <a:ext cx="2819160" cy="838440"/>
          </a:xfrm>
          <a:custGeom>
            <a:avLst/>
            <a:gdLst>
              <a:gd name="textAreaLeft" fmla="*/ 54360 w 2819160"/>
              <a:gd name="textAreaRight" fmla="*/ 2764800 w 28191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2606" h="21600">
                <a:moveTo>
                  <a:pt x="0" y="0"/>
                </a:moveTo>
                <a:lnTo>
                  <a:pt x="72606" y="0"/>
                </a:lnTo>
                <a:lnTo>
                  <a:pt x="72606" y="21600"/>
                </a:lnTo>
                <a:lnTo>
                  <a:pt x="0" y="21600"/>
                </a:lnTo>
                <a:close/>
              </a:path>
              <a:path fill="lightenLess" w="72606" h="21600">
                <a:moveTo>
                  <a:pt x="0" y="0"/>
                </a:moveTo>
                <a:lnTo>
                  <a:pt x="72606" y="0"/>
                </a:lnTo>
                <a:lnTo>
                  <a:pt x="71206" y="1400"/>
                </a:lnTo>
                <a:lnTo>
                  <a:pt x="1400" y="1400"/>
                </a:lnTo>
                <a:close/>
              </a:path>
              <a:path fill="darken" w="72606" h="21600">
                <a:moveTo>
                  <a:pt x="72606" y="0"/>
                </a:moveTo>
                <a:lnTo>
                  <a:pt x="72606" y="21600"/>
                </a:lnTo>
                <a:lnTo>
                  <a:pt x="71206" y="20200"/>
                </a:lnTo>
                <a:lnTo>
                  <a:pt x="71206" y="1400"/>
                </a:lnTo>
                <a:close/>
              </a:path>
              <a:path fill="darkenLess" w="72606" h="21600">
                <a:moveTo>
                  <a:pt x="72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06" y="20200"/>
                </a:lnTo>
                <a:close/>
              </a:path>
              <a:path fill="lighten" w="72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6019920" y="213372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Cyp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80880" y="1143000"/>
            <a:ext cx="464832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152280" y="457200"/>
            <a:ext cx="3294360" cy="3468600"/>
            <a:chOff x="152280" y="457200"/>
            <a:chExt cx="3294360" cy="3468600"/>
          </a:xfrm>
        </p:grpSpPr>
        <p:graphicFrame>
          <p:nvGraphicFramePr>
            <p:cNvPr id="114" name=""/>
            <p:cNvGraphicFramePr/>
            <p:nvPr/>
          </p:nvGraphicFramePr>
          <p:xfrm>
            <a:off x="152280" y="457200"/>
            <a:ext cx="3294360" cy="3468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457200"/>
                      <a:ext cx="3294360" cy="346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6" name=""/>
            <p:cNvSpPr/>
            <p:nvPr/>
          </p:nvSpPr>
          <p:spPr>
            <a:xfrm>
              <a:off x="1676520" y="144792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Corr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1066680" y="419112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olg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lastslide"/>
          </p:cNvPr>
          <p:cNvSpPr/>
          <p:nvPr/>
        </p:nvSpPr>
        <p:spPr>
          <a:xfrm>
            <a:off x="1066680" y="54864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356000" y="40464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427640" y="37162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6019920" y="114300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ot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6019920" y="3124080"/>
            <a:ext cx="2819160" cy="838440"/>
          </a:xfrm>
          <a:custGeom>
            <a:avLst/>
            <a:gdLst>
              <a:gd name="textAreaLeft" fmla="*/ 54360 w 2819160"/>
              <a:gd name="textAreaRight" fmla="*/ 2764800 w 28191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2606" h="21600">
                <a:moveTo>
                  <a:pt x="0" y="0"/>
                </a:moveTo>
                <a:lnTo>
                  <a:pt x="72606" y="0"/>
                </a:lnTo>
                <a:lnTo>
                  <a:pt x="72606" y="21600"/>
                </a:lnTo>
                <a:lnTo>
                  <a:pt x="0" y="21600"/>
                </a:lnTo>
                <a:close/>
              </a:path>
              <a:path fill="lightenLess" w="72606" h="21600">
                <a:moveTo>
                  <a:pt x="0" y="0"/>
                </a:moveTo>
                <a:lnTo>
                  <a:pt x="72606" y="0"/>
                </a:lnTo>
                <a:lnTo>
                  <a:pt x="71206" y="1400"/>
                </a:lnTo>
                <a:lnTo>
                  <a:pt x="1400" y="1400"/>
                </a:lnTo>
                <a:close/>
              </a:path>
              <a:path fill="darken" w="72606" h="21600">
                <a:moveTo>
                  <a:pt x="72606" y="0"/>
                </a:moveTo>
                <a:lnTo>
                  <a:pt x="72606" y="21600"/>
                </a:lnTo>
                <a:lnTo>
                  <a:pt x="71206" y="20200"/>
                </a:lnTo>
                <a:lnTo>
                  <a:pt x="71206" y="1400"/>
                </a:lnTo>
                <a:close/>
              </a:path>
              <a:path fill="darkenLess" w="72606" h="21600">
                <a:moveTo>
                  <a:pt x="72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06" y="20200"/>
                </a:lnTo>
                <a:close/>
              </a:path>
              <a:path fill="lighten" w="72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Brazili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6019920" y="213372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h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09480" y="990720"/>
            <a:ext cx="480060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5468760" y="457200"/>
            <a:ext cx="3294360" cy="3468600"/>
            <a:chOff x="5468760" y="457200"/>
            <a:chExt cx="3294360" cy="3468600"/>
          </a:xfrm>
        </p:grpSpPr>
        <p:graphicFrame>
          <p:nvGraphicFramePr>
            <p:cNvPr id="126" name=""/>
            <p:cNvGraphicFramePr/>
            <p:nvPr/>
          </p:nvGraphicFramePr>
          <p:xfrm>
            <a:off x="5468760" y="457200"/>
            <a:ext cx="3294360" cy="3468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68760" y="457200"/>
                      <a:ext cx="3294360" cy="346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8" name=""/>
            <p:cNvSpPr/>
            <p:nvPr/>
          </p:nvSpPr>
          <p:spPr>
            <a:xfrm>
              <a:off x="6993000" y="144792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Corr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>
            <a:hlinkClick r:id="rId3" action="ppaction://hlinksldjump"/>
          </p:cNvPr>
          <p:cNvSpPr/>
          <p:nvPr/>
        </p:nvSpPr>
        <p:spPr>
          <a:xfrm>
            <a:off x="6383160" y="419112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olg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lastslide"/>
          </p:cNvPr>
          <p:cNvSpPr/>
          <p:nvPr/>
        </p:nvSpPr>
        <p:spPr>
          <a:xfrm>
            <a:off x="6383160" y="54864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5207040" cy="3124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179280" y="3141720"/>
            <a:ext cx="525636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6019920" y="114300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Argentini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6019920" y="3124080"/>
            <a:ext cx="2819160" cy="838440"/>
          </a:xfrm>
          <a:custGeom>
            <a:avLst/>
            <a:gdLst>
              <a:gd name="textAreaLeft" fmla="*/ 54360 w 2819160"/>
              <a:gd name="textAreaRight" fmla="*/ 2764800 w 28191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2606" h="21600">
                <a:moveTo>
                  <a:pt x="0" y="0"/>
                </a:moveTo>
                <a:lnTo>
                  <a:pt x="72606" y="0"/>
                </a:lnTo>
                <a:lnTo>
                  <a:pt x="72606" y="21600"/>
                </a:lnTo>
                <a:lnTo>
                  <a:pt x="0" y="21600"/>
                </a:lnTo>
                <a:close/>
              </a:path>
              <a:path fill="lightenLess" w="72606" h="21600">
                <a:moveTo>
                  <a:pt x="0" y="0"/>
                </a:moveTo>
                <a:lnTo>
                  <a:pt x="72606" y="0"/>
                </a:lnTo>
                <a:lnTo>
                  <a:pt x="71206" y="1400"/>
                </a:lnTo>
                <a:lnTo>
                  <a:pt x="1400" y="1400"/>
                </a:lnTo>
                <a:close/>
              </a:path>
              <a:path fill="darken" w="72606" h="21600">
                <a:moveTo>
                  <a:pt x="72606" y="0"/>
                </a:moveTo>
                <a:lnTo>
                  <a:pt x="72606" y="21600"/>
                </a:lnTo>
                <a:lnTo>
                  <a:pt x="71206" y="20200"/>
                </a:lnTo>
                <a:lnTo>
                  <a:pt x="71206" y="1400"/>
                </a:lnTo>
                <a:close/>
              </a:path>
              <a:path fill="darkenLess" w="72606" h="21600">
                <a:moveTo>
                  <a:pt x="72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06" y="20200"/>
                </a:lnTo>
                <a:close/>
              </a:path>
              <a:path fill="lighten" w="72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Enge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6019920" y="213372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u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914400" y="1143000"/>
            <a:ext cx="226044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609480" y="457200"/>
            <a:ext cx="3294360" cy="3468600"/>
            <a:chOff x="609480" y="457200"/>
            <a:chExt cx="3294360" cy="3468600"/>
          </a:xfrm>
        </p:grpSpPr>
        <p:graphicFrame>
          <p:nvGraphicFramePr>
            <p:cNvPr id="138" name=""/>
            <p:cNvGraphicFramePr/>
            <p:nvPr/>
          </p:nvGraphicFramePr>
          <p:xfrm>
            <a:off x="609480" y="457200"/>
            <a:ext cx="3294360" cy="3468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457200"/>
                      <a:ext cx="3294360" cy="346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0" name=""/>
            <p:cNvSpPr/>
            <p:nvPr/>
          </p:nvSpPr>
          <p:spPr>
            <a:xfrm>
              <a:off x="2133720" y="144792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Corr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>
            <a:hlinkClick r:id="rId3" action="ppaction://hlinksldjump"/>
          </p:cNvPr>
          <p:cNvSpPr/>
          <p:nvPr/>
        </p:nvSpPr>
        <p:spPr>
          <a:xfrm>
            <a:off x="1523880" y="419112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olg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lastslide"/>
          </p:cNvPr>
          <p:cNvSpPr/>
          <p:nvPr/>
        </p:nvSpPr>
        <p:spPr>
          <a:xfrm>
            <a:off x="1523880" y="54864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4356000" y="260280"/>
            <a:ext cx="4419720" cy="2873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4356000" y="3429000"/>
            <a:ext cx="4361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6019920" y="114300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Egyp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6019920" y="3124080"/>
            <a:ext cx="2819160" cy="838440"/>
          </a:xfrm>
          <a:custGeom>
            <a:avLst/>
            <a:gdLst>
              <a:gd name="textAreaLeft" fmla="*/ 54360 w 2819160"/>
              <a:gd name="textAreaRight" fmla="*/ 2764800 w 28191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2606" h="21600">
                <a:moveTo>
                  <a:pt x="0" y="0"/>
                </a:moveTo>
                <a:lnTo>
                  <a:pt x="72606" y="0"/>
                </a:lnTo>
                <a:lnTo>
                  <a:pt x="72606" y="21600"/>
                </a:lnTo>
                <a:lnTo>
                  <a:pt x="0" y="21600"/>
                </a:lnTo>
                <a:close/>
              </a:path>
              <a:path fill="lightenLess" w="72606" h="21600">
                <a:moveTo>
                  <a:pt x="0" y="0"/>
                </a:moveTo>
                <a:lnTo>
                  <a:pt x="72606" y="0"/>
                </a:lnTo>
                <a:lnTo>
                  <a:pt x="71206" y="1400"/>
                </a:lnTo>
                <a:lnTo>
                  <a:pt x="1400" y="1400"/>
                </a:lnTo>
                <a:close/>
              </a:path>
              <a:path fill="darken" w="72606" h="21600">
                <a:moveTo>
                  <a:pt x="72606" y="0"/>
                </a:moveTo>
                <a:lnTo>
                  <a:pt x="72606" y="21600"/>
                </a:lnTo>
                <a:lnTo>
                  <a:pt x="71206" y="20200"/>
                </a:lnTo>
                <a:lnTo>
                  <a:pt x="71206" y="1400"/>
                </a:lnTo>
                <a:close/>
              </a:path>
              <a:path fill="darkenLess" w="72606" h="21600">
                <a:moveTo>
                  <a:pt x="72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06" y="20200"/>
                </a:lnTo>
                <a:close/>
              </a:path>
              <a:path fill="lighten" w="72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Liechtens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6019920" y="213372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Bosni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09480" y="1146240"/>
            <a:ext cx="396252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4859280" y="457200"/>
            <a:ext cx="3294000" cy="3468600"/>
            <a:chOff x="4859280" y="457200"/>
            <a:chExt cx="3294000" cy="3468600"/>
          </a:xfrm>
        </p:grpSpPr>
        <p:graphicFrame>
          <p:nvGraphicFramePr>
            <p:cNvPr id="150" name=""/>
            <p:cNvGraphicFramePr/>
            <p:nvPr/>
          </p:nvGraphicFramePr>
          <p:xfrm>
            <a:off x="4859280" y="457200"/>
            <a:ext cx="3294000" cy="3468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59280" y="457200"/>
                      <a:ext cx="3294000" cy="346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2" name=""/>
            <p:cNvSpPr/>
            <p:nvPr/>
          </p:nvSpPr>
          <p:spPr>
            <a:xfrm>
              <a:off x="6383160" y="1447920"/>
              <a:ext cx="1218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Corr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>
            <a:hlinkClick r:id="rId3" action="ppaction://hlinksldjump"/>
          </p:cNvPr>
          <p:cNvSpPr/>
          <p:nvPr/>
        </p:nvSpPr>
        <p:spPr>
          <a:xfrm>
            <a:off x="5773680" y="419112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olg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lastslide"/>
          </p:cNvPr>
          <p:cNvSpPr/>
          <p:nvPr/>
        </p:nvSpPr>
        <p:spPr>
          <a:xfrm>
            <a:off x="5773680" y="54864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468360" y="4762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395280" y="3573360"/>
            <a:ext cx="47815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6019920" y="114300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Itali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6019920" y="3124080"/>
            <a:ext cx="2819160" cy="838440"/>
          </a:xfrm>
          <a:custGeom>
            <a:avLst/>
            <a:gdLst>
              <a:gd name="textAreaLeft" fmla="*/ 54360 w 2819160"/>
              <a:gd name="textAreaRight" fmla="*/ 2764800 w 28191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2606" h="21600">
                <a:moveTo>
                  <a:pt x="0" y="0"/>
                </a:moveTo>
                <a:lnTo>
                  <a:pt x="72606" y="0"/>
                </a:lnTo>
                <a:lnTo>
                  <a:pt x="72606" y="21600"/>
                </a:lnTo>
                <a:lnTo>
                  <a:pt x="0" y="21600"/>
                </a:lnTo>
                <a:close/>
              </a:path>
              <a:path fill="lightenLess" w="72606" h="21600">
                <a:moveTo>
                  <a:pt x="0" y="0"/>
                </a:moveTo>
                <a:lnTo>
                  <a:pt x="72606" y="0"/>
                </a:lnTo>
                <a:lnTo>
                  <a:pt x="71206" y="1400"/>
                </a:lnTo>
                <a:lnTo>
                  <a:pt x="1400" y="1400"/>
                </a:lnTo>
                <a:close/>
              </a:path>
              <a:path fill="darken" w="72606" h="21600">
                <a:moveTo>
                  <a:pt x="72606" y="0"/>
                </a:moveTo>
                <a:lnTo>
                  <a:pt x="72606" y="21600"/>
                </a:lnTo>
                <a:lnTo>
                  <a:pt x="71206" y="20200"/>
                </a:lnTo>
                <a:lnTo>
                  <a:pt x="71206" y="1400"/>
                </a:lnTo>
                <a:close/>
              </a:path>
              <a:path fill="darkenLess" w="72606" h="21600">
                <a:moveTo>
                  <a:pt x="72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06" y="20200"/>
                </a:lnTo>
                <a:close/>
              </a:path>
              <a:path fill="lighten" w="72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6019920" y="213372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Sp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09480" y="838080"/>
            <a:ext cx="49532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657600" y="3352680"/>
            <a:ext cx="1295280" cy="1260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04920" y="228600"/>
            <a:ext cx="1447560" cy="1343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04920" y="1981080"/>
            <a:ext cx="1295280" cy="1265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09480" y="3352680"/>
            <a:ext cx="743040" cy="1600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733920" y="304920"/>
            <a:ext cx="1371600" cy="1130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6858000" y="304920"/>
            <a:ext cx="1477800" cy="13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581280" y="1981080"/>
            <a:ext cx="1676520" cy="1032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6934320" y="1981080"/>
            <a:ext cx="1436400" cy="1403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6934320" y="3429000"/>
            <a:ext cx="1676160" cy="1511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380880" y="5029200"/>
            <a:ext cx="1312920" cy="1600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3581280" y="4952880"/>
            <a:ext cx="1509840" cy="1733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6300720" y="5135400"/>
            <a:ext cx="1174680" cy="172260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rId25" action="ppaction://hlinksldjump"/>
          </p:cNvPr>
          <p:cNvSpPr/>
          <p:nvPr/>
        </p:nvSpPr>
        <p:spPr>
          <a:xfrm>
            <a:off x="7924680" y="595008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971640" y="476280"/>
            <a:ext cx="3294000" cy="3468600"/>
            <a:chOff x="971640" y="476280"/>
            <a:chExt cx="3294000" cy="3468600"/>
          </a:xfrm>
        </p:grpSpPr>
        <p:graphicFrame>
          <p:nvGraphicFramePr>
            <p:cNvPr id="162" name=""/>
            <p:cNvGraphicFramePr/>
            <p:nvPr/>
          </p:nvGraphicFramePr>
          <p:xfrm>
            <a:off x="971640" y="476280"/>
            <a:ext cx="3294000" cy="3468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71640" y="476280"/>
                      <a:ext cx="3294000" cy="346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4" name=""/>
            <p:cNvSpPr/>
            <p:nvPr/>
          </p:nvSpPr>
          <p:spPr>
            <a:xfrm>
              <a:off x="2495520" y="1467000"/>
              <a:ext cx="1218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Corr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>
            <a:hlinkClick r:id="rId3" action="ppaction://hlinksldjump"/>
          </p:cNvPr>
          <p:cNvSpPr/>
          <p:nvPr/>
        </p:nvSpPr>
        <p:spPr>
          <a:xfrm>
            <a:off x="1523880" y="419112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olg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lastslide"/>
          </p:cNvPr>
          <p:cNvSpPr/>
          <p:nvPr/>
        </p:nvSpPr>
        <p:spPr>
          <a:xfrm>
            <a:off x="1523880" y="54864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4572000" y="333360"/>
            <a:ext cx="429264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6019920" y="114300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Tunesi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6019920" y="3124080"/>
            <a:ext cx="2819160" cy="838440"/>
          </a:xfrm>
          <a:custGeom>
            <a:avLst/>
            <a:gdLst>
              <a:gd name="textAreaLeft" fmla="*/ 54360 w 2819160"/>
              <a:gd name="textAreaRight" fmla="*/ 2764800 w 28191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2606" h="21600">
                <a:moveTo>
                  <a:pt x="0" y="0"/>
                </a:moveTo>
                <a:lnTo>
                  <a:pt x="72606" y="0"/>
                </a:lnTo>
                <a:lnTo>
                  <a:pt x="72606" y="21600"/>
                </a:lnTo>
                <a:lnTo>
                  <a:pt x="0" y="21600"/>
                </a:lnTo>
                <a:close/>
              </a:path>
              <a:path fill="lightenLess" w="72606" h="21600">
                <a:moveTo>
                  <a:pt x="0" y="0"/>
                </a:moveTo>
                <a:lnTo>
                  <a:pt x="72606" y="0"/>
                </a:lnTo>
                <a:lnTo>
                  <a:pt x="71206" y="1400"/>
                </a:lnTo>
                <a:lnTo>
                  <a:pt x="1400" y="1400"/>
                </a:lnTo>
                <a:close/>
              </a:path>
              <a:path fill="darken" w="72606" h="21600">
                <a:moveTo>
                  <a:pt x="72606" y="0"/>
                </a:moveTo>
                <a:lnTo>
                  <a:pt x="72606" y="21600"/>
                </a:lnTo>
                <a:lnTo>
                  <a:pt x="71206" y="20200"/>
                </a:lnTo>
                <a:lnTo>
                  <a:pt x="71206" y="1400"/>
                </a:lnTo>
                <a:close/>
              </a:path>
              <a:path fill="darkenLess" w="72606" h="21600">
                <a:moveTo>
                  <a:pt x="72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06" y="20200"/>
                </a:lnTo>
                <a:close/>
              </a:path>
              <a:path fill="lighten" w="72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Denema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6019920" y="213372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Neder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33520" y="838080"/>
            <a:ext cx="4311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5240160" y="457200"/>
            <a:ext cx="3294360" cy="3468600"/>
            <a:chOff x="5240160" y="457200"/>
            <a:chExt cx="3294360" cy="3468600"/>
          </a:xfrm>
        </p:grpSpPr>
        <p:graphicFrame>
          <p:nvGraphicFramePr>
            <p:cNvPr id="173" name=""/>
            <p:cNvGraphicFramePr/>
            <p:nvPr/>
          </p:nvGraphicFramePr>
          <p:xfrm>
            <a:off x="5240160" y="457200"/>
            <a:ext cx="3294360" cy="3468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40160" y="457200"/>
                      <a:ext cx="3294360" cy="346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5" name=""/>
            <p:cNvSpPr/>
            <p:nvPr/>
          </p:nvSpPr>
          <p:spPr>
            <a:xfrm>
              <a:off x="6764400" y="144792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Corr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>
            <a:hlinkClick r:id="rId3" action="ppaction://hlinksldjump"/>
          </p:cNvPr>
          <p:cNvSpPr/>
          <p:nvPr/>
        </p:nvSpPr>
        <p:spPr>
          <a:xfrm>
            <a:off x="6154560" y="419112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olg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lastslide"/>
          </p:cNvPr>
          <p:cNvSpPr/>
          <p:nvPr/>
        </p:nvSpPr>
        <p:spPr>
          <a:xfrm>
            <a:off x="6154560" y="54864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4934160" cy="32004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179280" y="3592440"/>
            <a:ext cx="489744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6019920" y="114300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Enge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6019920" y="3124080"/>
            <a:ext cx="2819160" cy="838440"/>
          </a:xfrm>
          <a:custGeom>
            <a:avLst/>
            <a:gdLst>
              <a:gd name="textAreaLeft" fmla="*/ 54360 w 2819160"/>
              <a:gd name="textAreaRight" fmla="*/ 2764800 w 28191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2606" h="21600">
                <a:moveTo>
                  <a:pt x="0" y="0"/>
                </a:moveTo>
                <a:lnTo>
                  <a:pt x="72606" y="0"/>
                </a:lnTo>
                <a:lnTo>
                  <a:pt x="72606" y="21600"/>
                </a:lnTo>
                <a:lnTo>
                  <a:pt x="0" y="21600"/>
                </a:lnTo>
                <a:close/>
              </a:path>
              <a:path fill="lightenLess" w="72606" h="21600">
                <a:moveTo>
                  <a:pt x="0" y="0"/>
                </a:moveTo>
                <a:lnTo>
                  <a:pt x="72606" y="0"/>
                </a:lnTo>
                <a:lnTo>
                  <a:pt x="71206" y="1400"/>
                </a:lnTo>
                <a:lnTo>
                  <a:pt x="1400" y="1400"/>
                </a:lnTo>
                <a:close/>
              </a:path>
              <a:path fill="darken" w="72606" h="21600">
                <a:moveTo>
                  <a:pt x="72606" y="0"/>
                </a:moveTo>
                <a:lnTo>
                  <a:pt x="72606" y="21600"/>
                </a:lnTo>
                <a:lnTo>
                  <a:pt x="71206" y="20200"/>
                </a:lnTo>
                <a:lnTo>
                  <a:pt x="71206" y="1400"/>
                </a:lnTo>
                <a:close/>
              </a:path>
              <a:path fill="darkenLess" w="72606" h="21600">
                <a:moveTo>
                  <a:pt x="72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06" y="20200"/>
                </a:lnTo>
                <a:close/>
              </a:path>
              <a:path fill="lighten" w="72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Frankr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6019920" y="213372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Duits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685800" y="990720"/>
            <a:ext cx="4564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971640" y="4221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olg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lastslide"/>
          </p:cNvPr>
          <p:cNvSpPr/>
          <p:nvPr/>
        </p:nvSpPr>
        <p:spPr>
          <a:xfrm>
            <a:off x="971640" y="55166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24000" y="476280"/>
            <a:ext cx="3294000" cy="3468600"/>
            <a:chOff x="324000" y="476280"/>
            <a:chExt cx="3294000" cy="3468600"/>
          </a:xfrm>
        </p:grpSpPr>
        <p:graphicFrame>
          <p:nvGraphicFramePr>
            <p:cNvPr id="187" name=""/>
            <p:cNvGraphicFramePr/>
            <p:nvPr/>
          </p:nvGraphicFramePr>
          <p:xfrm>
            <a:off x="324000" y="476280"/>
            <a:ext cx="3294000" cy="3468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4000" y="476280"/>
                      <a:ext cx="3294000" cy="346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"/>
            <p:cNvSpPr/>
            <p:nvPr/>
          </p:nvSpPr>
          <p:spPr>
            <a:xfrm>
              <a:off x="1847880" y="1467000"/>
              <a:ext cx="1218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Corr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3564000" y="1197000"/>
            <a:ext cx="558000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6019920" y="114300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Po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6019920" y="3124080"/>
            <a:ext cx="2819160" cy="838440"/>
          </a:xfrm>
          <a:custGeom>
            <a:avLst/>
            <a:gdLst>
              <a:gd name="textAreaLeft" fmla="*/ 54360 w 2819160"/>
              <a:gd name="textAreaRight" fmla="*/ 2764800 w 28191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2606" h="21600">
                <a:moveTo>
                  <a:pt x="0" y="0"/>
                </a:moveTo>
                <a:lnTo>
                  <a:pt x="72606" y="0"/>
                </a:lnTo>
                <a:lnTo>
                  <a:pt x="72606" y="21600"/>
                </a:lnTo>
                <a:lnTo>
                  <a:pt x="0" y="21600"/>
                </a:lnTo>
                <a:close/>
              </a:path>
              <a:path fill="lightenLess" w="72606" h="21600">
                <a:moveTo>
                  <a:pt x="0" y="0"/>
                </a:moveTo>
                <a:lnTo>
                  <a:pt x="72606" y="0"/>
                </a:lnTo>
                <a:lnTo>
                  <a:pt x="71206" y="1400"/>
                </a:lnTo>
                <a:lnTo>
                  <a:pt x="1400" y="1400"/>
                </a:lnTo>
                <a:close/>
              </a:path>
              <a:path fill="darken" w="72606" h="21600">
                <a:moveTo>
                  <a:pt x="72606" y="0"/>
                </a:moveTo>
                <a:lnTo>
                  <a:pt x="72606" y="21600"/>
                </a:lnTo>
                <a:lnTo>
                  <a:pt x="71206" y="20200"/>
                </a:lnTo>
                <a:lnTo>
                  <a:pt x="71206" y="1400"/>
                </a:lnTo>
                <a:close/>
              </a:path>
              <a:path fill="darkenLess" w="72606" h="21600">
                <a:moveTo>
                  <a:pt x="72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06" y="20200"/>
                </a:lnTo>
                <a:close/>
              </a:path>
              <a:path fill="lighten" w="72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Frankr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2" action="ppaction://hlinksldjump"/>
          </p:cNvPr>
          <p:cNvSpPr/>
          <p:nvPr/>
        </p:nvSpPr>
        <p:spPr>
          <a:xfrm>
            <a:off x="6019920" y="213372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Sp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1066680" y="1066680"/>
            <a:ext cx="32212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1523880" y="419112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olg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lastslide"/>
          </p:cNvPr>
          <p:cNvSpPr/>
          <p:nvPr/>
        </p:nvSpPr>
        <p:spPr>
          <a:xfrm>
            <a:off x="1523880" y="54864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24000" y="189000"/>
            <a:ext cx="3294000" cy="3468600"/>
            <a:chOff x="324000" y="189000"/>
            <a:chExt cx="3294000" cy="3468600"/>
          </a:xfrm>
        </p:grpSpPr>
        <p:graphicFrame>
          <p:nvGraphicFramePr>
            <p:cNvPr id="198" name=""/>
            <p:cNvGraphicFramePr/>
            <p:nvPr/>
          </p:nvGraphicFramePr>
          <p:xfrm>
            <a:off x="324000" y="189000"/>
            <a:ext cx="3294000" cy="3468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4000" y="189000"/>
                      <a:ext cx="3294000" cy="346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0" name=""/>
            <p:cNvSpPr/>
            <p:nvPr/>
          </p:nvSpPr>
          <p:spPr>
            <a:xfrm>
              <a:off x="1847880" y="1179720"/>
              <a:ext cx="1218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Corr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3924360" y="907920"/>
            <a:ext cx="4863960" cy="48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2971800" y="762120"/>
          <a:ext cx="6172200" cy="56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762120"/>
                    <a:ext cx="6172200" cy="56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228600" y="152280"/>
            <a:ext cx="4267080" cy="2438640"/>
          </a:xfrm>
          <a:prstGeom prst="wedgeEllipseCallout">
            <a:avLst>
              <a:gd name="adj1" fmla="val 62277"/>
              <a:gd name="adj2" fmla="val 6165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Grappig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Volledig fout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3" action="ppaction://hlinksldjump"/>
          </p:cNvPr>
          <p:cNvSpPr/>
          <p:nvPr/>
        </p:nvSpPr>
        <p:spPr>
          <a:xfrm>
            <a:off x="304920" y="2819520"/>
            <a:ext cx="2361960" cy="1447560"/>
          </a:xfrm>
          <a:custGeom>
            <a:avLst/>
            <a:gdLst>
              <a:gd name="textAreaLeft" fmla="*/ 93600 w 2361960"/>
              <a:gd name="textAreaRight" fmla="*/ 2268360 w 236196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35241" h="21600">
                <a:moveTo>
                  <a:pt x="0" y="0"/>
                </a:moveTo>
                <a:lnTo>
                  <a:pt x="35241" y="0"/>
                </a:lnTo>
                <a:lnTo>
                  <a:pt x="35241" y="21600"/>
                </a:lnTo>
                <a:lnTo>
                  <a:pt x="0" y="21600"/>
                </a:lnTo>
                <a:close/>
              </a:path>
              <a:path fill="lightenLess" w="35241" h="21600">
                <a:moveTo>
                  <a:pt x="0" y="0"/>
                </a:moveTo>
                <a:lnTo>
                  <a:pt x="35241" y="0"/>
                </a:lnTo>
                <a:lnTo>
                  <a:pt x="33841" y="1400"/>
                </a:lnTo>
                <a:lnTo>
                  <a:pt x="1400" y="1400"/>
                </a:lnTo>
                <a:close/>
              </a:path>
              <a:path fill="darken" w="35241" h="21600">
                <a:moveTo>
                  <a:pt x="35241" y="0"/>
                </a:moveTo>
                <a:lnTo>
                  <a:pt x="35241" y="21600"/>
                </a:lnTo>
                <a:lnTo>
                  <a:pt x="33841" y="20200"/>
                </a:lnTo>
                <a:lnTo>
                  <a:pt x="33841" y="1400"/>
                </a:lnTo>
                <a:close/>
              </a:path>
              <a:path fill="darkenLess" w="35241" h="21600">
                <a:moveTo>
                  <a:pt x="352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41" y="20200"/>
                </a:lnTo>
                <a:close/>
              </a:path>
              <a:path fill="lighten" w="352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imes New Roman"/>
              </a:rPr>
              <a:t>ter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lastslide"/>
          </p:cNvPr>
          <p:cNvSpPr/>
          <p:nvPr/>
        </p:nvSpPr>
        <p:spPr>
          <a:xfrm>
            <a:off x="304920" y="4724280"/>
            <a:ext cx="2286000" cy="1447920"/>
          </a:xfrm>
          <a:custGeom>
            <a:avLst/>
            <a:gdLst>
              <a:gd name="textAreaLeft" fmla="*/ 93600 w 2286000"/>
              <a:gd name="textAreaRight" fmla="*/ 2192400 w 228600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34099" h="21600">
                <a:moveTo>
                  <a:pt x="0" y="0"/>
                </a:moveTo>
                <a:lnTo>
                  <a:pt x="34099" y="0"/>
                </a:lnTo>
                <a:lnTo>
                  <a:pt x="34099" y="21600"/>
                </a:lnTo>
                <a:lnTo>
                  <a:pt x="0" y="21600"/>
                </a:lnTo>
                <a:close/>
              </a:path>
              <a:path fill="lightenLess" w="34099" h="21600">
                <a:moveTo>
                  <a:pt x="0" y="0"/>
                </a:moveTo>
                <a:lnTo>
                  <a:pt x="34099" y="0"/>
                </a:lnTo>
                <a:lnTo>
                  <a:pt x="32699" y="1400"/>
                </a:lnTo>
                <a:lnTo>
                  <a:pt x="1400" y="1400"/>
                </a:lnTo>
                <a:close/>
              </a:path>
              <a:path fill="darken" w="34099" h="21600">
                <a:moveTo>
                  <a:pt x="34099" y="0"/>
                </a:moveTo>
                <a:lnTo>
                  <a:pt x="34099" y="21600"/>
                </a:lnTo>
                <a:lnTo>
                  <a:pt x="32699" y="20200"/>
                </a:lnTo>
                <a:lnTo>
                  <a:pt x="32699" y="1400"/>
                </a:lnTo>
                <a:close/>
              </a:path>
              <a:path fill="darkenLess" w="34099" h="21600">
                <a:moveTo>
                  <a:pt x="340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99" y="20200"/>
                </a:lnTo>
                <a:close/>
              </a:path>
              <a:path fill="lighten" w="340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imes New Roman"/>
              </a:rPr>
              <a:t>e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3276720" y="1052640"/>
          <a:ext cx="4695840" cy="42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052640"/>
                    <a:ext cx="469584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228600" y="1219320"/>
            <a:ext cx="3962520" cy="1904760"/>
          </a:xfrm>
          <a:prstGeom prst="wedgeRoundRectCallout">
            <a:avLst>
              <a:gd name="adj1" fmla="val 75962"/>
              <a:gd name="adj2" fmla="val 2458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Zo onze prakt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sessie is beëindig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55640" y="3645000"/>
            <a:ext cx="2286000" cy="1447560"/>
          </a:xfrm>
          <a:custGeom>
            <a:avLst/>
            <a:gdLst>
              <a:gd name="textAreaLeft" fmla="*/ 93600 w 2286000"/>
              <a:gd name="textAreaRight" fmla="*/ 2192400 w 228600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34108" h="21600">
                <a:moveTo>
                  <a:pt x="0" y="0"/>
                </a:moveTo>
                <a:lnTo>
                  <a:pt x="34108" y="0"/>
                </a:lnTo>
                <a:lnTo>
                  <a:pt x="34108" y="21600"/>
                </a:lnTo>
                <a:lnTo>
                  <a:pt x="0" y="21600"/>
                </a:lnTo>
                <a:close/>
              </a:path>
              <a:path fill="lightenLess" w="34108" h="21600">
                <a:moveTo>
                  <a:pt x="0" y="0"/>
                </a:moveTo>
                <a:lnTo>
                  <a:pt x="34108" y="0"/>
                </a:lnTo>
                <a:lnTo>
                  <a:pt x="32708" y="1400"/>
                </a:lnTo>
                <a:lnTo>
                  <a:pt x="1400" y="1400"/>
                </a:lnTo>
                <a:close/>
              </a:path>
              <a:path fill="darken" w="34108" h="21600">
                <a:moveTo>
                  <a:pt x="34108" y="0"/>
                </a:moveTo>
                <a:lnTo>
                  <a:pt x="34108" y="21600"/>
                </a:lnTo>
                <a:lnTo>
                  <a:pt x="32708" y="20200"/>
                </a:lnTo>
                <a:lnTo>
                  <a:pt x="32708" y="1400"/>
                </a:lnTo>
                <a:close/>
              </a:path>
              <a:path fill="darkenLess" w="34108" h="21600">
                <a:moveTo>
                  <a:pt x="341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08" y="20200"/>
                </a:lnTo>
                <a:close/>
              </a:path>
              <a:path fill="lighten" w="341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3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2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2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5257800" cy="487512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6019920" y="114300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gyp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6019920" y="3124080"/>
            <a:ext cx="2819160" cy="838440"/>
          </a:xfrm>
          <a:custGeom>
            <a:avLst/>
            <a:gdLst>
              <a:gd name="textAreaLeft" fmla="*/ 54360 w 2819160"/>
              <a:gd name="textAreaRight" fmla="*/ 2764800 w 28191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2606" h="21600">
                <a:moveTo>
                  <a:pt x="0" y="0"/>
                </a:moveTo>
                <a:lnTo>
                  <a:pt x="72606" y="0"/>
                </a:lnTo>
                <a:lnTo>
                  <a:pt x="72606" y="21600"/>
                </a:lnTo>
                <a:lnTo>
                  <a:pt x="0" y="21600"/>
                </a:lnTo>
                <a:close/>
              </a:path>
              <a:path fill="lightenLess" w="72606" h="21600">
                <a:moveTo>
                  <a:pt x="0" y="0"/>
                </a:moveTo>
                <a:lnTo>
                  <a:pt x="72606" y="0"/>
                </a:lnTo>
                <a:lnTo>
                  <a:pt x="71206" y="1400"/>
                </a:lnTo>
                <a:lnTo>
                  <a:pt x="1400" y="1400"/>
                </a:lnTo>
                <a:close/>
              </a:path>
              <a:path fill="darken" w="72606" h="21600">
                <a:moveTo>
                  <a:pt x="72606" y="0"/>
                </a:moveTo>
                <a:lnTo>
                  <a:pt x="72606" y="21600"/>
                </a:lnTo>
                <a:lnTo>
                  <a:pt x="71206" y="20200"/>
                </a:lnTo>
                <a:lnTo>
                  <a:pt x="71206" y="1400"/>
                </a:lnTo>
                <a:close/>
              </a:path>
              <a:path fill="darkenLess" w="72606" h="21600">
                <a:moveTo>
                  <a:pt x="72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06" y="20200"/>
                </a:lnTo>
                <a:close/>
              </a:path>
              <a:path fill="lighten" w="72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rankr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 action="ppaction://hlinksldjump"/>
          </p:cNvPr>
          <p:cNvSpPr/>
          <p:nvPr/>
        </p:nvSpPr>
        <p:spPr>
          <a:xfrm>
            <a:off x="6019920" y="213372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une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609480" y="457200"/>
            <a:ext cx="3294360" cy="3468600"/>
            <a:chOff x="609480" y="457200"/>
            <a:chExt cx="3294360" cy="3468600"/>
          </a:xfrm>
        </p:grpSpPr>
        <p:graphicFrame>
          <p:nvGraphicFramePr>
            <p:cNvPr id="66" name=""/>
            <p:cNvGraphicFramePr/>
            <p:nvPr/>
          </p:nvGraphicFramePr>
          <p:xfrm>
            <a:off x="609480" y="457200"/>
            <a:ext cx="3294360" cy="3468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457200"/>
                      <a:ext cx="3294360" cy="346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" name=""/>
            <p:cNvSpPr/>
            <p:nvPr/>
          </p:nvSpPr>
          <p:spPr>
            <a:xfrm>
              <a:off x="2133720" y="144792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Corr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>
            <a:hlinkClick r:id="rId3" action="ppaction://hlinksldjump"/>
          </p:cNvPr>
          <p:cNvSpPr/>
          <p:nvPr/>
        </p:nvSpPr>
        <p:spPr>
          <a:xfrm>
            <a:off x="1523880" y="419112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olg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lastslide"/>
          </p:cNvPr>
          <p:cNvSpPr/>
          <p:nvPr/>
        </p:nvSpPr>
        <p:spPr>
          <a:xfrm>
            <a:off x="1523880" y="54864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500720" y="549360"/>
            <a:ext cx="3809880" cy="2733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4500720" y="35733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>
            <a:hlinkClick r:id="rId1" action="ppaction://hlinksldjump"/>
          </p:cNvPr>
          <p:cNvSpPr/>
          <p:nvPr/>
        </p:nvSpPr>
        <p:spPr>
          <a:xfrm>
            <a:off x="6019920" y="114300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ostenr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6019920" y="3124080"/>
            <a:ext cx="2819160" cy="838440"/>
          </a:xfrm>
          <a:custGeom>
            <a:avLst/>
            <a:gdLst>
              <a:gd name="textAreaLeft" fmla="*/ 54360 w 2819160"/>
              <a:gd name="textAreaRight" fmla="*/ 2764800 w 28191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2606" h="21600">
                <a:moveTo>
                  <a:pt x="0" y="0"/>
                </a:moveTo>
                <a:lnTo>
                  <a:pt x="72606" y="0"/>
                </a:lnTo>
                <a:lnTo>
                  <a:pt x="72606" y="21600"/>
                </a:lnTo>
                <a:lnTo>
                  <a:pt x="0" y="21600"/>
                </a:lnTo>
                <a:close/>
              </a:path>
              <a:path fill="lightenLess" w="72606" h="21600">
                <a:moveTo>
                  <a:pt x="0" y="0"/>
                </a:moveTo>
                <a:lnTo>
                  <a:pt x="72606" y="0"/>
                </a:lnTo>
                <a:lnTo>
                  <a:pt x="71206" y="1400"/>
                </a:lnTo>
                <a:lnTo>
                  <a:pt x="1400" y="1400"/>
                </a:lnTo>
                <a:close/>
              </a:path>
              <a:path fill="darken" w="72606" h="21600">
                <a:moveTo>
                  <a:pt x="72606" y="0"/>
                </a:moveTo>
                <a:lnTo>
                  <a:pt x="72606" y="21600"/>
                </a:lnTo>
                <a:lnTo>
                  <a:pt x="71206" y="20200"/>
                </a:lnTo>
                <a:lnTo>
                  <a:pt x="71206" y="1400"/>
                </a:lnTo>
                <a:close/>
              </a:path>
              <a:path fill="darkenLess" w="72606" h="21600">
                <a:moveTo>
                  <a:pt x="72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06" y="20200"/>
                </a:lnTo>
                <a:close/>
              </a:path>
              <a:path fill="lighten" w="72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witser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nextslide"/>
          </p:cNvPr>
          <p:cNvSpPr/>
          <p:nvPr/>
        </p:nvSpPr>
        <p:spPr>
          <a:xfrm>
            <a:off x="6019920" y="213372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l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09480" y="762120"/>
            <a:ext cx="449604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609480" y="457200"/>
            <a:ext cx="3294360" cy="3468600"/>
            <a:chOff x="609480" y="457200"/>
            <a:chExt cx="3294360" cy="3468600"/>
          </a:xfrm>
        </p:grpSpPr>
        <p:graphicFrame>
          <p:nvGraphicFramePr>
            <p:cNvPr id="78" name=""/>
            <p:cNvGraphicFramePr/>
            <p:nvPr/>
          </p:nvGraphicFramePr>
          <p:xfrm>
            <a:off x="609480" y="457200"/>
            <a:ext cx="3294360" cy="3468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457200"/>
                      <a:ext cx="3294360" cy="346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" name=""/>
            <p:cNvSpPr/>
            <p:nvPr/>
          </p:nvSpPr>
          <p:spPr>
            <a:xfrm>
              <a:off x="2133720" y="144792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Corr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>
            <a:hlinkClick r:id="rId3" action="ppaction://hlinksldjump"/>
          </p:cNvPr>
          <p:cNvSpPr/>
          <p:nvPr/>
        </p:nvSpPr>
        <p:spPr>
          <a:xfrm>
            <a:off x="1523880" y="419112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olg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lastslide"/>
          </p:cNvPr>
          <p:cNvSpPr/>
          <p:nvPr/>
        </p:nvSpPr>
        <p:spPr>
          <a:xfrm>
            <a:off x="1523880" y="54864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643280" y="620640"/>
            <a:ext cx="3810240" cy="2724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4643280" y="3789360"/>
            <a:ext cx="3810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6019920" y="114300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6019920" y="3124080"/>
            <a:ext cx="2819160" cy="838440"/>
          </a:xfrm>
          <a:custGeom>
            <a:avLst/>
            <a:gdLst>
              <a:gd name="textAreaLeft" fmla="*/ 54360 w 2819160"/>
              <a:gd name="textAreaRight" fmla="*/ 2764800 w 28191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2606" h="21600">
                <a:moveTo>
                  <a:pt x="0" y="0"/>
                </a:moveTo>
                <a:lnTo>
                  <a:pt x="72606" y="0"/>
                </a:lnTo>
                <a:lnTo>
                  <a:pt x="72606" y="21600"/>
                </a:lnTo>
                <a:lnTo>
                  <a:pt x="0" y="21600"/>
                </a:lnTo>
                <a:close/>
              </a:path>
              <a:path fill="lightenLess" w="72606" h="21600">
                <a:moveTo>
                  <a:pt x="0" y="0"/>
                </a:moveTo>
                <a:lnTo>
                  <a:pt x="72606" y="0"/>
                </a:lnTo>
                <a:lnTo>
                  <a:pt x="71206" y="1400"/>
                </a:lnTo>
                <a:lnTo>
                  <a:pt x="1400" y="1400"/>
                </a:lnTo>
                <a:close/>
              </a:path>
              <a:path fill="darken" w="72606" h="21600">
                <a:moveTo>
                  <a:pt x="72606" y="0"/>
                </a:moveTo>
                <a:lnTo>
                  <a:pt x="72606" y="21600"/>
                </a:lnTo>
                <a:lnTo>
                  <a:pt x="71206" y="20200"/>
                </a:lnTo>
                <a:lnTo>
                  <a:pt x="71206" y="1400"/>
                </a:lnTo>
                <a:close/>
              </a:path>
              <a:path fill="darkenLess" w="72606" h="21600">
                <a:moveTo>
                  <a:pt x="72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06" y="20200"/>
                </a:lnTo>
                <a:close/>
              </a:path>
              <a:path fill="lighten" w="72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der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6019920" y="213372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une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57200" y="1066680"/>
            <a:ext cx="502920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5392800" y="457200"/>
            <a:ext cx="3294000" cy="3468600"/>
            <a:chOff x="5392800" y="457200"/>
            <a:chExt cx="3294000" cy="3468600"/>
          </a:xfrm>
        </p:grpSpPr>
        <p:graphicFrame>
          <p:nvGraphicFramePr>
            <p:cNvPr id="90" name=""/>
            <p:cNvGraphicFramePr/>
            <p:nvPr/>
          </p:nvGraphicFramePr>
          <p:xfrm>
            <a:off x="5392800" y="457200"/>
            <a:ext cx="3294000" cy="3468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92800" y="457200"/>
                      <a:ext cx="3294000" cy="346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6916680" y="1447920"/>
              <a:ext cx="1218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Corr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6307200" y="419112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olg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lastslide"/>
          </p:cNvPr>
          <p:cNvSpPr/>
          <p:nvPr/>
        </p:nvSpPr>
        <p:spPr>
          <a:xfrm>
            <a:off x="6307200" y="54864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826920" y="549360"/>
            <a:ext cx="3810240" cy="2847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826920" y="350028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6019920" y="114300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6019920" y="3124080"/>
            <a:ext cx="2819160" cy="838440"/>
          </a:xfrm>
          <a:custGeom>
            <a:avLst/>
            <a:gdLst>
              <a:gd name="textAreaLeft" fmla="*/ 54360 w 2819160"/>
              <a:gd name="textAreaRight" fmla="*/ 2764800 w 28191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2606" h="21600">
                <a:moveTo>
                  <a:pt x="0" y="0"/>
                </a:moveTo>
                <a:lnTo>
                  <a:pt x="72606" y="0"/>
                </a:lnTo>
                <a:lnTo>
                  <a:pt x="72606" y="21600"/>
                </a:lnTo>
                <a:lnTo>
                  <a:pt x="0" y="21600"/>
                </a:lnTo>
                <a:close/>
              </a:path>
              <a:path fill="lightenLess" w="72606" h="21600">
                <a:moveTo>
                  <a:pt x="0" y="0"/>
                </a:moveTo>
                <a:lnTo>
                  <a:pt x="72606" y="0"/>
                </a:lnTo>
                <a:lnTo>
                  <a:pt x="71206" y="1400"/>
                </a:lnTo>
                <a:lnTo>
                  <a:pt x="1400" y="1400"/>
                </a:lnTo>
                <a:close/>
              </a:path>
              <a:path fill="darken" w="72606" h="21600">
                <a:moveTo>
                  <a:pt x="72606" y="0"/>
                </a:moveTo>
                <a:lnTo>
                  <a:pt x="72606" y="21600"/>
                </a:lnTo>
                <a:lnTo>
                  <a:pt x="71206" y="20200"/>
                </a:lnTo>
                <a:lnTo>
                  <a:pt x="71206" y="1400"/>
                </a:lnTo>
                <a:close/>
              </a:path>
              <a:path fill="darkenLess" w="72606" h="21600">
                <a:moveTo>
                  <a:pt x="72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06" y="20200"/>
                </a:lnTo>
                <a:close/>
              </a:path>
              <a:path fill="lighten" w="72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u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6019920" y="213372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Groen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80880" y="533520"/>
            <a:ext cx="541044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3T13:10:50Z</dcterms:created>
  <dc:creator>www.free-powerpoints.goedbegin.be</dc:creator>
  <dc:description/>
  <dc:language>en-US</dc:language>
  <cp:lastModifiedBy>Smets</cp:lastModifiedBy>
  <dcterms:modified xsi:type="dcterms:W3CDTF">2010-03-19T20:13:18Z</dcterms:modified>
  <cp:revision>8</cp:revision>
  <dc:subject/>
  <dc:title>Dia 1</dc:title>
</cp:coreProperties>
</file>