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92F-5E0D-41D4-9DDC-50F7AF81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EEE-4424-4B60-8691-C8AA8EE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A07-F7A4-459E-98A7-7A739D48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2C8-A6CB-4A88-9D10-11BB36D0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9DA-051A-4838-A74E-C1BD0E60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0BF-3CC6-4B66-8F8C-1F5F53C5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C15-1D06-425E-8270-208F68C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B9B-FE22-4085-8786-1AB24673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FBE-2340-48A0-8845-F266798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E6C-100C-4117-A898-1A26A04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E56-987F-4722-912E-304FEF3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566-FB7C-4C2B-BD06-8D1F334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D98-68FA-4D76-946B-17BDB36B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6532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2880" y="0"/>
            <a:ext cx="51800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65320" y="0"/>
            <a:ext cx="50101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2560" y="0"/>
            <a:ext cx="49006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6:40:13Z</dcterms:created>
  <dc:creator>MAITHAM</dc:creator>
  <dc:description/>
  <dc:language>en-US</dc:language>
  <cp:lastModifiedBy>MAITHAM</cp:lastModifiedBy>
  <dcterms:modified xsi:type="dcterms:W3CDTF">2004-08-14T06:52:05Z</dcterms:modified>
  <cp:revision>21</cp:revision>
  <dc:subject/>
  <dc:title>الشريحة 1</dc:title>
</cp:coreProperties>
</file>