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11B2-6566-4805-826D-EB6CC7203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DF7B-ACDB-4B9C-B4F6-1F1B67F25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B41A-624E-4456-9237-B00BF564E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C476-413F-4396-965E-2B17288F7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9157-A0B5-4D8B-94FF-8594B9BEE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A46C-5703-494D-B23F-21FF06343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9297-68AE-4220-8549-3C513745B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2D3B-9ACB-4F58-A18C-69D472F29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386C-5157-4C21-BEFB-D216FEFBA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043F-7862-483E-B3C9-89DC92AA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0B93-9B49-460A-B384-78BB55AD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9336-A482-4EF9-B5EE-25CE4A17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BE0A2-1971-4204-A566-A859415EF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2239920" y="0"/>
            <a:ext cx="466416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152800" y="0"/>
            <a:ext cx="48384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271600" y="0"/>
            <a:ext cx="4599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122560" y="0"/>
            <a:ext cx="490068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271600" y="0"/>
            <a:ext cx="4599000" cy="6858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065320" y="0"/>
            <a:ext cx="5013360" cy="68580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271600" y="0"/>
            <a:ext cx="4599000" cy="68580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152800" y="0"/>
            <a:ext cx="4838400" cy="685800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271600" y="0"/>
            <a:ext cx="4599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982880" y="0"/>
            <a:ext cx="518004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271600" y="0"/>
            <a:ext cx="4599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122560" y="0"/>
            <a:ext cx="490068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122560" y="0"/>
            <a:ext cx="490068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239920" y="0"/>
            <a:ext cx="466416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065320" y="0"/>
            <a:ext cx="501012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271600" y="0"/>
            <a:ext cx="4599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122560" y="0"/>
            <a:ext cx="490068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239920" y="0"/>
            <a:ext cx="466416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239920" y="0"/>
            <a:ext cx="466416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122560" y="0"/>
            <a:ext cx="490068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411280" y="0"/>
            <a:ext cx="4599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152800" y="0"/>
            <a:ext cx="4838400" cy="68580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71600" y="0"/>
            <a:ext cx="4599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152800" y="0"/>
            <a:ext cx="48384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271600" y="0"/>
            <a:ext cx="459900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4T06:40:13Z</dcterms:created>
  <dc:creator>MAITHAM</dc:creator>
  <dc:description/>
  <dc:language>en-US</dc:language>
  <cp:lastModifiedBy>MAITHAM</cp:lastModifiedBy>
  <dcterms:modified xsi:type="dcterms:W3CDTF">2004-08-14T06:52:05Z</dcterms:modified>
  <cp:revision>21</cp:revision>
  <dc:subject/>
  <dc:title>الشريحة 1</dc:title>
</cp:coreProperties>
</file>