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70F-AC0C-4FBB-B6B7-B2D739F9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04E-ABD5-4856-B377-66949152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09C-D0EB-4F04-971C-7E8C1AA4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57A-8217-46F4-8A98-1BBACF33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D40-1289-49BC-83E2-34D80732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2A5-727F-4B8B-BBE0-B35574F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9EA-E0AC-445C-B91E-985D213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218-5837-48F8-8169-7470FF6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BA7-895F-40E4-B8E3-D883832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460-230B-431D-AADD-EDBD2AB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E32-891B-43F5-97FD-B2EF161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893-0CFF-4458-9BFE-194DD78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8ED16-4DDC-4925-BA96-B16D6F692A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705EC-4456-412C-AF12-C56C4D2383A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1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1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1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1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4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1-3-1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1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7-02T03:14:49Z</dcterms:modified>
  <cp:revision>4</cp:revision>
  <dc:subject/>
  <dc:title>슬라이드 1</dc:title>
</cp:coreProperties>
</file>