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3454-0978-489C-9A3B-05B27604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BEB-38B6-4377-B131-8575330D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B45-49FA-4661-B456-E5A0037B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5D7D-D67C-4A95-96CF-E92787D4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27D-191E-4FEE-A57B-5AFBE697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9888-2CB9-4DB1-A8F4-B1DA88AE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4C25-44E8-4FCE-ACE7-DA4FA971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29A-C646-4B91-8870-FB019101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D30-A9CA-4E82-9C35-FE2EE2B0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425-1D28-45CF-AFC3-D4A50C17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F17-FE3B-4037-9370-42A899B2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CDA-96BE-4FE0-9B8B-40ADFC8A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94190-17F6-4695-AFC4-5AF1003A6AC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F7A07-F098-4771-9C40-17F59DE8D76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1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4" descr="161-1-1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4" descr="161-1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4" descr="161-2-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4" descr="161-2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4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4" descr="161-3-1 copy"/>
          <p:cNvPicPr/>
          <p:nvPr/>
        </p:nvPicPr>
        <p:blipFill>
          <a:blip r:embed="rId5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Picture 4" descr="161-3-2 copy"/>
          <p:cNvPicPr/>
          <p:nvPr/>
        </p:nvPicPr>
        <p:blipFill>
          <a:blip r:embed="rId4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34:56Z</dcterms:created>
  <dc:creator>최봉수</dc:creator>
  <dc:description/>
  <dc:language>en-US</dc:language>
  <cp:lastModifiedBy>맛있다 군만두</cp:lastModifiedBy>
  <dcterms:modified xsi:type="dcterms:W3CDTF">2024-07-02T03:14:49Z</dcterms:modified>
  <cp:revision>4</cp:revision>
  <dc:subject/>
  <dc:title>슬라이드 1</dc:title>
</cp:coreProperties>
</file>